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87B-767E-44CF-BF51-34CC035D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578-4746-43C9-85AA-9195326F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9F5-1FA0-4588-BB04-B23E8ECA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3C0C-882E-4303-8E90-337AE8CA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9C28-5EC5-4B63-9EF9-E9651BB9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63C2-52DF-49A2-86D9-FB223AA2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572B-6949-4CF3-BE91-953F5877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F03D-DAF1-49E2-95D2-5F4DD303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9777-6258-49DA-90F1-541B60E5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3E87-CDD3-46C0-BF84-C22BD3A8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8548-510C-4A34-9E60-AEE4C045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4EC4-0A6B-481E-BBBB-D87E4453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2F83-7225-403A-804A-9369D68C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49BE-B0BD-41DB-ABDC-804AD2FF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B768-DAC3-4F76-B81E-9E79E7CD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349A-2193-40D4-BE4A-E61228B1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6D8C-9057-49CA-8B5A-15205FA7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FBF47-1AF7-4C14-8AC9-27C75635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6A8B4-8639-468B-BD79-9ABEC2AB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1A687-3C2F-4023-95ED-6893C592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6C45D-854D-400A-9973-6D45D6EB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DA6B9-21E1-435B-BC4F-226D079B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4AF1-4CCC-4BB4-919D-1DF6D8AA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C0C64-1150-4CE2-8D92-4E5FE5C8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3D7B2-D19C-43E3-8D2A-F79DE40F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D299F-6D18-4986-977D-BB4051F8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73B91-32E9-42EE-95B2-12E6AB5B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01B11-C967-496E-9F45-6366B097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61605-23D1-4A1B-8E51-19DF7782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3BE4F-552C-49A8-A86A-B0C5DADB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BE8C1-2879-4899-BD26-C89E9881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B1C13-8CFF-4DDA-881C-B32F2984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D21B1-D051-4F87-8B75-160A3805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D293-7708-4D9F-9089-8450DF3F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6DA1F-75D4-45B2-9EAC-38B46FF6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D74BE-F837-4ACB-9360-FC06AAB1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DF2A9-1D70-4B87-911A-D26000E3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6C520-8962-4B4A-B1EF-A048D56D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70505-1FA7-4B46-9CB1-F20FD290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FFFA8-55E5-4D03-A797-F4842BAE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4D8C9-C99C-491D-9040-0296887B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6BA39-B55D-411D-BBB4-CFE838D8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82C57-7C1C-42C1-A71F-2CD2D052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F6C53-5928-441F-8CC5-95223FC2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542-5DEB-4E38-A299-B6340183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2C2FA-D9CC-4EDF-86F8-2907D4FF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53FE4-124F-4D24-815D-80E1521E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934A9-CF91-42AE-86F7-EAF54F00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789FC-A00C-49AB-9F8E-E7067A4A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7D6AD-E94F-48E5-BC4E-8B59F6E6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DFEFD-6CC0-4005-90CD-CF3B335E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294A0-14F3-4EC3-A647-B349868A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44A54-67DC-4F7E-90C0-CAA448B9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9F5B2-D4C0-4C90-861C-FA87B114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E0578-83E7-47DE-87CA-CAB0CE29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3C2-898D-4FAE-BF85-9A0C81B5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1371F-188D-436E-B330-8EA8439F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E2CE-6BF1-46A0-9AC7-3F73C12A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17D-9CA2-4E29-B05D-5C08B84D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4E1-FC85-4AEA-8208-728BDB18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7"/>
            <p:cNvSpPr/>
            <p:nvPr/>
          </p:nvSpPr>
          <p:spPr>
            <a:xfrm>
              <a:off x="22860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E7D4-F347-45E5-986F-A3937BB6FA15}" type="slidenum"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4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2860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7" name="Group 13"/>
          <p:cNvGrpSpPr/>
          <p:nvPr/>
        </p:nvGrpSpPr>
        <p:grpSpPr>
          <a:xfrm>
            <a:off x="0" y="0"/>
            <a:ext cx="9145440" cy="6858000"/>
            <a:chOff x="0" y="0"/>
            <a:chExt cx="9145440" cy="6858000"/>
          </a:xfrm>
        </p:grpSpPr>
        <p:sp>
          <p:nvSpPr>
            <p:cNvPr id="48" name="Rectangle 11"/>
            <p:cNvSpPr/>
            <p:nvPr/>
          </p:nvSpPr>
          <p:spPr>
            <a:xfrm>
              <a:off x="1080" y="0"/>
              <a:ext cx="914436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49" name="Group 11"/>
            <p:cNvGrpSpPr/>
            <p:nvPr/>
          </p:nvGrpSpPr>
          <p:grpSpPr>
            <a:xfrm>
              <a:off x="0" y="0"/>
              <a:ext cx="3545640" cy="6858000"/>
              <a:chOff x="0" y="0"/>
              <a:chExt cx="3545640" cy="6858000"/>
            </a:xfrm>
          </p:grpSpPr>
          <p:pic>
            <p:nvPicPr>
              <p:cNvPr id="50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34448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Rectangle 14"/>
              <p:cNvSpPr/>
              <p:nvPr/>
            </p:nvSpPr>
            <p:spPr>
              <a:xfrm>
                <a:off x="3443040" y="0"/>
                <a:ext cx="102600" cy="6858000"/>
              </a:xfrm>
              <a:prstGeom prst="rect">
                <a:avLst/>
              </a:prstGeom>
              <a:solidFill>
                <a:srgbClr val="455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4711-F305-434D-A36D-99A739CF14BA}" type="slidenum"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1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94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95" name="Picture 12" descr=""/>
            <p:cNvPicPr/>
            <p:nvPr/>
          </p:nvPicPr>
          <p:blipFill>
            <a:blip r:embed="rId3"/>
            <a:stretch/>
          </p:blipFill>
          <p:spPr>
            <a:xfrm>
              <a:off x="5700960" y="0"/>
              <a:ext cx="34444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13"/>
            <p:cNvSpPr/>
            <p:nvPr/>
          </p:nvSpPr>
          <p:spPr>
            <a:xfrm>
              <a:off x="5612760" y="0"/>
              <a:ext cx="102600" cy="6858000"/>
            </a:xfrm>
            <a:prstGeom prst="rect">
              <a:avLst/>
            </a:pr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97" name="Picture 14" descr=""/>
          <p:cNvPicPr/>
          <p:nvPr/>
        </p:nvPicPr>
        <p:blipFill>
          <a:blip r:embed="rId4"/>
          <a:stretch/>
        </p:blipFill>
        <p:spPr>
          <a:xfrm>
            <a:off x="5700600" y="0"/>
            <a:ext cx="34448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3A36-6942-4857-B4D6-1255D7F6702A}" type="slidenum"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40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22860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2971800" y="0"/>
            <a:ext cx="59436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CC77-7A63-4038-8220-688D1AD83A57}" type="slidenum"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8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22860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>
            <a:off x="1562040" y="0"/>
            <a:ext cx="601992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36DA-0D2E-4343-B5F2-DF3DC2171241}" type="slidenum"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660480" y="4927320"/>
            <a:ext cx="5257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660480" y="1498320"/>
            <a:ext cx="5257800" cy="3298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i="1" lang="sr-RS" sz="54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Политикин забавник</a:t>
            </a:r>
            <a:endParaRPr b="0" lang="en-US" sz="5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445680" y="214200"/>
            <a:ext cx="46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olitikin-zabavnik.rs/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32" name="Picture 2" descr="1"/>
          <p:cNvPicPr/>
          <p:nvPr/>
        </p:nvPicPr>
        <p:blipFill>
          <a:blip r:embed="rId1"/>
          <a:stretch/>
        </p:blipFill>
        <p:spPr>
          <a:xfrm>
            <a:off x="785880" y="1000080"/>
            <a:ext cx="3432240" cy="4929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1"/>
          <p:cNvPicPr/>
          <p:nvPr/>
        </p:nvPicPr>
        <p:blipFill>
          <a:blip r:embed="rId2"/>
          <a:stretch/>
        </p:blipFill>
        <p:spPr>
          <a:xfrm>
            <a:off x="4929120" y="1000080"/>
            <a:ext cx="3575160" cy="513396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4"/>
          <p:cNvSpPr/>
          <p:nvPr/>
        </p:nvSpPr>
        <p:spPr>
          <a:xfrm>
            <a:off x="872280" y="6072120"/>
            <a:ext cx="30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овна стран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3.jpg"/>
          <p:cNvPicPr/>
          <p:nvPr/>
        </p:nvPicPr>
        <p:blipFill>
          <a:blip r:embed="rId1"/>
          <a:stretch/>
        </p:blipFill>
        <p:spPr>
          <a:xfrm>
            <a:off x="4714920" y="857160"/>
            <a:ext cx="3714840" cy="533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2.jpg"/>
          <p:cNvPicPr/>
          <p:nvPr/>
        </p:nvPicPr>
        <p:blipFill>
          <a:blip r:embed="rId2"/>
          <a:stretch/>
        </p:blipFill>
        <p:spPr>
          <a:xfrm>
            <a:off x="428760" y="0"/>
            <a:ext cx="371448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"/>
          <p:cNvSpPr/>
          <p:nvPr/>
        </p:nvSpPr>
        <p:spPr>
          <a:xfrm>
            <a:off x="1067760" y="5500800"/>
            <a:ext cx="24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е рубрик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5079960" y="2858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ип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4.jpg"/>
          <p:cNvPicPr/>
          <p:nvPr/>
        </p:nvPicPr>
        <p:blipFill>
          <a:blip r:embed="rId1"/>
          <a:stretch/>
        </p:blipFill>
        <p:spPr>
          <a:xfrm>
            <a:off x="500040" y="214200"/>
            <a:ext cx="4000680" cy="5745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5.jpg"/>
          <p:cNvPicPr/>
          <p:nvPr/>
        </p:nvPicPr>
        <p:blipFill>
          <a:blip r:embed="rId2"/>
          <a:stretch/>
        </p:blipFill>
        <p:spPr>
          <a:xfrm>
            <a:off x="4500720" y="214200"/>
            <a:ext cx="4000320" cy="57452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1088280" y="6000840"/>
            <a:ext cx="27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нски чланак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26.jpg"/>
          <p:cNvPicPr/>
          <p:nvPr/>
        </p:nvPicPr>
        <p:blipFill>
          <a:blip r:embed="rId1"/>
          <a:stretch/>
        </p:blipFill>
        <p:spPr>
          <a:xfrm>
            <a:off x="857160" y="0"/>
            <a:ext cx="4572000" cy="65660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5730480" y="1071720"/>
            <a:ext cx="24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авна стран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игматик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20T14:49:28Z</dcterms:created>
  <dc:creator>Natasa</dc:creator>
  <dc:description/>
  <dc:language>en-US</dc:language>
  <cp:lastModifiedBy>Natasa</cp:lastModifiedBy>
  <dcterms:modified xsi:type="dcterms:W3CDTF">2021-04-20T15:32:43Z</dcterms:modified>
  <cp:revision>4</cp:revision>
  <dc:subject/>
  <dc:title>Политикин забавник</dc:title>
</cp:coreProperties>
</file>