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BA7-E43A-44B9-9E3B-F7EF0E09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1D9-A4C4-4271-BE4C-39B6BDF5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F1B-E8FD-4890-B792-817DC08C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095-5759-42DB-B9CF-0C22F07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E91-0BC3-4B1B-A450-256F0CCD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89B-D415-4887-8FB7-C5FE5728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A3C6-3C98-41FE-B670-2E86C3C3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72E8-68C5-41D6-9268-2171704C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93C5-0D6D-492A-8741-D1D5C24A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4A5-B625-4E3E-A867-F57C3E36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1BA-66FF-422C-973E-5919300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26D-39E6-4916-A241-B2981CE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26A0-5AA5-434C-9D58-3EBBFA8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B669-CA3A-42C6-96F2-46215007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82EA-7F85-423D-8438-B4DDB98F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046F-4C1A-42F0-976F-8D34670C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36E-F158-4E36-95D6-9FB5CAF6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B42B-A0F2-47A6-B60C-910D650C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751C-ECF8-4190-8484-89244399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3B9E-9B45-4690-8DEE-33C969BE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4F6E-9B52-4F12-8ED0-D261D61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4CE2-F5B1-477A-98C8-FBCBB77D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129-8308-4AAA-A080-AD16146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51FE-AD56-483A-9F3E-15926492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6F0F-D4DD-48E3-8070-63EE986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6F25-0D93-45A8-853E-8CA10EC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A29E-FE96-4DC6-86AA-DB1DAFF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74ED-4976-4562-9EEA-F1679F4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4227-A942-419A-90C7-26E592AE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9872-DB8A-4CAE-B2A7-01B7EA8D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C6CD-FD94-4724-B811-9CC15FFF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6332D-784B-427C-B635-E0CAB95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1A18-494B-411E-98EF-CAFE230C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726-34E0-467C-B46D-C4338697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5752-6708-4BDE-A480-4D61D86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418D-B9AE-466C-AD30-B3BD1AD7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A480-024D-4BEB-A3C5-295A8AFF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EF25-A784-4422-92E4-CAF61AC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904D-7105-4227-814B-6AB6172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9341-4F41-450E-8F4F-D44AAB91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9C1C1-78EA-4992-BE04-DB447B47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F6A0-8D1E-4F13-9A14-57BDDCCC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25FD-F496-40D4-A579-D86EEE0A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B6BE-8393-4EA6-83FD-A63A5436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DB0-4879-4197-B162-82ABE92D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30685-FABD-4C73-9427-E187A69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D404C-326D-4662-8B09-1C385D0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AC7B-E633-4D95-989C-996C828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96C5-A3F7-4710-B5AD-48BADB9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C120-71A8-4BA5-B24F-2EEC2012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163E-BD84-42AC-BA49-2BECC37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EC05-E0A2-4629-9156-C15B3620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0048-A5D9-422C-AF5B-28933E5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C968C-73C0-4EF3-B8E8-5F96A89A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4D3B-A34C-4BCB-B950-457A5650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3C2-538F-42B8-8ECA-CEF4CB3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A1D2-1FD7-49E5-8A0D-634662C5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899-41F6-4F59-85E9-11B5DBD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2D9-7D0E-487D-AAAC-FD63F54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1A4-BC57-4932-8BAE-6719CDB7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E999-6E70-44DD-A8B5-1F74B4467F29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5640" cy="6858000"/>
              <a:chOff x="0" y="0"/>
              <a:chExt cx="354564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3040" y="0"/>
                <a:ext cx="10260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465-4E58-45ED-8629-17773D2FEBF7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2760" y="0"/>
              <a:ext cx="10260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CA4C-3F19-4E4F-AE5C-4A3E95AFC2A2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AC7-3B06-4AA0-A204-24359B5FD926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60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2330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EB9F-602E-4A97-A094-4088B6F69BE8}" type="slidenum">
              <a:rPr b="0" lang="sr-RS" sz="1200" spc="-1" strike="noStrike">
                <a:solidFill>
                  <a:srgbClr val="2330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31521b"/>
                </a:solidFill>
                <a:latin typeface="Century Gothic"/>
              </a:rPr>
              <a:t>Милутин Тасић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5400" spc="-1" strike="noStrike">
                <a:solidFill>
                  <a:srgbClr val="455f51"/>
                </a:solidFill>
                <a:latin typeface="Century Gothic"/>
              </a:rPr>
              <a:t>Стеван Стојановић Мокрањац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9680" y="5071680"/>
            <a:ext cx="7620120" cy="1397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600" spc="-1" strike="noStrike">
                <a:solidFill>
                  <a:srgbClr val="31521b"/>
                </a:solidFill>
                <a:latin typeface="Century Gothic"/>
              </a:rPr>
              <a:t>Стеван Мокрањац, Урош Предић (уље на платну)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2" name="Picture 2" descr="Mokranjac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680" y="214200"/>
            <a:ext cx="3857400" cy="492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https://upload.wikimedia.org/wikipedia/commons/thumb/4/42/Mokranjac11.jpg/800px-Mokranjac11.jpg"/>
          <p:cNvPicPr/>
          <p:nvPr/>
        </p:nvPicPr>
        <p:blipFill>
          <a:blip r:embed="rId2"/>
          <a:stretch/>
        </p:blipFill>
        <p:spPr>
          <a:xfrm>
            <a:off x="4929120" y="142920"/>
            <a:ext cx="3848040" cy="513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композитор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а м. род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компоновати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нујем (музику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стипендија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е ж. род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достојан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јна, -јно (труда, пажње, времена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виртуоз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а м. род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руковет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и ж. род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мелос</a:t>
            </a:r>
            <a:r>
              <a:rPr b="0" lang="sr-RS" sz="3000" spc="-1" strike="noStrike">
                <a:solidFill>
                  <a:srgbClr val="000000"/>
                </a:solidFill>
                <a:latin typeface="Century Gothic"/>
              </a:rPr>
              <a:t>, -а м. род (народни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7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400" spc="-1" strike="noStrike">
                <a:solidFill>
                  <a:srgbClr val="31521b"/>
                </a:solidFill>
                <a:latin typeface="Century Gothic"/>
              </a:rPr>
              <a:t>Нове речи и изрази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500440" y="76320"/>
            <a:ext cx="295740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3200" spc="-1" strike="noStrike">
                <a:solidFill>
                  <a:srgbClr val="31521b"/>
                </a:solidFill>
                <a:latin typeface="Century Gothic"/>
              </a:rPr>
              <a:t>Рукопис </a:t>
            </a:r>
            <a:r>
              <a:rPr b="0" lang="sr-Latn-RS" sz="3200" spc="-1" strike="noStrike">
                <a:solidFill>
                  <a:srgbClr val="31521b"/>
                </a:solidFill>
                <a:latin typeface="Century Gothic"/>
              </a:rPr>
              <a:t>VII</a:t>
            </a:r>
            <a:r>
              <a:rPr b="0" lang="sr-RS" sz="3200" spc="-1" strike="noStrike">
                <a:solidFill>
                  <a:srgbClr val="31521b"/>
                </a:solidFill>
                <a:latin typeface="Century Gothic"/>
              </a:rPr>
              <a:t> руковети</a:t>
            </a:r>
            <a:r>
              <a:rPr b="0" lang="sr-Latn-RS" sz="3200" spc="-1" strike="noStrike">
                <a:solidFill>
                  <a:srgbClr val="31521b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7" name="Picture 2" descr="Рукопис Седме руковети Стевана Мокрањца – Стеван Стојановић Мокрањац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71560" y="155520"/>
            <a:ext cx="4557600" cy="648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4000" spc="-1" strike="noStrike">
                <a:solidFill>
                  <a:srgbClr val="31521b"/>
                </a:solidFill>
                <a:latin typeface="Century Gothic"/>
              </a:rPr>
              <a:t>Родна кућа Стевана Мокрањца у Неготину</a:t>
            </a:r>
            <a:endParaRPr b="0" lang="en-US" sz="4000" spc="-1" strike="noStrike">
              <a:solidFill>
                <a:srgbClr val="31521b"/>
              </a:solidFill>
              <a:latin typeface="Century Gothic"/>
            </a:endParaRPr>
          </a:p>
        </p:txBody>
      </p:sp>
      <p:pic>
        <p:nvPicPr>
          <p:cNvPr id="239" name="Picture 2" descr="https://upload.wikimedia.org/wikipedia/commons/thumb/4/44/Ku%C4%87a_Stevana_Stojanovi%C4%87a_Mokranjca.JPG/800px-Ku%C4%87a_Stevana_Stojanovi%C4%87a_Mokranjca.JPG"/>
          <p:cNvPicPr/>
          <p:nvPr/>
        </p:nvPicPr>
        <p:blipFill>
          <a:blip r:embed="rId1"/>
          <a:stretch/>
        </p:blipFill>
        <p:spPr>
          <a:xfrm>
            <a:off x="1143000" y="1285920"/>
            <a:ext cx="6829560" cy="51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СТВАРАЛАШТВО КОМПОЗИТОРА -"/>
          <p:cNvPicPr/>
          <p:nvPr/>
        </p:nvPicPr>
        <p:blipFill>
          <a:blip r:embed="rId1"/>
          <a:stretch/>
        </p:blipFill>
        <p:spPr>
          <a:xfrm>
            <a:off x="1000080" y="214200"/>
            <a:ext cx="7199280" cy="1785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Jubilarni 50. Mokranjčevi dani u Negotinu od 10. do 16. septembra - Sjajne  Vesti"/>
          <p:cNvPicPr/>
          <p:nvPr/>
        </p:nvPicPr>
        <p:blipFill>
          <a:blip r:embed="rId2"/>
          <a:stretch/>
        </p:blipFill>
        <p:spPr>
          <a:xfrm>
            <a:off x="1214280" y="2071800"/>
            <a:ext cx="6677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9T11:24:30Z</dcterms:created>
  <dc:creator>Natasa</dc:creator>
  <dc:description/>
  <dc:language>en-US</dc:language>
  <cp:lastModifiedBy>Natasa</cp:lastModifiedBy>
  <dcterms:modified xsi:type="dcterms:W3CDTF">2021-09-29T13:15:15Z</dcterms:modified>
  <cp:revision>8</cp:revision>
  <dc:subject/>
  <dc:title>Стеван Стојановић Мокрањац</dc:title>
</cp:coreProperties>
</file>