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E86-0C6A-4735-91DB-044D715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313-7842-4851-ADBF-5C3BFD6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0AF-F156-416E-AD92-611F7D18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91F-C2BC-41CE-9A7A-92AC3D51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2C75-439B-476A-8353-C07F79E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888-212B-4286-86A5-18C451FC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B010-FCB0-4401-819E-55C47A4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C2F-83BE-48EE-9066-76607B62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B8E-1451-4A15-9381-137873A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893-A528-4C45-B5FD-88F018C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61B8-2DF0-4967-B24E-C203955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6B4-A2CB-4894-B5CE-C7790AF6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CB2-4B30-4E6C-9983-F5FF284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D1A-37AF-4EE3-B751-2CE33D9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5E1-9A09-439E-B897-1BC23A2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25F-E939-4A24-B250-7A439FA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B51-8B6D-4C77-9F8E-7E9C6F20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4CE1-C961-462C-B05E-60D7C45A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47BD-AF9F-4B97-9725-F453588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361E-3269-4117-B0CA-BB78E393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604D-7F46-4823-B778-6B91F04A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55DA-B1F1-4D00-A541-6A2DA80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E7E-38B6-4981-A8AF-8185554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286D-F590-45B6-8D92-7A40D27F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C55F-E0ED-4A68-9BC2-D59F2EE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89D1-5CCB-4056-8B65-1C96C47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90F8-2378-47B7-A14D-9722635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184D-5C00-47C2-86BA-ACFABD8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7FA3-47E1-4B99-A714-70EA1A15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B154-1804-47FA-BD49-607B9B1E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6188-8F86-461F-B818-CE019035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5B18-D4B9-411E-8DC1-DD88D363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62B9-C080-46CE-87B4-54315031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EED-254D-4C64-92FB-27CB1193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C349-3CDA-4380-AC0D-FF5B19C3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C736-7EDD-41C6-9266-F299AC3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466B-4CB8-4B4F-A787-C7A4B35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89E2-30F4-4BDB-BC59-6257D49B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3DAB-C03A-406E-BB7F-0A53E94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762D-5891-4DF0-B170-DC6263DB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67A0-EEE9-43C6-BB1D-8CA0218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6038-30F7-40E9-AE60-A4070421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D86A-E0AE-423F-90F8-359C1C1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466B1-2296-4506-88BE-8DA00F8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D78-4708-43D2-9664-43A8EEC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25D30-A690-4359-AFE8-0839C2F5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562C-E723-4B4E-8757-A7664EA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F989-457D-4AD4-A435-30D9BBC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DFCF-153E-45F4-9FE5-A7D757F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CFA2-3978-462E-AF51-52ABFC7C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77D8-3001-4E1A-B240-D9E700F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9EBC-29CF-443E-9250-7ECA351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E1B5-3FB4-4441-92D3-975FBB9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2853-DE37-45EE-9A6A-D2472A88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9AECC-872A-4F5D-A6DB-9D5A93FF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C51-B782-45E6-B0D5-229E57A5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22BE-F00D-4C9D-BC01-9CA5DBE1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9DA-9AAA-4F36-85A3-F66D0C15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20E-0EE2-4954-9466-06C713B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F80-4CDD-4FD0-80E8-D1A1B31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3B99-4616-4061-A502-C9F07C236E87}" type="slidenum">
              <a:rPr b="0" lang="sr-R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F53-BFE5-44C9-8613-240E56F504E5}" type="slidenum">
              <a:rPr b="0" lang="sr-R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7A3-0899-4882-AE12-A40B3402E68D}" type="slidenum">
              <a:rPr b="0" lang="sr-R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89C7-EB38-4053-9308-C6A5AAEEDBD7}" type="slidenum">
              <a:rPr b="0" lang="sr-R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E3D-3C56-41E2-80EC-F73031E80F2A}" type="slidenum">
              <a:rPr b="0" lang="sr-R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Додолске песме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лирске народне обредне песме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Ритуална игра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Вила ‒ посредник између земље и неба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Хвата небо и облаке у огледало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еврће огледало</a:t>
            </a: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и </a:t>
            </a: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ако изазива кишу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Епитет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1857240" y="1874160"/>
            <a:ext cx="5857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сред села _________ ј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вр’ јеле _________ в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реврну се _________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И удари ________ к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507920" y="21304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в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21000" y="278604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б’ј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358520" y="3571920"/>
            <a:ext cx="11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653640" y="4286160"/>
            <a:ext cx="11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р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Лирскe народнe обреднe песмe</a:t>
            </a:r>
            <a:endParaRPr b="1" lang="en-US" sz="36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рске народне песме </a:t>
            </a:r>
            <a:r>
              <a:rPr b="0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‒ песме у којима се пева о осећањима, обичајима и обредима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бредне песме</a:t>
            </a:r>
            <a:r>
              <a:rPr b="0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‒ песме којима су се пратиле промене у природи (почетак нове године, долазак пролећа, суша...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долске песме</a:t>
            </a:r>
            <a:r>
              <a:rPr b="0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‒ песме које су се изводиле уз обред с циљем да изазову кишу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85560" y="712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Објањење мање познатих речи</a:t>
            </a:r>
            <a:endParaRPr b="1" lang="en-US" sz="32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13920" y="713880"/>
            <a:ext cx="772020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дола прекривена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шћем призива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лујне облаке и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војим плесом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ивлачи муње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ерперунин плес</a:t>
            </a:r>
            <a:r>
              <a:rPr b="0" lang="en-U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Марек Хапон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23" name="Picture 2" descr="https://upload.wikimedia.org/wikipedia/commons/thumb/3/37/Taniec_Perperuny.jpg/800px-Taniec_Perperuny.jpg"/>
          <p:cNvPicPr/>
          <p:nvPr/>
        </p:nvPicPr>
        <p:blipFill>
          <a:blip r:embed="rId1"/>
          <a:stretch/>
        </p:blipFill>
        <p:spPr>
          <a:xfrm>
            <a:off x="5707080" y="714240"/>
            <a:ext cx="316548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97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Додолске песме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264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ве песме нису везане за одређени датум, изводиле се по потреби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о је женски обред, изводе га младе девојке у костимима од биља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Иду од куће до куће певајући и утркујући се с облацима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маћин их полива водом, што заједно са низом ритуалних радњи, треба да призове кишу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cc5c7e3d0e7edd86a83831b3d21ded0c.jpg"/>
          <p:cNvPicPr/>
          <p:nvPr/>
        </p:nvPicPr>
        <p:blipFill>
          <a:blip r:embed="rId1"/>
          <a:stretch/>
        </p:blipFill>
        <p:spPr>
          <a:xfrm>
            <a:off x="1523880" y="457200"/>
            <a:ext cx="7293240" cy="5410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2983680" y="601992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оле, Србија195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Пеперуда_в_Добруджа_1950.jpg"/>
          <p:cNvPicPr/>
          <p:nvPr/>
        </p:nvPicPr>
        <p:blipFill>
          <a:blip r:embed="rId1"/>
          <a:stretch/>
        </p:blipFill>
        <p:spPr>
          <a:xfrm>
            <a:off x="1447920" y="838080"/>
            <a:ext cx="7375320" cy="5105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2291040" y="6095880"/>
            <a:ext cx="47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оле, Бугарска 195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додоле.jpg"/>
          <p:cNvPicPr/>
          <p:nvPr/>
        </p:nvPicPr>
        <p:blipFill>
          <a:blip r:embed="rId1"/>
          <a:stretch/>
        </p:blipFill>
        <p:spPr>
          <a:xfrm>
            <a:off x="1219320" y="457200"/>
            <a:ext cx="782928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2502000" y="6248520"/>
            <a:ext cx="58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ање додоле, Урош Пред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0440" y="499680"/>
            <a:ext cx="306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јела, -е ж. род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pic>
        <p:nvPicPr>
          <p:cNvPr id="233" name="Picture 2" descr="Rendering Blue Spruce Tree Picea Pungens Colorado Spruce Isolated White — Stock Photo, Image"/>
          <p:cNvPicPr/>
          <p:nvPr/>
        </p:nvPicPr>
        <p:blipFill>
          <a:blip r:embed="rId1"/>
          <a:srcRect l="0" t="0" r="1997" b="7608"/>
          <a:stretch/>
        </p:blipFill>
        <p:spPr>
          <a:xfrm>
            <a:off x="1643040" y="142920"/>
            <a:ext cx="3714840" cy="6578640"/>
          </a:xfrm>
          <a:prstGeom prst="rect">
            <a:avLst/>
          </a:prstGeom>
          <a:ln w="0">
            <a:noFill/>
          </a:ln>
        </p:spPr>
      </p:pic>
      <p:sp>
        <p:nvSpPr>
          <p:cNvPr id="234" name="Title 1"/>
          <p:cNvSpPr/>
          <p:nvPr/>
        </p:nvSpPr>
        <p:spPr>
          <a:xfrm>
            <a:off x="5643720" y="1928880"/>
            <a:ext cx="306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вит, -а, -о вита јел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1"/>
          <p:cNvSpPr/>
          <p:nvPr/>
        </p:nvSpPr>
        <p:spPr>
          <a:xfrm>
            <a:off x="2286000" y="2428920"/>
            <a:ext cx="5286240" cy="3643200"/>
          </a:xfrm>
          <a:prstGeom prst="ellipse">
            <a:avLst/>
          </a:prstGeom>
          <a:solidFill>
            <a:srgbClr val="94b6d2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С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Isosceles Triangle 2"/>
          <p:cNvSpPr/>
          <p:nvPr/>
        </p:nvSpPr>
        <p:spPr>
          <a:xfrm>
            <a:off x="3929040" y="1714680"/>
            <a:ext cx="2071800" cy="2857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Ј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"/>
          <p:cNvSpPr/>
          <p:nvPr/>
        </p:nvSpPr>
        <p:spPr>
          <a:xfrm>
            <a:off x="4643280" y="1428840"/>
            <a:ext cx="64296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3929040" y="714240"/>
            <a:ext cx="2071800" cy="571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Century Gothic"/>
              </a:rPr>
              <a:t>ВИЛА ДРЖИ ОГЛЕД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Portrait of a young naked woman in winter in the garden with her long red hair covered with wreath of moss on her head — Stock Photo, Image"/>
          <p:cNvPicPr/>
          <p:nvPr/>
        </p:nvPicPr>
        <p:blipFill>
          <a:blip r:embed="rId1"/>
          <a:srcRect l="14926" t="981" r="10452" b="11791"/>
          <a:stretch/>
        </p:blipFill>
        <p:spPr>
          <a:xfrm>
            <a:off x="2357280" y="857160"/>
            <a:ext cx="5357880" cy="457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1643040" y="357120"/>
            <a:ext cx="1500120" cy="1830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319480" y="550080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а ‒ посредник између земље и н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едало ‒ магични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5T19:11:03Z</dcterms:created>
  <dc:creator>Natasa</dc:creator>
  <dc:description/>
  <dc:language>en-US</dc:language>
  <cp:lastModifiedBy>Natasa</cp:lastModifiedBy>
  <dcterms:modified xsi:type="dcterms:W3CDTF">2021-10-11T10:21:00Z</dcterms:modified>
  <cp:revision>13</cp:revision>
  <dc:subject/>
  <dc:title>На сред села вита јела</dc:title>
</cp:coreProperties>
</file>