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1E89-E803-4624-8D60-E2CF4F5C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5602-F10B-4E4C-9B34-1F827E88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9147-DDAA-452B-9602-5EB98ACB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08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556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364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08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556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104F-61FB-4816-96C3-F712F201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EF1B-965B-40D0-A390-A47E58DC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6BEE-11A2-4D46-9A0F-89AF5DB0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C5F4-D1F3-44DE-BB83-2AAF3857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7023-ADBF-4AA0-A675-DA4A4FF3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6A07-D91F-4C84-9AC9-BE38BCA1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67D7-7380-4247-9DA3-3BAB27DC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F81C-BCFE-4A79-AC3E-F744F031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6A5E-B7ED-4D16-B3B5-516E99F7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DEB0-9FB7-498F-B0BE-A743CD79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2514-C286-43C6-AC96-39EA82EA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80E4-EE85-432E-AF74-C3279547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7C47-7CDA-40D6-B89B-E0746B31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708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0556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4364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9708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50556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5CF4-7ECE-4C6B-B3D6-9BB5011D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C1B45-C064-46BE-AEFF-737D1842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B2D69-BE2F-44BF-B545-BCE8276F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F83B1-3C58-41CE-B5CF-2E342DFC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EFAA9-47FA-46EC-8601-4F387CEE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1082C-0FE8-488C-BBB1-4EFD1188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77A7-434C-435B-B883-563BB4D3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BE3AF-D3BC-4457-9620-3C8CE075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A0B27-7AD0-4978-BF73-068E2957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D8929-4D87-4E71-86C7-A22D7BD3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6A9AA-5ABC-4A0F-BDEE-31A67532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65CFB-4A60-440C-9A43-9D55528B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F681B-E6EE-4943-8D24-38205BAD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9708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556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4364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9708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50556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6B743-E448-48B7-89D5-5A1C3072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A0BC2-6C61-4BE5-BFBB-D714E8EF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51C57-4977-46A3-89C9-02E619EA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3EF36-BA70-478E-B10F-5D56DC2E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076A-972E-46C4-8DD5-0BFB82D8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B0B85-B3DB-4485-A2F4-F341B936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8E917-F88D-44ED-B89A-D3C427EF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97372-8C6C-4C65-8AD1-DDE954CF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8703A-8EB8-40E6-B660-0105C9F6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D4906-EB13-4F49-81A8-5D99320D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8072C-B139-4BD9-AB7B-D3DA23FB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AB21D-A169-441B-80AE-2CB47300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855FD-F4DD-4800-899D-C7A1275C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9708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0556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4364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9708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50556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7C74B-14AA-4EC0-9DA9-DE8530B3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BD418-4637-45ED-BE33-3D5446A1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3ABA-1D98-4BAA-89A3-F2A07878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A7375-3D66-45AC-978A-A5CC6053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43735-DB04-4CEF-B837-1C2C4B47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79A98-2DF8-4A2D-9916-84B41377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0A40D-BFFA-4751-A161-81D34F26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0753A-39D1-4E39-B9A2-F009CFF7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14856-09E2-4969-9A7B-39E4E53F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BA24A-2BAC-49BB-85D1-0D7E2C90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09695-CF62-43DF-A2D0-827B2CCB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A32A3-6916-48FD-AC57-CE96EE14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CD4AF-398F-4A51-8D2A-211481C3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B35E-8439-44D4-B0C2-0D653D92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9708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556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14364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9708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50556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23440-2888-4BBF-8A4A-C89707E6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52F6-6EE3-4520-8814-E462112C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B4F5-7D05-4370-9A66-66598996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0E8B-D108-4974-AE99-B2352048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"/>
          <p:cNvGrpSpPr/>
          <p:nvPr/>
        </p:nvGrpSpPr>
        <p:grpSpPr>
          <a:xfrm>
            <a:off x="6480" y="0"/>
            <a:ext cx="9140760" cy="6858000"/>
            <a:chOff x="6480" y="0"/>
            <a:chExt cx="9140760" cy="6858000"/>
          </a:xfrm>
        </p:grpSpPr>
        <p:sp>
          <p:nvSpPr>
            <p:cNvPr id="1" name="Rectangle 3"/>
            <p:cNvSpPr/>
            <p:nvPr/>
          </p:nvSpPr>
          <p:spPr>
            <a:xfrm>
              <a:off x="6480" y="0"/>
              <a:ext cx="9140760" cy="6858000"/>
            </a:xfrm>
            <a:prstGeom prst="rect">
              <a:avLst/>
            </a:prstGeom>
            <a:solidFill>
              <a:srgbClr val="e0c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14"/>
            <p:cNvSpPr/>
            <p:nvPr/>
          </p:nvSpPr>
          <p:spPr>
            <a:xfrm>
              <a:off x="1106640" y="0"/>
              <a:ext cx="71280" cy="6858000"/>
            </a:xfrm>
            <a:prstGeom prst="rect">
              <a:avLst/>
            </a:prstGeom>
            <a:solidFill>
              <a:srgbClr val="20190b"/>
            </a:solidFill>
            <a:ln w="0">
              <a:noFill/>
            </a:ln>
            <a:effectLst>
              <a:outerShdw dist="38160" dir="10800000" blurRad="0" rotWithShape="0">
                <a:srgbClr val="726a5c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2" descr=""/>
            <p:cNvPicPr/>
            <p:nvPr/>
          </p:nvPicPr>
          <p:blipFill>
            <a:blip r:embed="rId2"/>
            <a:stretch/>
          </p:blipFill>
          <p:spPr>
            <a:xfrm>
              <a:off x="6480" y="0"/>
              <a:ext cx="11214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6A60-C4F6-4C60-99BB-FDDC8B5F64D1}" type="slidenum"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5"/>
          <p:cNvGrpSpPr/>
          <p:nvPr/>
        </p:nvGrpSpPr>
        <p:grpSpPr>
          <a:xfrm>
            <a:off x="6480" y="0"/>
            <a:ext cx="9140760" cy="6858000"/>
            <a:chOff x="6480" y="0"/>
            <a:chExt cx="9140760" cy="6858000"/>
          </a:xfrm>
        </p:grpSpPr>
        <p:sp>
          <p:nvSpPr>
            <p:cNvPr id="46" name="Rectangle 3"/>
            <p:cNvSpPr/>
            <p:nvPr/>
          </p:nvSpPr>
          <p:spPr>
            <a:xfrm>
              <a:off x="6480" y="0"/>
              <a:ext cx="9140760" cy="6858000"/>
            </a:xfrm>
            <a:prstGeom prst="rect">
              <a:avLst/>
            </a:prstGeom>
            <a:solidFill>
              <a:srgbClr val="e0c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4"/>
            <p:cNvSpPr/>
            <p:nvPr/>
          </p:nvSpPr>
          <p:spPr>
            <a:xfrm>
              <a:off x="1106640" y="0"/>
              <a:ext cx="71280" cy="6858000"/>
            </a:xfrm>
            <a:prstGeom prst="rect">
              <a:avLst/>
            </a:prstGeom>
            <a:solidFill>
              <a:srgbClr val="20190b"/>
            </a:solidFill>
            <a:ln w="0">
              <a:noFill/>
            </a:ln>
            <a:effectLst>
              <a:outerShdw dist="38160" dir="10800000" blurRad="0" rotWithShape="0">
                <a:srgbClr val="726a5c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2" descr=""/>
            <p:cNvPicPr/>
            <p:nvPr/>
          </p:nvPicPr>
          <p:blipFill>
            <a:blip r:embed="rId2"/>
            <a:stretch/>
          </p:blipFill>
          <p:spPr>
            <a:xfrm>
              <a:off x="6480" y="0"/>
              <a:ext cx="112140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AAF8-8EA7-4819-863F-24DFAA7F1F1A}" type="slidenum"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cb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7CF4-77B8-4533-8063-4EDE1B053AFA}" type="slidenum"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cb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8D61-4F45-4EEB-A981-00A2AA6871B4}" type="slidenum"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cb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10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174" name="Rectangle 10" descr=""/>
            <p:cNvPicPr/>
            <p:nvPr/>
          </p:nvPicPr>
          <p:blipFill>
            <a:blip r:embed="rId2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Flowchart: Process 11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3d9a7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lowchart: Process 12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dc3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936D-68DC-48EF-AE20-AB437B63CDDE}" type="slidenum"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jpe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1179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„</a:t>
            </a:r>
            <a:r>
              <a:rPr b="1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Кроз трње до звезда”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431720" y="2670120"/>
            <a:ext cx="74070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4b6d2"/>
                </a:solidFill>
                <a:latin typeface="Times New Roman"/>
                <a:ea typeface="Times New Roman"/>
              </a:rPr>
              <a:t>Јасминка Петровић</a:t>
            </a:r>
            <a:endParaRPr b="0" lang="en-US" sz="2600" spc="-1" strike="noStrike">
              <a:solidFill>
                <a:srgbClr val="775f55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How to Get your Kids into Star Gazing | Time"/>
          <p:cNvPicPr/>
          <p:nvPr/>
        </p:nvPicPr>
        <p:blipFill>
          <a:blip r:embed="rId1"/>
          <a:stretch/>
        </p:blipFill>
        <p:spPr>
          <a:xfrm>
            <a:off x="2666880" y="838080"/>
            <a:ext cx="3886200" cy="4496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Constellations - Lessons - Blendspace"/>
          <p:cNvPicPr/>
          <p:nvPr/>
        </p:nvPicPr>
        <p:blipFill>
          <a:blip r:embed="rId2"/>
          <a:stretch/>
        </p:blipFill>
        <p:spPr>
          <a:xfrm>
            <a:off x="2286000" y="685800"/>
            <a:ext cx="5440320" cy="5440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Be an Astronomer for One Night | Historic Union County"/>
          <p:cNvPicPr/>
          <p:nvPr/>
        </p:nvPicPr>
        <p:blipFill>
          <a:blip r:embed="rId3"/>
          <a:srcRect l="0" t="0" r="1430" b="3884"/>
          <a:stretch/>
        </p:blipFill>
        <p:spPr>
          <a:xfrm>
            <a:off x="2362320" y="76320"/>
            <a:ext cx="5257800" cy="6476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380988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звезда</a:t>
            </a:r>
            <a:r>
              <a:rPr b="0" lang="en-US" sz="28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, -е ж. род</a:t>
            </a:r>
            <a:endParaRPr b="0" lang="en-US" sz="28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294920"/>
            <a:ext cx="81532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филмска звезда, музичка звезда, фудбалдка звезда;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кроз трње до звезда (лат. Per aspera ad astra)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pic>
        <p:nvPicPr>
          <p:cNvPr id="226" name="Picture 2" descr="Thorns in the Tabernacle | God as a Gardener"/>
          <p:cNvPicPr/>
          <p:nvPr/>
        </p:nvPicPr>
        <p:blipFill>
          <a:blip r:embed="rId1"/>
          <a:stretch/>
        </p:blipFill>
        <p:spPr>
          <a:xfrm>
            <a:off x="3200400" y="3048120"/>
            <a:ext cx="53532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Нове речи и изрази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редитељ, -а м. род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редитељка, -е ж. род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одговорно лице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да(ва)ти све од себе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благо мени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ствар је отишла предалеко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руку на срце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настао је тајац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CA145 Mardi Gras Jester Clown Funny Carnival Harlequin Halloween Mens  Costume | eBay"/>
          <p:cNvPicPr/>
          <p:nvPr/>
        </p:nvPicPr>
        <p:blipFill>
          <a:blip r:embed="rId1"/>
          <a:stretch/>
        </p:blipFill>
        <p:spPr>
          <a:xfrm>
            <a:off x="1752480" y="533520"/>
            <a:ext cx="3922920" cy="59436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2"/>
          <p:cNvSpPr/>
          <p:nvPr/>
        </p:nvSpPr>
        <p:spPr>
          <a:xfrm>
            <a:off x="5785200" y="990720"/>
            <a:ext cx="258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рска буд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у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366000" y="5257800"/>
            <a:ext cx="318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љокица, -е ж. р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Amazon.com: Creativity Street Bonus Bag Sequin and Spangle, 4-Ounce,  Assorted"/>
          <p:cNvPicPr/>
          <p:nvPr/>
        </p:nvPicPr>
        <p:blipFill>
          <a:blip r:embed="rId1"/>
          <a:stretch/>
        </p:blipFill>
        <p:spPr>
          <a:xfrm>
            <a:off x="2438280" y="5335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Тема текста и ликови</a:t>
            </a:r>
            <a:endParaRPr b="1" lang="en-US" sz="32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Деца се играју позоришта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Ликови: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Зорица, Драгана, Стела, Саша, Марина... Бил</a:t>
            </a:r>
            <a:endParaRPr b="0" lang="en-US" sz="28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приповедање у 1. лицу</a:t>
            </a:r>
            <a:endParaRPr b="0" lang="en-US" sz="28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приповедач − ?</a:t>
            </a:r>
            <a:endParaRPr b="0" lang="en-US" sz="2800" spc="-1" strike="noStrike">
              <a:solidFill>
                <a:srgbClr val="775f55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100080" y="104760"/>
            <a:ext cx="8943840" cy="6648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ravougaonik 3"/>
          <p:cNvSpPr/>
          <p:nvPr/>
        </p:nvSpPr>
        <p:spPr>
          <a:xfrm>
            <a:off x="179280" y="225360"/>
            <a:ext cx="8786880" cy="6388200"/>
          </a:xfrm>
          <a:prstGeom prst="rect">
            <a:avLst/>
          </a:prstGeom>
          <a:solidFill>
            <a:srgbClr val="ebddc3"/>
          </a:solidFill>
          <a:ln w="2844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ravougaonik: sa zaobljenim uglovima 6"/>
          <p:cNvSpPr/>
          <p:nvPr/>
        </p:nvSpPr>
        <p:spPr>
          <a:xfrm>
            <a:off x="249120" y="304920"/>
            <a:ext cx="8666280" cy="621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Slika 15" descr=""/>
          <p:cNvPicPr/>
          <p:nvPr/>
        </p:nvPicPr>
        <p:blipFill>
          <a:blip r:embed="rId2"/>
          <a:stretch/>
        </p:blipFill>
        <p:spPr>
          <a:xfrm>
            <a:off x="1974960" y="3889440"/>
            <a:ext cx="738000" cy="768240"/>
          </a:xfrm>
          <a:prstGeom prst="rect">
            <a:avLst/>
          </a:prstGeom>
          <a:ln w="0">
            <a:noFill/>
          </a:ln>
        </p:spPr>
      </p:pic>
      <p:sp>
        <p:nvSpPr>
          <p:cNvPr id="239" name="Okvir za tekst 14"/>
          <p:cNvSpPr/>
          <p:nvPr/>
        </p:nvSpPr>
        <p:spPr>
          <a:xfrm>
            <a:off x="380880" y="1976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трње, -а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Slika 21" descr=""/>
          <p:cNvPicPr/>
          <p:nvPr/>
        </p:nvPicPr>
        <p:blipFill>
          <a:blip r:embed="rId3"/>
          <a:stretch/>
        </p:blipFill>
        <p:spPr>
          <a:xfrm>
            <a:off x="4797360" y="1773360"/>
            <a:ext cx="847800" cy="903240"/>
          </a:xfrm>
          <a:prstGeom prst="rect">
            <a:avLst/>
          </a:prstGeom>
          <a:ln w="0">
            <a:noFill/>
          </a:ln>
        </p:spPr>
      </p:pic>
      <p:sp>
        <p:nvSpPr>
          <p:cNvPr id="241" name="Okvir za tekst 22"/>
          <p:cNvSpPr/>
          <p:nvPr/>
        </p:nvSpPr>
        <p:spPr>
          <a:xfrm>
            <a:off x="3733920" y="3808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редитељка, -е 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Slika 23" descr=""/>
          <p:cNvPicPr/>
          <p:nvPr/>
        </p:nvPicPr>
        <p:blipFill>
          <a:blip r:embed="rId4"/>
          <a:stretch/>
        </p:blipFill>
        <p:spPr>
          <a:xfrm>
            <a:off x="3048120" y="1822320"/>
            <a:ext cx="768240" cy="824040"/>
          </a:xfrm>
          <a:prstGeom prst="rect">
            <a:avLst/>
          </a:prstGeom>
          <a:ln w="0">
            <a:noFill/>
          </a:ln>
        </p:spPr>
      </p:pic>
      <p:sp>
        <p:nvSpPr>
          <p:cNvPr id="243" name="Okvir za tekst 27"/>
          <p:cNvSpPr/>
          <p:nvPr/>
        </p:nvSpPr>
        <p:spPr>
          <a:xfrm>
            <a:off x="4114800" y="1366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одговорно 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Slika 28" descr=""/>
          <p:cNvPicPr/>
          <p:nvPr/>
        </p:nvPicPr>
        <p:blipFill>
          <a:blip r:embed="rId5"/>
          <a:stretch/>
        </p:blipFill>
        <p:spPr>
          <a:xfrm>
            <a:off x="5864400" y="2457360"/>
            <a:ext cx="695160" cy="828720"/>
          </a:xfrm>
          <a:prstGeom prst="rect">
            <a:avLst/>
          </a:prstGeom>
          <a:ln w="0">
            <a:noFill/>
          </a:ln>
        </p:spPr>
      </p:pic>
      <p:sp>
        <p:nvSpPr>
          <p:cNvPr id="245" name="Okvir za tekst 32"/>
          <p:cNvSpPr/>
          <p:nvPr/>
        </p:nvSpPr>
        <p:spPr>
          <a:xfrm>
            <a:off x="7010280" y="2438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дворска буд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kvir za tekst 39"/>
          <p:cNvSpPr/>
          <p:nvPr/>
        </p:nvSpPr>
        <p:spPr>
          <a:xfrm>
            <a:off x="304920" y="33480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шљокица, -е 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Slika 42" descr=""/>
          <p:cNvPicPr/>
          <p:nvPr/>
        </p:nvPicPr>
        <p:blipFill>
          <a:blip r:embed="rId6"/>
          <a:stretch/>
        </p:blipFill>
        <p:spPr>
          <a:xfrm>
            <a:off x="2114640" y="2597040"/>
            <a:ext cx="71424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Okvir za tekst 45"/>
          <p:cNvSpPr/>
          <p:nvPr/>
        </p:nvSpPr>
        <p:spPr>
          <a:xfrm>
            <a:off x="4495680" y="5710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настао је тај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Slika 44" descr=""/>
          <p:cNvPicPr/>
          <p:nvPr/>
        </p:nvPicPr>
        <p:blipFill>
          <a:blip r:embed="rId7"/>
          <a:stretch/>
        </p:blipFill>
        <p:spPr>
          <a:xfrm>
            <a:off x="5175360" y="4718160"/>
            <a:ext cx="774720" cy="792000"/>
          </a:xfrm>
          <a:prstGeom prst="rect">
            <a:avLst/>
          </a:prstGeom>
          <a:ln w="0">
            <a:noFill/>
          </a:ln>
        </p:spPr>
      </p:pic>
      <p:sp>
        <p:nvSpPr>
          <p:cNvPr id="250" name="Okvir za tekst 49"/>
          <p:cNvSpPr/>
          <p:nvPr/>
        </p:nvSpPr>
        <p:spPr>
          <a:xfrm>
            <a:off x="1600200" y="5634000"/>
            <a:ext cx="21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руку на ср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Slika 47" descr=""/>
          <p:cNvPicPr/>
          <p:nvPr/>
        </p:nvPicPr>
        <p:blipFill>
          <a:blip r:embed="rId8"/>
          <a:stretch/>
        </p:blipFill>
        <p:spPr>
          <a:xfrm>
            <a:off x="3376440" y="2786040"/>
            <a:ext cx="1729080" cy="1633680"/>
          </a:xfrm>
          <a:prstGeom prst="rect">
            <a:avLst/>
          </a:prstGeom>
          <a:ln w="0">
            <a:noFill/>
          </a:ln>
        </p:spPr>
      </p:pic>
      <p:pic>
        <p:nvPicPr>
          <p:cNvPr id="252" name="Slika 52" descr=""/>
          <p:cNvPicPr/>
          <p:nvPr/>
        </p:nvPicPr>
        <p:blipFill>
          <a:blip r:embed="rId9"/>
          <a:stretch/>
        </p:blipFill>
        <p:spPr>
          <a:xfrm>
            <a:off x="2736720" y="4743360"/>
            <a:ext cx="749520" cy="828720"/>
          </a:xfrm>
          <a:prstGeom prst="rect">
            <a:avLst/>
          </a:prstGeom>
          <a:ln w="0">
            <a:noFill/>
          </a:ln>
        </p:spPr>
      </p:pic>
      <p:cxnSp>
        <p:nvCxnSpPr>
          <p:cNvPr id="253" name="Prava linija spajanja sa strelicom 51"/>
          <p:cNvCxnSpPr/>
          <p:nvPr/>
        </p:nvCxnSpPr>
        <p:spPr>
          <a:xfrm flipH="1" flipV="1">
            <a:off x="2742480" y="3012480"/>
            <a:ext cx="762840" cy="340200"/>
          </a:xfrm>
          <a:prstGeom prst="straightConnector1">
            <a:avLst/>
          </a:prstGeom>
          <a:ln w="2844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254" name="Prava linija spajanja sa strelicom 56"/>
          <p:cNvCxnSpPr/>
          <p:nvPr/>
        </p:nvCxnSpPr>
        <p:spPr>
          <a:xfrm flipH="1" flipV="1">
            <a:off x="3580560" y="2514240"/>
            <a:ext cx="381960" cy="457920"/>
          </a:xfrm>
          <a:prstGeom prst="straightConnector1">
            <a:avLst/>
          </a:prstGeom>
          <a:ln w="284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255" name="Prava linija spajanja sa strelicom 61"/>
          <p:cNvCxnSpPr/>
          <p:nvPr/>
        </p:nvCxnSpPr>
        <p:spPr>
          <a:xfrm flipV="1">
            <a:off x="4419360" y="2437920"/>
            <a:ext cx="686520" cy="534240"/>
          </a:xfrm>
          <a:prstGeom prst="straightConnector1">
            <a:avLst/>
          </a:prstGeom>
          <a:ln w="28440">
            <a:solidFill>
              <a:srgbClr val="ff0101"/>
            </a:solidFill>
            <a:miter/>
            <a:tailEnd len="med" type="triangle" w="med"/>
          </a:ln>
        </p:spPr>
      </p:cxnSp>
      <p:cxnSp>
        <p:nvCxnSpPr>
          <p:cNvPr id="256" name="Prava linija spajanja sa strelicom 66"/>
          <p:cNvCxnSpPr/>
          <p:nvPr/>
        </p:nvCxnSpPr>
        <p:spPr>
          <a:xfrm flipV="1">
            <a:off x="4952880" y="2894760"/>
            <a:ext cx="915120" cy="3819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257" name="Prava linija spajanja sa strelicom 70"/>
          <p:cNvCxnSpPr/>
          <p:nvPr/>
        </p:nvCxnSpPr>
        <p:spPr>
          <a:xfrm flipH="1">
            <a:off x="2601720" y="3886200"/>
            <a:ext cx="979920" cy="1231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58" name="Prava linija spajanja sa strelicom 73"/>
          <p:cNvCxnSpPr/>
          <p:nvPr/>
        </p:nvCxnSpPr>
        <p:spPr>
          <a:xfrm flipH="1">
            <a:off x="3372840" y="4267080"/>
            <a:ext cx="689400" cy="602640"/>
          </a:xfrm>
          <a:prstGeom prst="straightConnector1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</p:cxnSp>
      <p:cxnSp>
        <p:nvCxnSpPr>
          <p:cNvPr id="259" name="Prava linija spajanja sa strelicom 76"/>
          <p:cNvCxnSpPr/>
          <p:nvPr/>
        </p:nvCxnSpPr>
        <p:spPr>
          <a:xfrm>
            <a:off x="4648320" y="4266720"/>
            <a:ext cx="675360" cy="686520"/>
          </a:xfrm>
          <a:prstGeom prst="straightConnector1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</p:cxnSp>
      <p:pic>
        <p:nvPicPr>
          <p:cNvPr id="260" name="Picture 2" descr="Thorns in the Tabernacle | God as a Gardener"/>
          <p:cNvPicPr/>
          <p:nvPr/>
        </p:nvPicPr>
        <p:blipFill>
          <a:blip r:embed="rId10"/>
          <a:stretch/>
        </p:blipFill>
        <p:spPr>
          <a:xfrm>
            <a:off x="281160" y="835200"/>
            <a:ext cx="1723680" cy="2315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This Is What a Film Director Looks Like | by Elena Rossini | Woman with a  Movie Camera | Medium"/>
          <p:cNvPicPr/>
          <p:nvPr/>
        </p:nvPicPr>
        <p:blipFill>
          <a:blip r:embed="rId11"/>
          <a:stretch/>
        </p:blipFill>
        <p:spPr>
          <a:xfrm>
            <a:off x="2189160" y="378000"/>
            <a:ext cx="1461960" cy="2865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CA145 Mardi Gras Jester Clown Funny Carnival Harlequin Halloween Mens  Costume | eBay"/>
          <p:cNvPicPr/>
          <p:nvPr/>
        </p:nvPicPr>
        <p:blipFill>
          <a:blip r:embed="rId12"/>
          <a:stretch/>
        </p:blipFill>
        <p:spPr>
          <a:xfrm>
            <a:off x="6934320" y="457200"/>
            <a:ext cx="1357200" cy="2057400"/>
          </a:xfrm>
          <a:prstGeom prst="rect">
            <a:avLst/>
          </a:prstGeom>
          <a:ln w="0">
            <a:noFill/>
          </a:ln>
        </p:spPr>
      </p:pic>
      <p:sp>
        <p:nvSpPr>
          <p:cNvPr id="263" name="Okvir za tekst 45"/>
          <p:cNvSpPr/>
          <p:nvPr/>
        </p:nvSpPr>
        <p:spPr>
          <a:xfrm>
            <a:off x="6705720" y="366552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да(ва)ти све од с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Slika 23" descr=""/>
          <p:cNvPicPr/>
          <p:nvPr/>
        </p:nvPicPr>
        <p:blipFill>
          <a:blip r:embed="rId13"/>
          <a:stretch/>
        </p:blipFill>
        <p:spPr>
          <a:xfrm>
            <a:off x="5632560" y="3524400"/>
            <a:ext cx="768240" cy="828360"/>
          </a:xfrm>
          <a:prstGeom prst="rect">
            <a:avLst/>
          </a:prstGeom>
          <a:ln w="0">
            <a:noFill/>
          </a:ln>
        </p:spPr>
      </p:pic>
      <p:cxnSp>
        <p:nvCxnSpPr>
          <p:cNvPr id="265" name="Prava linija spajanja sa strelicom 76"/>
          <p:cNvCxnSpPr/>
          <p:nvPr/>
        </p:nvCxnSpPr>
        <p:spPr>
          <a:xfrm>
            <a:off x="4952520" y="3800520"/>
            <a:ext cx="839160" cy="162720"/>
          </a:xfrm>
          <a:prstGeom prst="straightConnector1">
            <a:avLst/>
          </a:prstGeom>
          <a:ln w="28440">
            <a:solidFill>
              <a:srgbClr val="00b0f0"/>
            </a:solidFill>
            <a:miter/>
            <a:tailEnd len="med" type="triangle" w="med"/>
          </a:ln>
        </p:spPr>
      </p:cxnSp>
      <p:pic>
        <p:nvPicPr>
          <p:cNvPr id="266" name="Picture 2" descr="Amazon.com: Creativity Street Bonus Bag Sequin and Spangle, 4-Ounce,  Assorted"/>
          <p:cNvPicPr/>
          <p:nvPr/>
        </p:nvPicPr>
        <p:blipFill>
          <a:blip r:embed="rId14"/>
          <a:stretch/>
        </p:blipFill>
        <p:spPr>
          <a:xfrm>
            <a:off x="360360" y="4035600"/>
            <a:ext cx="1419120" cy="2474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8T12:05:10Z</dcterms:created>
  <dc:creator>a4</dc:creator>
  <dc:description/>
  <dc:language>en-US</dc:language>
  <cp:lastModifiedBy>Natasa</cp:lastModifiedBy>
  <dcterms:modified xsi:type="dcterms:W3CDTF">2021-04-23T20:15:30Z</dcterms:modified>
  <cp:revision>6</cp:revision>
  <dc:subject/>
  <dc:title>„Кроз трње до звезда”</dc:title>
</cp:coreProperties>
</file>