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629-2B72-4194-8110-84C1FCCC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C59-AD36-4182-A391-C59C07D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947-4D0E-4CBE-93D8-A0365C2F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951-F5FA-4376-B90D-D1423E7B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FA62-C31D-4134-BED2-E604FB9D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2F9F-8F73-4CA3-ACAF-0D32DDED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147-55EC-48A4-B37B-63544292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CC66-948A-4919-B9CE-A8465D8D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7303-A6B5-4CB2-8E0D-57862C7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A4E3-6415-4EAB-A322-F95F64EA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8F13-9052-480E-8C16-D379D32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034-9FBE-4F41-92A3-419C3338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4D1A-630F-4A04-A1D1-AD312D1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6252-90A8-48E2-91BB-91B6190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625-809B-448C-85D1-96818BD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2862-647A-495C-AEA6-B89428C4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C6F8-632D-4B22-A2A1-7DC1AF92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6F26-CAFA-4D69-AD7E-5FB7E3DD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2537-A3E4-4778-AED8-CD1D8A6F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E6A8-A4B7-4695-BC2C-D9984C9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D1E1-C7E3-4E5F-A7D3-1B1F373D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7503-D1AC-42ED-A49A-2896C03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FB2-FFE5-4A45-9CE5-90068F1F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330D-21F8-416F-9C44-8628087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45A7-DD92-475B-9AA3-0EA25B1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B0FE-6CC2-468F-8EC8-417E3A4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B37A-06DD-4463-9D55-40C8EC6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5095-D56F-4626-967B-7292057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FB9E-6A43-4B30-AC07-853A014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0EE5-9BDA-46BE-A4B6-4731DAA8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CF69-593F-4B21-9973-A78A8028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4BB9-D961-48F5-857D-95297D5E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9108-69C6-4BAF-8CD1-7D5DFBB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0F3-788D-4C43-A5C3-08B901E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B712-CE28-498F-8576-D4AF90EC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55D9-3CC9-4094-9C4F-9B90A6C2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930D-5DA7-4FD4-9DA2-FE8456B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FEAC-32FF-4EFE-AE66-F34AA66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D856-63DE-460F-979D-6DC8582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E3FD-FE0C-4462-BB0C-DB67A1F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D9A7-921C-4285-905C-194F27E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A92B-28A5-46C6-B3F7-F753BB61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5D34-36BA-4938-A40A-A8682E7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2EF4-A7AD-41A8-A5E8-199B583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1B-705C-4662-B857-D48A820E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300C-577C-4128-9ADB-0B1DBB58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96F5-52DC-43FE-B7FB-91A34905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778C-924A-415B-ADEA-D0FD821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4B4C-2A9B-455E-A41A-45021792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E9AC2-D364-4CF5-A323-2F687E4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DAF4-22B1-48A7-9049-499A1E2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61BA-6781-4E38-93D3-5A0D8D38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51721-E411-444E-8863-8AF74781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0E6C-840E-4C44-B93F-A704DDE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CBAB8-E857-4AEB-A4DB-7B9FF299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C2F-2712-4864-ABAD-9EFF1F8A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BAC1-381A-491C-BFAF-2C365415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7866-FAAB-4D63-9F3F-88164F1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E434-8F8D-4C5F-B87C-EEF8F87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62EE-0D44-4C41-B684-E39A857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2C933-9FBE-41CE-921E-5F1C4E3A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C51E-7062-44E9-A96A-18EE71EF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B4DF-3919-4142-8A48-327EC5CD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19886-7FD5-43FE-AB39-2C627D19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E5EF9-2482-4E73-98BD-00D2A0B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78B2-DC2C-4034-944A-C856F157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FA2-D618-4BD7-B077-2E72B98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699CD-BC74-4653-8EDD-568338E2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2FDD-9088-4FA3-820F-8396F83F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8B2E-C44B-4DC2-8DD5-4AFDBD9A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9DB-7753-4EFA-8103-B01CAE6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F68-09D9-4FB1-AB5A-D585BD8A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DB5-B28C-499C-BDA1-46C3E9137EF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69BC-AC36-4607-8A86-7CB2203954F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A24B-2688-46D3-B38A-2570571C845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62FF-9B8A-4FBC-9BDF-84B8BDC3C30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5905-9BFE-4A8A-8381-440515ADB11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0A1-C21F-450E-8AD6-C31EE6E5F08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га/Ш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Повежи речи у табели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57240" y="1054080"/>
          <a:ext cx="5214960" cy="5943600"/>
        </p:xfrm>
        <a:graphic>
          <a:graphicData uri="http://schemas.openxmlformats.org/drawingml/2006/table">
            <a:tbl>
              <a:tblPr/>
              <a:tblGrid>
                <a:gridCol w="2606760"/>
                <a:gridCol w="2608200"/>
              </a:tblGrid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поздрави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кошар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чув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чорб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чит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лимунад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облачити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посуђ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слуш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бра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тренир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аутобу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кув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музи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пр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капу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пи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рома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чека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600" spc="-1" strike="noStrike">
                          <a:solidFill>
                            <a:srgbClr val="ffffff"/>
                          </a:solidFill>
                          <a:latin typeface="Times New Loman"/>
                          <a:ea typeface="Calibri"/>
                        </a:rPr>
                        <a:t>сусед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b0f0"/>
                </a:solidFill>
                <a:latin typeface="Franklin Gothic Book"/>
              </a:rPr>
              <a:t>Допуни реченице на основу фотографије, а затим састави реченицу према датом моделу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Мама је направила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14240" y="2571840"/>
          <a:ext cx="6929640" cy="3000240"/>
        </p:xfrm>
        <a:graphic>
          <a:graphicData uri="http://schemas.openxmlformats.org/drawingml/2006/table">
            <a:tbl>
              <a:tblPr/>
              <a:tblGrid>
                <a:gridCol w="3463920"/>
                <a:gridCol w="3465720"/>
              </a:tblGrid>
              <a:tr h="30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сне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алачин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ца су </a:t>
                      </a: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х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рзо појел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Picture 2" descr="Easy pancakes recipe - BBC Good Food"/>
          <p:cNvPicPr/>
          <p:nvPr/>
        </p:nvPicPr>
        <p:blipFill>
          <a:blip r:embed="rId1"/>
          <a:srcRect l="9473" t="3363" r="10963" b="5690"/>
          <a:stretch/>
        </p:blipFill>
        <p:spPr>
          <a:xfrm>
            <a:off x="928800" y="2857680"/>
            <a:ext cx="30002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Марија је купила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000080" y="1500120"/>
          <a:ext cx="6929640" cy="4479840"/>
        </p:xfrm>
        <a:graphic>
          <a:graphicData uri="http://schemas.openxmlformats.org/drawingml/2006/table">
            <a:tbl>
              <a:tblPr/>
              <a:tblGrid>
                <a:gridCol w="3463920"/>
                <a:gridCol w="346572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ас </a:t>
                      </a: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је први пут обукл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27338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Илићи су набавили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000080" y="1500120"/>
          <a:ext cx="6929640" cy="4479840"/>
        </p:xfrm>
        <a:graphic>
          <a:graphicData uri="http://schemas.openxmlformats.org/drawingml/2006/table">
            <a:tbl>
              <a:tblPr/>
              <a:tblGrid>
                <a:gridCol w="3463920"/>
                <a:gridCol w="346572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вели су </a:t>
                      </a: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на вакцинациј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24289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Марко воли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00080" y="1500120"/>
          <a:ext cx="6929640" cy="3932280"/>
        </p:xfrm>
        <a:graphic>
          <a:graphicData uri="http://schemas.openxmlformats.org/drawingml/2006/table">
            <a:tbl>
              <a:tblPr/>
              <a:tblGrid>
                <a:gridCol w="3463920"/>
                <a:gridCol w="3465720"/>
              </a:tblGrid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___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често посећуј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1"/>
          <a:srcRect l="7695" t="4468" r="13461" b="4468"/>
          <a:stretch/>
        </p:blipFill>
        <p:spPr>
          <a:xfrm>
            <a:off x="1285920" y="2000160"/>
            <a:ext cx="29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Родитељи су ми купили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00080" y="1500120"/>
          <a:ext cx="6929640" cy="4479840"/>
        </p:xfrm>
        <a:graphic>
          <a:graphicData uri="http://schemas.openxmlformats.org/drawingml/2006/table">
            <a:tbl>
              <a:tblPr/>
              <a:tblGrid>
                <a:gridCol w="3463920"/>
                <a:gridCol w="346572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___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орам добро чуват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812960" y="1790640"/>
            <a:ext cx="1758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Прочитала сам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00080" y="1500120"/>
          <a:ext cx="7215120" cy="4206960"/>
        </p:xfrm>
        <a:graphic>
          <a:graphicData uri="http://schemas.openxmlformats.org/drawingml/2006/table">
            <a:tbl>
              <a:tblPr/>
              <a:tblGrid>
                <a:gridCol w="3429000"/>
                <a:gridCol w="378612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___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еба да вратим у библиотек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14280" y="2143080"/>
            <a:ext cx="2913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28760" y="571320"/>
            <a:ext cx="81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У акваријуму имам _______________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00080" y="1500120"/>
          <a:ext cx="7215120" cy="3932280"/>
        </p:xfrm>
        <a:graphic>
          <a:graphicData uri="http://schemas.openxmlformats.org/drawingml/2006/table">
            <a:tbl>
              <a:tblPr/>
              <a:tblGrid>
                <a:gridCol w="3857760"/>
                <a:gridCol w="3357360"/>
              </a:tblGrid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аним</a:t>
                      </a: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______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једном днев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9" name="Picture 2" descr=""/>
          <p:cNvPicPr/>
          <p:nvPr/>
        </p:nvPicPr>
        <p:blipFill>
          <a:blip r:embed="rId1"/>
          <a:srcRect l="1086" t="3767" r="1086" b="3767"/>
          <a:stretch/>
        </p:blipFill>
        <p:spPr>
          <a:xfrm>
            <a:off x="1249200" y="2286000"/>
            <a:ext cx="3322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4T15:07:03Z</dcterms:created>
  <dc:creator>Natasa</dc:creator>
  <dc:description/>
  <dc:language>en-US</dc:language>
  <cp:lastModifiedBy>Natasa</cp:lastModifiedBy>
  <dcterms:modified xsi:type="dcterms:W3CDTF">2021-01-24T16:06:34Z</dcterms:modified>
  <cp:revision>5</cp:revision>
  <dc:subject/>
  <dc:title>Исказивање објекта</dc:title>
</cp:coreProperties>
</file>