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2DF-B9B4-4ACD-9235-197AE211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44B-5361-4B2C-B52F-DFC132BD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865-E6AF-434B-B190-37A489D0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AC6-52A1-4B9C-9204-654C66B2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3C00-BFF4-481A-9A55-951FBF67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B612-3A9F-4127-840D-89069990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E948-A16C-4A4F-8800-5A834B5A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8FE6-241F-4906-AEFE-39A54BB2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72C7-09F3-4D82-8800-8A4F0E83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9DF0-432C-4021-A2BD-20376E8D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407-2BFB-4290-8F02-94977E29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3BA-68D0-4333-B141-C7341F58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4C5E-05C8-4009-847B-220DCFB1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532A-52E9-43BD-96CB-B9AB0904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1038-30DC-42A5-9A7E-A109F931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DF9A-9EC7-49A9-8C7E-44CB6D24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EE34-7052-431B-BC0A-F33B2F5A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0B67-0015-4B97-ACBB-6FACA984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A083-224D-47BF-B801-7DAA4ADC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1F68-B955-4D40-A21D-2D7D13F7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E6FB-96A4-4488-B995-85C146A7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B532-7155-4110-A9A3-3FBF8B36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94B-CF91-4531-BBF0-C2809471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DDAE4-AB69-4BAD-B68A-3041F288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1722-2808-4A52-80C1-422BCC0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E959-A287-4557-AAD4-DC51E8B4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3EA7-0030-480F-B3A1-E8D07039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5A6E-FC5B-4EA9-BD1C-CABDBB5B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C7F4-111E-4129-8AAA-7B263306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2C97-B01F-4159-958B-5889637E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AAB4B-B0D6-4F7C-91D3-9D3C168B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0835-0751-4A0F-A976-9773CF6C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7AA94-33AC-4C32-BE45-889B015D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BDA-BB02-4171-BF67-09BA2F3B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EC78C-58F7-45DE-96E8-F2D9B535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C195-B919-4726-8A8A-7446C93E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E901-4C1F-4FBA-9BB2-2DE224D4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96CE-8CF1-483D-B9F3-50071546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25B7-4179-42A9-AF18-44F58489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AF17-970A-408D-A83E-D6601618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5DFD1-B265-4FB9-BD37-B4BC9988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9D456-F03D-4C2D-8E3E-E507D450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02D9-C82D-45C3-833B-CC6E12BC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1B93A-65B3-486C-8C30-79525D5E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4E6-1EA1-491D-B9F5-41EDC5AD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92C2F-CDAD-4ECF-8DEF-DB15066B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7F30-4ADF-46E4-90E3-C9986373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78F9-42CE-484B-8CF2-C80D3256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25BEC-72B3-4E46-B2B2-7CE74E9D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D5A3-5F97-4EE7-BD3F-4A95848A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B61E3-2F8B-4DBE-9A5F-9E2BFA7E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D57E4-22C1-4251-AB82-276A8513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6C5B-DB51-4619-8EA1-B4E97904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153FA-34F0-42C1-A8EE-FEBA507B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6C97E-F9B9-481B-9F0F-0E5BFE86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59D-5FBC-4CF4-A932-58EA1097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6B2D1-25F4-4D2E-8B84-710B144A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068B2-C18A-4D4B-A991-0F2FC719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46AFA-AC66-4D82-AE15-54EB506D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E6440-2166-43D3-A02C-286E80E5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E43D5-0F08-4991-B655-B565B06B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AE497-00D7-4E8D-9BB7-33B42508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9BB09-91DD-401F-9924-7BF15744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5019B-2E2C-4A56-8128-86649EBF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8AD00-F6F9-45A6-B7A0-84C57D68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06377-6B20-4B69-840D-5BEE65F1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287-7C95-486C-A2C1-EBFD0209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04840-7374-46B6-9255-22F7CE0F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7A7EC-5041-4BF3-9E0D-F913B351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588B3-3994-4932-B7E3-2B9B45BC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866FD-504F-4745-B09C-1E5CF9FC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E0BA4-F6EA-445D-AF9A-4722563F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73B7-11D7-4789-AD8B-28503445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B1161-2EFB-4BD3-BC63-24AE896D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6A5C7-F814-428F-83F8-1BD0E61A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91008-174A-4F6E-BCA3-21989ABC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2FE1A-FAC0-4946-B41A-BF014F42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CCC-32F9-478E-BE59-6C4738A7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DDC68-B2CD-40C4-AA07-8630653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8BF38-34ED-4EA9-AF5A-C4254AC1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872A2-7406-46E6-B09C-1D6E3789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DFD94-7556-49FC-AA1F-BAAAE0C4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E2AE8-5384-4F4C-A6C8-87EB870D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D93-4C9B-497A-B5A1-1715365B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6F3-B627-41BD-9098-ED5DAFD398D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17E8-27CD-44CF-B735-9E3D8C56C06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E3E5-3992-4A75-AA3F-894F2D10C94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9C40-A27E-402A-A58E-3D24494B957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EEBD-6E2E-44C6-8507-6A1116B927D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D462-C360-4A71-80F8-AFE999A8173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8248-571A-4021-B162-B18112D4A31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0720"/>
            <a:ext cx="80107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Брза хра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0" name="Picture 2" descr="https://upload.wikimedia.org/wikipedia/commons/e/e8/Hamburger_sandwich.jpg"/>
          <p:cNvPicPr/>
          <p:nvPr/>
        </p:nvPicPr>
        <p:blipFill>
          <a:blip r:embed="rId1"/>
          <a:stretch/>
        </p:blipFill>
        <p:spPr>
          <a:xfrm>
            <a:off x="928800" y="1571760"/>
            <a:ext cx="3071880" cy="2340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Резултат слика за брза храна"/>
          <p:cNvPicPr/>
          <p:nvPr/>
        </p:nvPicPr>
        <p:blipFill>
          <a:blip r:embed="rId2"/>
          <a:srcRect l="13654" t="0" r="4435" b="0"/>
          <a:stretch/>
        </p:blipFill>
        <p:spPr>
          <a:xfrm>
            <a:off x="4500720" y="1285920"/>
            <a:ext cx="3500280" cy="2236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Резултат слика за брза храна"/>
          <p:cNvPicPr/>
          <p:nvPr/>
        </p:nvPicPr>
        <p:blipFill>
          <a:blip r:embed="rId3"/>
          <a:stretch/>
        </p:blipFill>
        <p:spPr>
          <a:xfrm>
            <a:off x="928800" y="4143240"/>
            <a:ext cx="3402000" cy="2266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Резултат слика за брза храна"/>
          <p:cNvPicPr/>
          <p:nvPr/>
        </p:nvPicPr>
        <p:blipFill>
          <a:blip r:embed="rId4"/>
          <a:stretch/>
        </p:blipFill>
        <p:spPr>
          <a:xfrm>
            <a:off x="5143680" y="378612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Брза хра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999720"/>
            <a:ext cx="77724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за храна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ли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ст-фуд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д енгл. </a:t>
            </a:r>
            <a:r>
              <a:rPr b="0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food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храна је која се врло брзо спрема и сервира, њена главна предност је то што је јефтина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је храна која се често подгрева. Сматра се једним од симбола модерног света и неопходна </a:t>
            </a:r>
            <a:r>
              <a:rPr b="0" lang="sr-Latn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бог брзог начина живота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 храна се у жаргону назива </a:t>
            </a:r>
            <a:r>
              <a:rPr b="0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џанк фуд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енгл. </a:t>
            </a:r>
            <a:r>
              <a:rPr b="0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nk food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sr-Latn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што у преводу значи „храна смеће” ‒ због ниске хранљиве </a:t>
            </a:r>
            <a:r>
              <a:rPr b="0" lang="sr-Latn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е калоричне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дност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928800" y="999720"/>
            <a:ext cx="77724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имање брзе хране је повезано са гојазношћу и многим болестима (шећерна болест, висок крвни притисак, рак...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 храна је богата засићеним мастима, шећером, солима и калоријама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Слаткиши и грицкалиц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8" name="Picture 3" descr="Резултат слика за грицкалице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357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Резултат слика за слаткиши"/>
          <p:cNvPicPr/>
          <p:nvPr/>
        </p:nvPicPr>
        <p:blipFill>
          <a:blip r:embed="rId2"/>
          <a:stretch/>
        </p:blipFill>
        <p:spPr>
          <a:xfrm>
            <a:off x="1214280" y="157176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Здраве навике у исхран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2" name="Picture 6" descr="Резултат слика за здраве навике у исхрани"/>
          <p:cNvPicPr/>
          <p:nvPr/>
        </p:nvPicPr>
        <p:blipFill>
          <a:blip r:embed="rId1"/>
          <a:stretch/>
        </p:blipFill>
        <p:spPr>
          <a:xfrm>
            <a:off x="1073160" y="1857240"/>
            <a:ext cx="72136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о се хранити здраво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42884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сти само кад смо гладни или кад је време за оброк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чети дан доручком или попити чашу ђуса од поморанџе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ти воду у току оброка или не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ести све из тањира или прекинути кад осетимо да смо сити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сити што разноврсније намирнице или јести оно што волимо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914400" y="785880"/>
            <a:ext cx="777240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сти у ресторану или код куће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сти из већих или из мањих тањира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ти воћне сокове или вод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о избацити слаткише и грицкалице или их јести понекад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сти јела припремана на масти или на уљ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ети обичан или воћни јогурт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сти хлеб, пецива и теста од белог брашна или од интегралних житарица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1T11:29:06Z</dcterms:created>
  <dc:creator>Natasa</dc:creator>
  <dc:description/>
  <dc:language>en-US</dc:language>
  <cp:lastModifiedBy>Natasa</cp:lastModifiedBy>
  <dcterms:modified xsi:type="dcterms:W3CDTF">2021-02-11T13:01:36Z</dcterms:modified>
  <cp:revision>7</cp:revision>
  <dc:subject/>
  <dc:title>Здраве навике у исхрани</dc:title>
</cp:coreProperties>
</file>