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98E-09A3-4216-8D97-9C0029C8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3F8-4B9D-4746-9CBF-4352FDE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BDA-C518-4D7C-8AD3-EBE04B90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1D0-6DE9-43AE-A75C-3EC0C2E5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8F0A-52C5-4283-9819-CAAB5D88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8BDD-3C8E-4186-A60A-7A98FC8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237A-00FF-4609-953D-BB7DF3F9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AA2E-69D3-4A20-84CD-7EFAF0F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B3F-6865-4011-8C1D-29EB8F8C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20BC-A77E-4796-9449-E892DE85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8A11-52B7-4264-9B02-A485E353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851-F3A8-45ED-8A72-6F972A58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F7B5-642B-40A9-9EAA-A9281F4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2E0-09DC-4926-9B23-08E58FEC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59BB-F959-4EDD-B4F6-8AC4A8A1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C4D-2DD6-4D05-B468-7F9B694B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8BD7-C995-48E6-B985-0BBBC1BF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8C64-CDDB-4247-9EAF-09100957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C132-5AD2-4BAA-9BC7-04A1B7D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1784-042D-46CE-A1BD-58A6F742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909B-55EE-4D34-99F0-059C8642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90EA-71EA-41C5-8155-9979A40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FA7-88E7-470A-A8F5-DD0EFE30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5F8B-96BE-4FB2-B197-9EFB8975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3645-F150-479C-A4EA-17663EF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D640-AADC-4337-89E6-40530D8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0191-959F-42F1-BB9B-0C450793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33B9-B673-4A7D-B45F-4A69D1A8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798D-D6FF-49A0-B169-3DB66F56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20A2-37E8-4241-AEF2-59DAEB0E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EBD9-C74E-413E-A904-2B754FE5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C5E5-CA3E-48FC-9431-07E8891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8964-F502-4A80-8767-01B99CC0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00F-ACEE-4AAF-B19C-9BB713AA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EE76-2480-4FA2-9258-A3C6B732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EA03-75E7-4212-B3AD-FC75C94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EC5C-64AC-4D6F-AAAA-6337B130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199F-791E-48FE-BBAB-D415272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F6A2A-284E-4C29-B424-30DF5904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B92A-BF8E-46BE-85A0-5B9D631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B88B-52D2-487D-9BCC-98946218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64CF-83B3-4DF8-8542-B764B3C8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4374-4735-41C4-B318-6C3C3B25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7DB8-CA94-4766-B216-31749B70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0A5-6B89-4675-A592-7201C8F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673BD-DE55-429D-9748-401C5B03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29A4-998E-454E-9B63-40437ECA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341C-DA05-4861-A4D2-C679E6FA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34CD-31BF-49C6-9D30-9780431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CEEA-BDDD-4414-9BFB-DC8D4131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B9F4-B9EA-4D13-890C-AA2BFE26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F6A8-F8B5-47B2-80D9-DD2E01C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CE2AD-48CB-41D8-803B-65859DB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593F0-1C77-46D5-8BD8-81EA74B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5F2D-841B-43F0-9C04-0A25A6F8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8E7-578E-47D0-9CC7-03E3448F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A2FA-0DDF-4963-B0A1-184959B8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158-3C44-4260-BBA4-F9556F2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020-53A8-4E63-8D9A-A617048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08F-93AE-4C99-8DED-C1B3A3E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4E6C-DB0E-4573-A0F3-B6979B1E36C8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5640" cy="6858000"/>
              <a:chOff x="0" y="0"/>
              <a:chExt cx="354564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3040" y="0"/>
                <a:ext cx="10260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0495-52B5-488B-880D-21BDA17A7BC7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2760" y="0"/>
              <a:ext cx="10260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630E-B618-415B-A960-0FC26DEE3FED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39F-F5AC-492E-8147-CF9DC7F683AE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340C-1743-4DB9-AA46-6128F5964B36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Какав? Чији? Који?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Уочи како се речи којима казујемо особину или припадање слажу с речима уз које стоје.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28760" y="1735200"/>
          <a:ext cx="8215200" cy="4479840"/>
        </p:xfrm>
        <a:graphic>
          <a:graphicData uri="http://schemas.openxmlformats.org/drawingml/2006/table">
            <a:tbl>
              <a:tblPr/>
              <a:tblGrid>
                <a:gridCol w="1643040"/>
                <a:gridCol w="6572160"/>
              </a:tblGrid>
              <a:tr h="191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Какав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Какв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Какв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сунчан дан, занимљив фил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шаре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лопт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леп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кућа, вред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девојк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весел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дет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немир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мач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велик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дрв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Чиј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Чиј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Чиј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мој друг, твој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родитељ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наш пријате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ње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сестр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твој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књиг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његов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дет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твој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двориш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sr-CS" sz="2800" spc="-1" strike="noStrike">
                          <a:solidFill>
                            <a:srgbClr val="ff6600"/>
                          </a:solidFill>
                          <a:latin typeface="Times New Roman"/>
                          <a:ea typeface="Calibri"/>
                        </a:rPr>
                        <a:t>Од чег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дрве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сто, метал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оград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, ланен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sr-CS" sz="28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 одел</a:t>
                      </a:r>
                      <a:r>
                        <a:rPr b="1" lang="sr-CS" sz="2800" spc="-1" strike="noStrike">
                          <a:solidFill>
                            <a:srgbClr val="e36c0a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512720" y="11430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црн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а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мајиц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432080" y="2071800"/>
            <a:ext cx="31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_______ мач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650960" y="20718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црн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о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46120" y="32148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_______ ципел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721880" y="3143160"/>
            <a:ext cx="132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црн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е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865160" y="4286160"/>
            <a:ext cx="13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црн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и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514880" y="4357800"/>
            <a:ext cx="31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_______ дан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565280" y="5429160"/>
            <a:ext cx="33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_______ одећ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1919160" y="543564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црн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а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1045080" y="1214280"/>
            <a:ext cx="64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Нов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а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мајиц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а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ји у ормару.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230480" y="2214720"/>
            <a:ext cx="523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Обући ћу нов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у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мајиц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у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162440" y="3143160"/>
            <a:ext cx="72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Ићи ћу у школу у нов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ој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мајиц</a:t>
            </a:r>
            <a:r>
              <a:rPr b="1" lang="sr-CS" sz="4000" spc="-1" strike="noStrike">
                <a:solidFill>
                  <a:srgbClr val="e36c0a"/>
                </a:solidFill>
                <a:latin typeface="Times New Roman"/>
                <a:ea typeface="Calibri"/>
              </a:rPr>
              <a:t>и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08560" y="4429080"/>
            <a:ext cx="785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Закључимо</a:t>
            </a: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 ‒ од чега зависи обли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2222"/>
                </a:solidFill>
                <a:latin typeface="Times New Roman"/>
                <a:ea typeface="Calibri"/>
              </a:rPr>
              <a:t>придева који стоји уз именицу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7095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аква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 кошуља? </a:t>
            </a: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Чија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 кошуља?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46" name="Picture 130" descr="Blue shirt isolated on white background — Stock Photo"/>
          <p:cNvPicPr/>
          <p:nvPr/>
        </p:nvPicPr>
        <p:blipFill>
          <a:blip r:embed="rId1"/>
          <a:stretch/>
        </p:blipFill>
        <p:spPr>
          <a:xfrm>
            <a:off x="2928960" y="1714680"/>
            <a:ext cx="301788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1071720" y="857160"/>
            <a:ext cx="761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лава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 кошуља           </a:t>
            </a:r>
            <a:r>
              <a:rPr b="1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атина</a:t>
            </a:r>
            <a:r>
              <a:rPr b="0" lang="sr-R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 кошуљ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Title 1"/>
          <p:cNvSpPr/>
          <p:nvPr/>
        </p:nvSpPr>
        <p:spPr>
          <a:xfrm>
            <a:off x="285840" y="5500800"/>
            <a:ext cx="307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ошуља </a:t>
            </a:r>
            <a:r>
              <a:rPr b="1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лаве бој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3143160" y="5500800"/>
            <a:ext cx="307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ошуља </a:t>
            </a:r>
            <a:r>
              <a:rPr b="1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угих рукав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Title 1"/>
          <p:cNvSpPr/>
          <p:nvPr/>
        </p:nvSpPr>
        <p:spPr>
          <a:xfrm>
            <a:off x="6072120" y="5500800"/>
            <a:ext cx="2786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ошуља </a:t>
            </a:r>
            <a:r>
              <a:rPr b="1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ог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тат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1" descr="Polo t — Stock Photo"/>
          <p:cNvPicPr/>
          <p:nvPr/>
        </p:nvPicPr>
        <p:blipFill>
          <a:blip r:embed="rId1"/>
          <a:stretch/>
        </p:blipFill>
        <p:spPr>
          <a:xfrm>
            <a:off x="2928960" y="2143080"/>
            <a:ext cx="3130560" cy="2786040"/>
          </a:xfrm>
          <a:prstGeom prst="rect">
            <a:avLst/>
          </a:prstGeom>
          <a:ln w="0">
            <a:noFill/>
          </a:ln>
        </p:spPr>
      </p:pic>
      <p:sp>
        <p:nvSpPr>
          <p:cNvPr id="252" name="Title 1"/>
          <p:cNvSpPr/>
          <p:nvPr/>
        </p:nvSpPr>
        <p:spPr>
          <a:xfrm>
            <a:off x="428760" y="107172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ајиц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ратких рукав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3143160" y="285840"/>
            <a:ext cx="31435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1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ајица за дечаке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5500800" y="128592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ајиц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с белом крагном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Title 1"/>
          <p:cNvSpPr/>
          <p:nvPr/>
        </p:nvSpPr>
        <p:spPr>
          <a:xfrm>
            <a:off x="357120" y="492912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ајиц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на раскопчавањ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Title 1"/>
          <p:cNvSpPr/>
          <p:nvPr/>
        </p:nvSpPr>
        <p:spPr>
          <a:xfrm>
            <a:off x="5286240" y="4929120"/>
            <a:ext cx="31435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3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ајица на пруге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4572000" y="928800"/>
            <a:ext cx="1500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1000080" y="1785960"/>
            <a:ext cx="2143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Straight Connector 14"/>
          <p:cNvSpPr/>
          <p:nvPr/>
        </p:nvSpPr>
        <p:spPr>
          <a:xfrm>
            <a:off x="5857920" y="1928880"/>
            <a:ext cx="2357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Straight Connector 17"/>
          <p:cNvSpPr/>
          <p:nvPr/>
        </p:nvSpPr>
        <p:spPr>
          <a:xfrm>
            <a:off x="642960" y="5643720"/>
            <a:ext cx="2500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Straight Connector 19"/>
          <p:cNvSpPr/>
          <p:nvPr/>
        </p:nvSpPr>
        <p:spPr>
          <a:xfrm>
            <a:off x="6786720" y="5572080"/>
            <a:ext cx="1571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Apple cake — Stock Photo, Image"/>
          <p:cNvPicPr/>
          <p:nvPr/>
        </p:nvPicPr>
        <p:blipFill>
          <a:blip r:embed="rId1"/>
          <a:stretch/>
        </p:blipFill>
        <p:spPr>
          <a:xfrm>
            <a:off x="642960" y="285840"/>
            <a:ext cx="3500280" cy="2333520"/>
          </a:xfrm>
          <a:prstGeom prst="rect">
            <a:avLst/>
          </a:prstGeom>
          <a:ln w="0">
            <a:noFill/>
          </a:ln>
        </p:spPr>
      </p:pic>
      <p:sp>
        <p:nvSpPr>
          <p:cNvPr id="263" name="Title 1"/>
          <p:cNvSpPr/>
          <p:nvPr/>
        </p:nvSpPr>
        <p:spPr>
          <a:xfrm>
            <a:off x="4714920" y="85716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олач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4" name="Picture 4" descr="Blurred Books Shelf Public Library Blurred Effect Background Your Pictures — Stock Photo, Image"/>
          <p:cNvPicPr/>
          <p:nvPr/>
        </p:nvPicPr>
        <p:blipFill>
          <a:blip r:embed="rId2"/>
          <a:srcRect l="5324" t="44619" r="1539" b="9234"/>
          <a:stretch/>
        </p:blipFill>
        <p:spPr>
          <a:xfrm>
            <a:off x="4714920" y="2500200"/>
            <a:ext cx="3076560" cy="2428920"/>
          </a:xfrm>
          <a:prstGeom prst="rect">
            <a:avLst/>
          </a:prstGeom>
          <a:ln w="0">
            <a:noFill/>
          </a:ln>
        </p:spPr>
      </p:pic>
      <p:sp>
        <p:nvSpPr>
          <p:cNvPr id="265" name="Title 1"/>
          <p:cNvSpPr/>
          <p:nvPr/>
        </p:nvSpPr>
        <p:spPr>
          <a:xfrm>
            <a:off x="1143000" y="357192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олиц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6" descr="Ceramic blue tea cup isolated on white — Stock Photo, Image"/>
          <p:cNvPicPr/>
          <p:nvPr/>
        </p:nvPicPr>
        <p:blipFill>
          <a:blip r:embed="rId3"/>
          <a:stretch/>
        </p:blipFill>
        <p:spPr>
          <a:xfrm>
            <a:off x="1071720" y="4572000"/>
            <a:ext cx="1882440" cy="1682640"/>
          </a:xfrm>
          <a:prstGeom prst="rect">
            <a:avLst/>
          </a:prstGeom>
          <a:ln w="0">
            <a:noFill/>
          </a:ln>
        </p:spPr>
      </p:pic>
      <p:sp>
        <p:nvSpPr>
          <p:cNvPr id="267" name="Title 1"/>
          <p:cNvSpPr/>
          <p:nvPr/>
        </p:nvSpPr>
        <p:spPr>
          <a:xfrm>
            <a:off x="3286080" y="550080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шољ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Orange juice — Stock Photo, Image"/>
          <p:cNvPicPr/>
          <p:nvPr/>
        </p:nvPicPr>
        <p:blipFill>
          <a:blip r:embed="rId1"/>
          <a:stretch/>
        </p:blipFill>
        <p:spPr>
          <a:xfrm>
            <a:off x="928800" y="285840"/>
            <a:ext cx="1955520" cy="2527200"/>
          </a:xfrm>
          <a:prstGeom prst="rect">
            <a:avLst/>
          </a:prstGeom>
          <a:ln w="0">
            <a:noFill/>
          </a:ln>
        </p:spPr>
      </p:pic>
      <p:sp>
        <p:nvSpPr>
          <p:cNvPr id="269" name="Title 1"/>
          <p:cNvSpPr/>
          <p:nvPr/>
        </p:nvSpPr>
        <p:spPr>
          <a:xfrm>
            <a:off x="4714920" y="85716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со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642960" y="321480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мајиц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Title 1"/>
          <p:cNvSpPr/>
          <p:nvPr/>
        </p:nvSpPr>
        <p:spPr>
          <a:xfrm>
            <a:off x="4857840" y="507204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футрол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2" name="Picture 4" descr="Black vest — Stock Photo, Image"/>
          <p:cNvPicPr/>
          <p:nvPr/>
        </p:nvPicPr>
        <p:blipFill>
          <a:blip r:embed="rId2"/>
          <a:stretch/>
        </p:blipFill>
        <p:spPr>
          <a:xfrm>
            <a:off x="5429160" y="1798560"/>
            <a:ext cx="2068560" cy="3014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Glasses in case — Stock Photo, Image"/>
          <p:cNvPicPr/>
          <p:nvPr/>
        </p:nvPicPr>
        <p:blipFill>
          <a:blip r:embed="rId3"/>
          <a:stretch/>
        </p:blipFill>
        <p:spPr>
          <a:xfrm>
            <a:off x="1000080" y="4500720"/>
            <a:ext cx="3071880" cy="2054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Silver braselet — Stock Photo, Image"/>
          <p:cNvPicPr/>
          <p:nvPr/>
        </p:nvPicPr>
        <p:blipFill>
          <a:blip r:embed="rId1"/>
          <a:stretch/>
        </p:blipFill>
        <p:spPr>
          <a:xfrm>
            <a:off x="500040" y="214200"/>
            <a:ext cx="3179880" cy="2309760"/>
          </a:xfrm>
          <a:prstGeom prst="rect">
            <a:avLst/>
          </a:prstGeom>
          <a:ln w="0">
            <a:noFill/>
          </a:ln>
        </p:spPr>
      </p:pic>
      <p:sp>
        <p:nvSpPr>
          <p:cNvPr id="275" name="Title 1"/>
          <p:cNvSpPr/>
          <p:nvPr/>
        </p:nvSpPr>
        <p:spPr>
          <a:xfrm>
            <a:off x="4714920" y="85716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наруквиц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714240" y="3214800"/>
            <a:ext cx="31435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каф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5214960" y="5357880"/>
            <a:ext cx="3143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b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лопт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5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__________________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8" name="Picture 4" descr="Cappuccino mug close up, with a heart decorated on top of foam. — Stock Photo, Image"/>
          <p:cNvPicPr/>
          <p:nvPr/>
        </p:nvPicPr>
        <p:blipFill>
          <a:blip r:embed="rId2"/>
          <a:stretch/>
        </p:blipFill>
        <p:spPr>
          <a:xfrm>
            <a:off x="4826160" y="2214720"/>
            <a:ext cx="3246120" cy="2500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Soccer ball — Stock Photo, Image"/>
          <p:cNvPicPr/>
          <p:nvPr/>
        </p:nvPicPr>
        <p:blipFill>
          <a:blip r:embed="rId3"/>
          <a:stretch/>
        </p:blipFill>
        <p:spPr>
          <a:xfrm>
            <a:off x="1214280" y="421488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6T19:07:17Z</dcterms:created>
  <dc:creator>Natasa</dc:creator>
  <dc:description/>
  <dc:language>en-US</dc:language>
  <cp:lastModifiedBy>Natasa</cp:lastModifiedBy>
  <dcterms:modified xsi:type="dcterms:W3CDTF">2021-09-26T20:37:20Z</dcterms:modified>
  <cp:revision>10</cp:revision>
  <dc:subject/>
  <dc:title>Неконгруентни атрибут</dc:title>
</cp:coreProperties>
</file>