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B37-8E83-48B8-A793-36C00BA6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F8E-E222-470C-AFF8-1651A6F8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A0C-0708-4D99-A4B8-488F022A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DF6-DB88-43F8-BD53-F18026FA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CBCD-90B1-479C-8436-402CA2E4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598F-D032-46DA-8DB2-31481C11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5E10-3692-4B94-BC49-E6A705B4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EE13-F17C-4E47-A9D8-2265A0D8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3F24-2C52-450E-8E35-0D603DC6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947B-0234-4E57-9FBE-8F4B1C20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BE3C-A6D4-423D-9F5B-16A9E54B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6CE-2B42-46D7-9DF2-2FA24E7B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CEF2-BB54-4941-BA4E-63AF1038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F28B-3F4F-4708-8A48-F8D2B73B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393E-22D8-465C-8537-C2EEC162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6B49-F20F-4684-A882-04EF173A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2075-029E-49F4-9419-C79E9AA9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68E77-D83D-499A-860F-B8AD8C02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BD40B-8D17-4B4D-9C84-16BC9AF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644A-0663-48E1-9C4F-E19F67DC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8793-2B7B-4642-82CE-E8987C06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0CAE2-F5C6-4D4A-B686-44F0F529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7A0-63DA-49FE-8475-B27AA31D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FFA7-CA94-4590-B3EB-5A75266C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F1DC-CCDD-43ED-B4EB-D61F4BEF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59C9-6642-40FB-9F2F-962931ED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7C5DE-22E1-4A87-94EC-6B26A2F0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58AC-C82F-4801-A1EC-A2F26D7E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26DC-C996-4CF7-B98D-456BDB75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8C93-DE25-4BC1-B016-96738A87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3AF9-DA43-4088-A348-22BB277C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CDA6C-A353-4059-81D7-C318F627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2D17-CF19-4DC4-B0FB-E9BBEB94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B88-442B-4FCC-9CCD-5F01422E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7B6F8-0143-402C-B93A-45201D86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9BDD8-D5A4-4D1D-8E10-2B2E9B73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7A32-6BCD-4B77-8CB7-D767F0DC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79221-1318-440F-9619-D9628E5D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15E8D-1E8F-40AD-B109-E3DE2227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694C-02ED-4681-9740-7E9973FD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8B2FF-FC5B-4984-ADDF-3226D283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6FDAC-1E34-40CC-896B-358B1139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D584-5186-4217-811C-EF388305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9BAA1-AF13-4B7D-9827-B6F32842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1C9-ECA3-4109-B5F4-92B97C07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62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64A1B-8430-4DB3-848B-C5CF2D15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589D5-3DEE-473D-A8B1-A8DE9299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5310A-B6F0-4B6B-8D7A-00FA0A78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5226-C455-4738-9E29-5BAF2F3E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80EC9-08DF-44F6-B1FA-A1EE1F7F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293D3-9A08-496E-9084-298D979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3F846-36A8-4BDA-9E26-9BF45E4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520B8-5E91-4088-9240-A98D7FB3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B8DA0-588D-4639-83CD-90A86966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495F-8FD1-414B-A6CB-6F1CA365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76320"/>
            <a:ext cx="7620120" cy="64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1E3-7F70-43F1-9900-BE91162B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424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90760" y="170172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772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424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90760" y="4037040"/>
            <a:ext cx="245340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34F6-5805-47DC-BA7D-242A2EA7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8BF-BE42-4249-8959-E56B689D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2640" y="403704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6A3-BC11-4FDC-82D6-CC507BF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2640" y="1701720"/>
            <a:ext cx="371844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4037040"/>
            <a:ext cx="7620120" cy="2132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indent="0">
              <a:lnSpc>
                <a:spcPct val="95000"/>
              </a:lnSpc>
              <a:spcBef>
                <a:spcPts val="1862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248-1FFA-42CB-8638-A7A1B44F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D5BA-58E8-4209-9061-0B591444173F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48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1"/>
            <p:cNvGrpSpPr/>
            <p:nvPr/>
          </p:nvGrpSpPr>
          <p:grpSpPr>
            <a:xfrm>
              <a:off x="0" y="0"/>
              <a:ext cx="3544920" cy="6858000"/>
              <a:chOff x="0" y="0"/>
              <a:chExt cx="3544920" cy="6858000"/>
            </a:xfrm>
          </p:grpSpPr>
          <p:pic>
            <p:nvPicPr>
              <p:cNvPr id="50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34448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Rectangle 14"/>
              <p:cNvSpPr/>
              <p:nvPr/>
            </p:nvSpPr>
            <p:spPr>
              <a:xfrm>
                <a:off x="3441960" y="0"/>
                <a:ext cx="102960" cy="6858000"/>
              </a:xfrm>
              <a:prstGeom prst="rect">
                <a:avLst/>
              </a:prstGeom>
              <a:solidFill>
                <a:srgbClr val="455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D852-2F6D-4D6D-BA47-2B9A67177C15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94" name="Rectangle 11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2" descr=""/>
            <p:cNvPicPr/>
            <p:nvPr/>
          </p:nvPicPr>
          <p:blipFill>
            <a:blip r:embed="rId3"/>
            <a:stretch/>
          </p:blipFill>
          <p:spPr>
            <a:xfrm>
              <a:off x="5700960" y="0"/>
              <a:ext cx="3444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5613120" y="0"/>
              <a:ext cx="101520" cy="6858000"/>
            </a:xfrm>
            <a:prstGeom prst="rect">
              <a:avLst/>
            </a:pr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14" descr=""/>
          <p:cNvPicPr/>
          <p:nvPr/>
        </p:nvPicPr>
        <p:blipFill>
          <a:blip r:embed="rId4"/>
          <a:stretch/>
        </p:blipFill>
        <p:spPr>
          <a:xfrm>
            <a:off x="5700600" y="0"/>
            <a:ext cx="344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5CE7-B313-4559-AE97-9E6EC90F584E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40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2971800" y="0"/>
            <a:ext cx="59436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4A51-E8C0-487B-928E-B9A2295A34E7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6"/>
          <p:cNvGrpSpPr/>
          <p:nvPr/>
        </p:nvGrpSpPr>
        <p:grpSpPr>
          <a:xfrm>
            <a:off x="1440" y="0"/>
            <a:ext cx="9144000" cy="6858000"/>
            <a:chOff x="1440" y="0"/>
            <a:chExt cx="9144000" cy="6858000"/>
          </a:xfrm>
        </p:grpSpPr>
        <p:sp>
          <p:nvSpPr>
            <p:cNvPr id="185" name="Rectangle 9"/>
            <p:cNvSpPr/>
            <p:nvPr/>
          </p:nvSpPr>
          <p:spPr>
            <a:xfrm>
              <a:off x="144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d671b"/>
                </a:gs>
                <a:gs pos="50000">
                  <a:srgbClr val="d6eaaf"/>
                </a:gs>
                <a:gs pos="100000">
                  <a:srgbClr val="4d67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228240" y="0"/>
              <a:ext cx="8686800" cy="6858000"/>
            </a:xfrm>
            <a:prstGeom prst="rect">
              <a:avLst/>
            </a:prstGeom>
            <a:solidFill>
              <a:srgbClr val="ebf5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562040" y="0"/>
            <a:ext cx="601992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837720" y="1701720"/>
            <a:ext cx="7620120" cy="44704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008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5740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36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09880" indent="-30348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09880" indent="-303480">
              <a:lnSpc>
                <a:spcPct val="95000"/>
              </a:lnSpc>
              <a:spcBef>
                <a:spcPts val="1862"/>
              </a:spcBef>
              <a:buClr>
                <a:srgbClr val="000000"/>
              </a:buClr>
              <a:buFont typeface="Century Gothic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31521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37720" y="6400440"/>
            <a:ext cx="205740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31840" y="6400440"/>
            <a:ext cx="46623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628040" y="6400440"/>
            <a:ext cx="830160" cy="320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3028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3D2A-D5E3-4BDB-B6A7-1578F9674D78}" type="slidenum">
              <a:rPr b="0" lang="en-US" sz="1200" spc="-1" strike="noStrike">
                <a:solidFill>
                  <a:srgbClr val="233028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660480" y="4927320"/>
            <a:ext cx="5257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1862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31521b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660480" y="1498320"/>
            <a:ext cx="5257800" cy="329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400" spc="-1" strike="noStrike">
                <a:solidFill>
                  <a:srgbClr val="455f51"/>
                </a:solidFill>
                <a:latin typeface="Times New Roman"/>
                <a:ea typeface="Times New Roman"/>
              </a:rPr>
              <a:t>Припрема за контролни задатак</a:t>
            </a:r>
            <a:endParaRPr b="0" lang="en-US" sz="54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ео је мобилни телефон да 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и ТВ ___________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м код другарице ____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ала је Ану ________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ћемо улазнице ____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си воде __________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 у библиотеку _________________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5. Допуни започете реченице тако да искажеш циљ вршења радње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762120" y="1219320"/>
            <a:ext cx="7619760" cy="477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150000"/>
              </a:lnSpc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 учи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ти добру оцен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ла је вредно да добије добру оцен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150000"/>
              </a:lnSpc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ти па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ћи на тренинг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150000"/>
              </a:lnSpc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ети торб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ковати књиг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150000"/>
              </a:lnSpc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орити орм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ти гардероб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150000"/>
              </a:lnSpc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ити рачун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и електронск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у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150000"/>
              </a:lnSpc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ћи у биоско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едати нови филм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150000"/>
              </a:lnSpc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6.</a:t>
            </a:r>
            <a:r>
              <a:rPr b="0" lang="ru-RU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 Од датих речи састави реченице по угледу на урађени пример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77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так смо ишли пре подне у школу. Кад се настава завршила, позвао сам друга. Питао сам га: „Да ли хоћеш да идемо сутра увече у биоскоп?” Одговорио је да може и питао: „Где ћемо се наћи?” Рекао сам да ћу га чекати у 8 сати испред биоскопа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Диктат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772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ца нам је објаснила да како урадимо задатак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ла је да ли смо све разумели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 смо одговорили да нам је све јасно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 је да ћемо у петак радити контролни задатак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авила је да шта ће бити на контролном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1. Исправи грешке у реченицама. Ако је реченица тачна, само је прочитај наглас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7720" y="30492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ли смо је да да ли ће дати и ново градиво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ла нам је да нећ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 знамо да шта можемо да очекујемо у петак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урни смо да ћемо добро урадити контролни и да ћемо добити добре оцен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о бих да добијем петицу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рица ме је замолила: „Позајми ми своју свеску.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 сам јој: „Може, али мораш ми је вратити што пре.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ла ме је: „Да ли могу да је задржим до петка?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ла сам: „Да, али у петак је обавезно донеси у школу.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2. Пребаци реченице у индиректни говор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6840" y="5331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о сам маму: „Када ће бити ручак?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ла ми је: „Скоро је спреман, можеш поставити сто.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 је: „Зови и брата да ручамо сви заједно.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о сам брату: „Мама је рекла да дођеш на ручак.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је казао: „Долазим чим завршим домаћи задатак.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8000"/>
          </a:bodyPr>
          <a:p>
            <a:pPr marL="297000" indent="-29700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 је питала када ћемо доћи код њ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7000" indent="-29700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ћали смо јој да ћемо доћи у недељу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7000" indent="-29700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 је да ће нам направити колач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7000" indent="-29700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нас је замолила да баки однесемо ово цвећ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7000" indent="-29700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ли смо да ћемо то радо учинит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7000" indent="-29700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ли смо да ли треба да урадимо још нешто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3. Пребаци реченице из индиректног у директни говор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 fontScale="97000"/>
          </a:bodyPr>
          <a:p>
            <a:pPr marL="293760" indent="-29376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ка је питала: „Када ћете доћи код мене?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3760" indent="-29376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ћали смо јој „Доћи ћемо у недељу.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3760" indent="-29376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ла је: „Направићу вам колаче.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3760" indent="-29376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а нас је замолила: „Однесите баки ово цвеће.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3760" indent="-29376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говорили смо: „Радо ћемо то учинити.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3760" indent="-29376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тали смо: „Да ли треба да урадимо још нешто?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3. Решења задатака: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7720" y="11430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rmAutofit/>
          </a:bodyPr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недеље у школу идемо после подне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дне ћу ићи код другарице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 преподнева сам вежбао математику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03120" indent="-303120">
              <a:lnSpc>
                <a:spcPct val="95000"/>
              </a:lnSpc>
              <a:spcBef>
                <a:spcPts val="1862"/>
              </a:spcBef>
              <a:buClr>
                <a:srgbClr val="08a5ef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уботу пре подне идем на тренинг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31521b"/>
                </a:solidFill>
                <a:latin typeface="Times New Roman"/>
                <a:ea typeface="Times New Roman"/>
              </a:rPr>
              <a:t>Подсетимо се.</a:t>
            </a:r>
            <a:endParaRPr b="0" lang="en-US" sz="3600" spc="-1" strike="noStrike">
              <a:solidFill>
                <a:srgbClr val="31521b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457200" y="228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основу фотографија и датих података састави реченице тако да кажеш шта је Игор радио прошле недеље. Прецизно искажи место и време вршења његових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Young happy student carrying books — Stock Photo, Image"/>
          <p:cNvPicPr/>
          <p:nvPr/>
        </p:nvPicPr>
        <p:blipFill>
          <a:blip r:embed="rId1"/>
          <a:stretch/>
        </p:blipFill>
        <p:spPr>
          <a:xfrm>
            <a:off x="566640" y="1457280"/>
            <a:ext cx="1878120" cy="2260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Young group of students in campus — Stock Photo, Image"/>
          <p:cNvPicPr/>
          <p:nvPr/>
        </p:nvPicPr>
        <p:blipFill>
          <a:blip r:embed="rId2"/>
          <a:stretch/>
        </p:blipFill>
        <p:spPr>
          <a:xfrm>
            <a:off x="2620800" y="1457280"/>
            <a:ext cx="3030840" cy="2077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Young student studying at the school garden — Stock Photo, Image"/>
          <p:cNvPicPr/>
          <p:nvPr/>
        </p:nvPicPr>
        <p:blipFill>
          <a:blip r:embed="rId3"/>
          <a:stretch/>
        </p:blipFill>
        <p:spPr>
          <a:xfrm>
            <a:off x="5668920" y="1457280"/>
            <a:ext cx="2846520" cy="2163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Swimming - Stock Image — Stock Photo, Image"/>
          <p:cNvPicPr/>
          <p:nvPr/>
        </p:nvPicPr>
        <p:blipFill>
          <a:blip r:embed="rId4"/>
          <a:stretch/>
        </p:blipFill>
        <p:spPr>
          <a:xfrm>
            <a:off x="1481040" y="4200480"/>
            <a:ext cx="2541600" cy="1871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Skateboarder — Stock Photo, Image"/>
          <p:cNvPicPr/>
          <p:nvPr/>
        </p:nvPicPr>
        <p:blipFill>
          <a:blip r:embed="rId5"/>
          <a:stretch/>
        </p:blipFill>
        <p:spPr>
          <a:xfrm>
            <a:off x="5364000" y="4200480"/>
            <a:ext cx="1859040" cy="18590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1"/>
          <p:cNvSpPr/>
          <p:nvPr/>
        </p:nvSpPr>
        <p:spPr>
          <a:xfrm>
            <a:off x="596520" y="3507120"/>
            <a:ext cx="67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4410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86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15868"/>
                </a:solidFill>
                <a:latin typeface="Times New Roman"/>
                <a:ea typeface="Times New Roman"/>
              </a:rPr>
              <a:t>петак                                петак                                су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4410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е подне                         после наставе                  пре под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143000" y="602172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4410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868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215868"/>
                </a:solidFill>
                <a:latin typeface="Times New Roman"/>
                <a:ea typeface="Times New Roman"/>
              </a:rPr>
              <a:t>субота                                                    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4410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десет сати ујутру                                после под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5T01:00:41Z</dcterms:created>
  <dc:creator>a4</dc:creator>
  <dc:description/>
  <dc:language>en-US</dc:language>
  <cp:lastModifiedBy>Natasa</cp:lastModifiedBy>
  <dcterms:modified xsi:type="dcterms:W3CDTF">2021-04-18T13:28:34Z</dcterms:modified>
  <cp:revision>14</cp:revision>
  <dc:subject/>
  <dc:title>Припрема за контролни задатак</dc:title>
</cp:coreProperties>
</file>