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BD5E-3040-4BF9-BA58-64E7D129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EF3D-A7A2-43D4-9C3B-8C8B3392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57B-4BFA-49B2-9172-4364B3EB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38CA-C533-4D17-B9CF-226CAD5F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C21A-527C-46CC-80C2-2030D4C4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CA38-BD94-4CD9-B583-F8BCF616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5D13-B8AD-498D-8DF9-10DB3890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AFAA-3767-4504-8BA0-146FD53F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FF9C-0177-4D78-89AB-001C002B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C3F5-4684-46C6-8E7B-5A435B2F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533A-2B10-4266-8D41-07A116DE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5DDF-FD52-4ADA-BADE-9B064E6C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34A6-D47E-48E0-9775-644F0D51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2897-E84D-4614-96B9-4D0F182D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BA2C-948E-411B-96E8-0DAC293F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0EB0-8D09-45BE-985A-F1294308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25A2-E221-4316-B378-6D81D35A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B3D43-6EB7-4A62-BFCA-186A8C76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CF87A-9BF0-4065-955E-7EE0BD8C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50BF7-AFD8-4253-8DB0-CFA48056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818FC-4BD0-4E22-B593-B6D6477F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75269-6732-4DA0-8066-EC75F590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666C-8220-4804-A364-F1FD4274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ECCBB-7B00-4126-940F-09A55D25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5C0C7-AAED-48AF-AE70-ADCB2BD4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C082B-A6B7-4AF8-8850-FFCD06D9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68D92-FC45-4586-912C-82F7BA8D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530B9-D270-4A33-B8D5-026144D5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9CCAF-080F-4A18-9E8D-12D853B9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DB1C3-6F99-4F1B-A324-453DE22B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A9C8E-BB43-40BE-8505-DF12E33E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42602-9056-44FC-BFB5-B92F2212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90121-4B77-4913-966F-5FEFEC87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22C-92D8-4E46-BE11-B4DC37F4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4C2C3-9044-401B-BAC5-AC9ED7D9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94AD4-FF49-4D4A-8A81-609E0F0B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B0D15-3FA3-447C-97D8-9E0C7711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F60B0-BA5F-4F08-A352-B193C8B0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66722-E06B-4ED6-90A1-B188DE0A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CE0DC-E9A4-4B36-8116-A149CEC3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DE84B-30AE-45A7-AC5E-93933194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BE400-4E5D-44E2-B450-EEA5C930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2C404-ED64-4C60-A59B-19F97022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3022F-F507-4ECC-BBAD-15266446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98D1-34FB-493C-A87D-711CB99B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F5C00-2887-4C22-A756-6629A0B3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EC19A-152D-49D7-898C-4F619EA0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05E99-ECAB-4FE4-ACD4-6DA57FBA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4809A-8FC6-4E2E-A7A2-BA911740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4AE9E-41D8-491A-AED9-C32F8E1B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E3886-5148-4617-B379-E96D1B91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8DB0D-5622-4CCA-8790-E0D05F77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5BC49-0186-4414-BB9F-A14EE2A8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2AD4C-629A-4C22-AB7E-A2824C63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7663D-7330-4B02-9D43-4B87E42D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6CE-2449-48E6-913E-478B84A8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39483-17AE-4C89-ACDA-36EC1D38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2DAA-732C-4489-B676-7FCE7B9D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8CD4-ED82-4CC1-B2E7-14138CB2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2C50-975B-48CB-837D-3447C640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"/>
          <p:cNvGrpSpPr/>
          <p:nvPr/>
        </p:nvGrpSpPr>
        <p:grpSpPr>
          <a:xfrm>
            <a:off x="6480" y="0"/>
            <a:ext cx="9140760" cy="6858000"/>
            <a:chOff x="6480" y="0"/>
            <a:chExt cx="9140760" cy="6858000"/>
          </a:xfrm>
        </p:grpSpPr>
        <p:sp>
          <p:nvSpPr>
            <p:cNvPr id="1" name="Rectangle 3"/>
            <p:cNvSpPr/>
            <p:nvPr/>
          </p:nvSpPr>
          <p:spPr>
            <a:xfrm>
              <a:off x="6480" y="0"/>
              <a:ext cx="9140760" cy="6858000"/>
            </a:xfrm>
            <a:prstGeom prst="rect">
              <a:avLst/>
            </a:prstGeom>
            <a:solidFill>
              <a:srgbClr val="e0c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14"/>
            <p:cNvSpPr/>
            <p:nvPr/>
          </p:nvSpPr>
          <p:spPr>
            <a:xfrm>
              <a:off x="1106640" y="0"/>
              <a:ext cx="71280" cy="6858000"/>
            </a:xfrm>
            <a:prstGeom prst="rect">
              <a:avLst/>
            </a:prstGeom>
            <a:solidFill>
              <a:srgbClr val="20190b"/>
            </a:solidFill>
            <a:ln w="0">
              <a:noFill/>
            </a:ln>
            <a:effectLst>
              <a:outerShdw dist="38160" dir="10800000" blurRad="0" rotWithShape="0">
                <a:srgbClr val="726a5c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"/>
            <p:cNvPicPr/>
            <p:nvPr/>
          </p:nvPicPr>
          <p:blipFill>
            <a:blip r:embed="rId2"/>
            <a:stretch/>
          </p:blipFill>
          <p:spPr>
            <a:xfrm>
              <a:off x="6480" y="0"/>
              <a:ext cx="11214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329D-3616-4272-B6E2-D694EB635DA4}" type="slidenum"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5"/>
          <p:cNvGrpSpPr/>
          <p:nvPr/>
        </p:nvGrpSpPr>
        <p:grpSpPr>
          <a:xfrm>
            <a:off x="6480" y="0"/>
            <a:ext cx="9140760" cy="6858000"/>
            <a:chOff x="6480" y="0"/>
            <a:chExt cx="9140760" cy="6858000"/>
          </a:xfrm>
        </p:grpSpPr>
        <p:sp>
          <p:nvSpPr>
            <p:cNvPr id="46" name="Rectangle 3"/>
            <p:cNvSpPr/>
            <p:nvPr/>
          </p:nvSpPr>
          <p:spPr>
            <a:xfrm>
              <a:off x="6480" y="0"/>
              <a:ext cx="9140760" cy="6858000"/>
            </a:xfrm>
            <a:prstGeom prst="rect">
              <a:avLst/>
            </a:prstGeom>
            <a:solidFill>
              <a:srgbClr val="e0c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4"/>
            <p:cNvSpPr/>
            <p:nvPr/>
          </p:nvSpPr>
          <p:spPr>
            <a:xfrm>
              <a:off x="1106640" y="0"/>
              <a:ext cx="71280" cy="6858000"/>
            </a:xfrm>
            <a:prstGeom prst="rect">
              <a:avLst/>
            </a:prstGeom>
            <a:solidFill>
              <a:srgbClr val="20190b"/>
            </a:solidFill>
            <a:ln w="0">
              <a:noFill/>
            </a:ln>
            <a:effectLst>
              <a:outerShdw dist="38160" dir="10800000" blurRad="0" rotWithShape="0">
                <a:srgbClr val="726a5c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2" descr=""/>
            <p:cNvPicPr/>
            <p:nvPr/>
          </p:nvPicPr>
          <p:blipFill>
            <a:blip r:embed="rId2"/>
            <a:stretch/>
          </p:blipFill>
          <p:spPr>
            <a:xfrm>
              <a:off x="6480" y="0"/>
              <a:ext cx="11214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90C4-7209-4EB0-BC22-CFE7F82A5DAC}" type="slidenum"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cb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E89E-669E-40DF-AF41-A2BBD6BBDDC5}" type="slidenum"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cb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2D20-87C0-462B-89A8-D8158CA87D9A}" type="slidenum"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cb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10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174" name="Rectangle 10" descr=""/>
            <p:cNvPicPr/>
            <p:nvPr/>
          </p:nvPicPr>
          <p:blipFill>
            <a:blip r:embed="rId2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Flowchart: Process 11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3d9a7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lowchart: Process 12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dc3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BF88-891C-4669-94CD-2348B9C9FD74}" type="slidenum"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1179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Присвојни придеви на -ји и -њи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431720" y="2670120"/>
            <a:ext cx="7407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4b6d2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One Small Good Thing | what happens when I set myself the goal of ... | Spring  flowers wallpaper, Pictures of spring flowers, Spring flowers images"/>
          <p:cNvPicPr/>
          <p:nvPr/>
        </p:nvPicPr>
        <p:blipFill>
          <a:blip r:embed="rId1"/>
          <a:stretch/>
        </p:blipFill>
        <p:spPr>
          <a:xfrm>
            <a:off x="1523880" y="814320"/>
            <a:ext cx="7086600" cy="39862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"/>
          <p:cNvSpPr/>
          <p:nvPr/>
        </p:nvSpPr>
        <p:spPr>
          <a:xfrm>
            <a:off x="3517200" y="5181480"/>
            <a:ext cx="32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ећно цвећ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3529440" y="5181480"/>
            <a:ext cx="28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сење лишћ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Autumn leaves – free photo on Barnimages"/>
          <p:cNvPicPr/>
          <p:nvPr/>
        </p:nvPicPr>
        <p:blipFill>
          <a:blip r:embed="rId1"/>
          <a:stretch/>
        </p:blipFill>
        <p:spPr>
          <a:xfrm>
            <a:off x="1898640" y="685800"/>
            <a:ext cx="61786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519000" y="5181480"/>
            <a:ext cx="27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лећа кр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Domino's Copycat Chicken Wings Recipe"/>
          <p:cNvPicPr/>
          <p:nvPr/>
        </p:nvPicPr>
        <p:blipFill>
          <a:blip r:embed="rId1"/>
          <a:stretch/>
        </p:blipFill>
        <p:spPr>
          <a:xfrm>
            <a:off x="1523880" y="990720"/>
            <a:ext cx="7086600" cy="398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3505680" y="5181480"/>
            <a:ext cx="25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з(и)ји с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What is goat cheese and why is everyone talking about it? | The Times of  India"/>
          <p:cNvPicPr/>
          <p:nvPr/>
        </p:nvPicPr>
        <p:blipFill>
          <a:blip r:embed="rId1"/>
          <a:stretch/>
        </p:blipFill>
        <p:spPr>
          <a:xfrm>
            <a:off x="1447920" y="1166760"/>
            <a:ext cx="4724280" cy="3557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Goat | Jurassic World Evolution Wiki | Fandom"/>
          <p:cNvPicPr/>
          <p:nvPr/>
        </p:nvPicPr>
        <p:blipFill>
          <a:blip r:embed="rId2"/>
          <a:stretch/>
        </p:blipFill>
        <p:spPr>
          <a:xfrm>
            <a:off x="6248520" y="1752480"/>
            <a:ext cx="167616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520440" y="518148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ч(и)је пе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Bird Feathers : Twootz.com"/>
          <p:cNvPicPr/>
          <p:nvPr/>
        </p:nvPicPr>
        <p:blipFill>
          <a:blip r:embed="rId1"/>
          <a:stretch/>
        </p:blipFill>
        <p:spPr>
          <a:xfrm>
            <a:off x="1828800" y="990720"/>
            <a:ext cx="536580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3519720" y="5181480"/>
            <a:ext cx="30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ич(и)ји ре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foxtail - Wiktionary"/>
          <p:cNvPicPr/>
          <p:nvPr/>
        </p:nvPicPr>
        <p:blipFill>
          <a:blip r:embed="rId1"/>
          <a:stretch/>
        </p:blipFill>
        <p:spPr>
          <a:xfrm>
            <a:off x="1676520" y="760320"/>
            <a:ext cx="6324480" cy="4116600"/>
          </a:xfrm>
          <a:prstGeom prst="rect">
            <a:avLst/>
          </a:prstGeom>
          <a:ln w="0">
            <a:noFill/>
          </a:ln>
        </p:spPr>
      </p:pic>
      <p:cxnSp>
        <p:nvCxnSpPr>
          <p:cNvPr id="234" name="Straight Arrow Connector 5"/>
          <p:cNvCxnSpPr/>
          <p:nvPr/>
        </p:nvCxnSpPr>
        <p:spPr>
          <a:xfrm flipH="1" flipV="1">
            <a:off x="6324480" y="2666160"/>
            <a:ext cx="2439000" cy="1143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512880" y="5181480"/>
            <a:ext cx="28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ђа ша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Canadian firefighters discover bear paw in Chinese restaurant fridge - New  York Daily News"/>
          <p:cNvPicPr/>
          <p:nvPr/>
        </p:nvPicPr>
        <p:blipFill>
          <a:blip r:embed="rId1"/>
          <a:stretch/>
        </p:blipFill>
        <p:spPr>
          <a:xfrm>
            <a:off x="2057400" y="990720"/>
            <a:ext cx="538488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5T12:49:51Z</dcterms:created>
  <dc:creator>a4</dc:creator>
  <dc:description/>
  <dc:language>en-US</dc:language>
  <cp:lastModifiedBy>Natasa</cp:lastModifiedBy>
  <dcterms:modified xsi:type="dcterms:W3CDTF">2021-04-18T14:42:58Z</dcterms:modified>
  <cp:revision>2</cp:revision>
  <dc:subject/>
  <dc:title>Присвојни придеви на -ји и -њи</dc:title>
</cp:coreProperties>
</file>