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380-3335-4DD7-A14C-E2D465B6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483-FEAB-4EF0-8C7F-07411F05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42F-28BC-4B4F-AE8A-F8DBFF9D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B0E-AA85-4A40-8867-DFFDC438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FEB6-5A99-4436-B805-4058F59A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0E0F-6F7C-42E1-BDCD-E4F5D14E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E08A-B192-466C-A49D-7F627137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3AD0-2C3C-42A9-A95D-41EE27F0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B08C-E90E-4B8C-A227-823DCDE8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E59E-3093-4D0A-A39D-652589B8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2308-84EB-4CA6-97F0-4431355E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9C8-97A9-4DA1-9BAC-2128C894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25C0-1B6E-4E17-861E-5FBEC0E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3FB5-1B16-44D3-8D92-6608D8A4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1ABA-3077-4EC6-B3E1-C10FC801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E61E-2D41-4DD4-BDD3-C31C074A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74B2-BDD1-4045-AEAD-1E5C5331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2119-480D-4362-B963-E69CEB07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56671-125C-4AAF-96E7-ACDA5C5A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F36F-A763-4245-8A4A-0D857F8F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3256-1C16-41EF-9385-E1C2B6CA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9AF7-AB0A-42F9-B0E1-B77B7466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5A2-4809-4689-AC42-780C19D9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097AD-81AA-49BE-973E-71B73324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6249-9D09-44BA-A876-BD2527C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05C6E-1660-449B-9613-D29374F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AF8D-9458-46AF-89DC-66381172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3A71-C110-43A8-848A-AECD5874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65AA-5688-4C12-AD75-C1DD42B7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EAF92-F233-4B3C-A2ED-44D283C7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4FA34-CCBB-4334-9C60-AE9EB1D1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17A3-5F34-49D1-90DB-0B62FFFD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1015-F382-4F02-B603-D90943D3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709-032A-4D30-86FA-F9B4C702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027A-F1EB-4693-9A5A-61D9CF5A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95E5-67B1-4E90-A7FB-99AB0602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AA33-32F5-47C6-B538-AC4CBA6C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E6F7-E9CA-4E81-98CD-BEB74D43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5131-A81A-49A6-9081-CC5F6683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57AC5-B8A8-4FCC-AD2F-02F2EF36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9B09-D950-4056-B29C-B8ECFE1D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6D40-F87C-4BD1-A947-6E9DD0D3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90BC-0697-43BF-8E04-A4E60C38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0F10-5EAD-4551-B96B-D7A251E2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D75-D17F-4824-A07A-9F2098D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DD50F-6E22-4614-A08B-1732D354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83142-E1DA-4691-9A60-0A80CFA5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6630-2928-4D00-B468-E7C5A376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33D8-B1A4-44E2-9CAA-B6473574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EBDE-3ADB-4C56-B367-A9338B56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10AB-D585-4FCE-B0E3-2BE64A0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6D2F-3FBF-4D5C-88B3-12074814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A3DC-91F1-419F-BA28-ECCFE3C9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A8E4-B4B0-4ECC-B78A-4AC47CA4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64A01-054B-4A13-8E2F-619DF42C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122-7BF2-4B52-8BF7-53D34034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B160A-42E6-4E7D-968E-BFDB8DC9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3A5D-5656-41CB-B417-42D45FDF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B751-DC1A-48B4-8D7F-E5B94239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92F8E-8F7F-4189-B7D4-C54D1DD3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72066-247E-40FE-8580-2ED99ED3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C4D51-726C-49B4-94B6-B456C4D0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745C-C6F6-413C-996B-A505FE7F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DAC4D-A657-47E1-BF34-A74BF42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39E6B-2DCD-4F48-B0BD-63E97507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79306-4467-474D-ACB1-4C3AAE62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A89-0660-49BB-9119-6A9EAF7E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E7880-E773-4175-845B-204F1F0F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04222-59D9-4809-82D0-7F7EACCF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067A9-BA2A-4EEC-90DD-A22B8500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CA7F-A20B-4B43-80F9-4D0085F7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401D6-940B-4DF9-9073-04D9FE9E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A9A0-F254-46F3-B7C0-E0D462C0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EC4A6-DCD3-4F85-87D0-8758EDE5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C5D10-F143-4358-8D86-C71A5954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C8A4-7CE1-4CA4-8947-AC67B98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B7505-818A-4368-99DC-0F99E3B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2B8-CC55-41F9-B743-AA43D06B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3D205-6A26-4EE6-B358-EF82CE0D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6EA2-E037-48F9-A3E2-5A3E56BE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C199E-7218-432F-971A-23146284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544C1-4E9C-4A5D-A504-EC06FF48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C1777-A61A-45C4-B44F-8179CDD3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7DB-5186-4633-A3AC-EA62FD1E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621-ED1F-4539-8646-9E80482AFB4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83E4-C267-43E4-9AD5-C0CAA266ACF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32E6-3C71-41E6-8C1F-E40EE6CCBC6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7604-4D66-44EF-B760-87E14157270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5DE3-8D5B-4BCF-92DD-65F8F5592E0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72D3-C8A6-4500-9101-DF0C7682DB5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F4B6-F4CB-43EF-86D0-F26A705F0F5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Fifa - one of the famous sporting events - flags of particpating countries "/>
          <p:cNvPicPr/>
          <p:nvPr/>
        </p:nvPicPr>
        <p:blipFill>
          <a:blip r:embed="rId1"/>
          <a:stretch/>
        </p:blipFill>
        <p:spPr>
          <a:xfrm>
            <a:off x="866880" y="990720"/>
            <a:ext cx="7134120" cy="39621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2"/>
          <p:cNvSpPr/>
          <p:nvPr/>
        </p:nvSpPr>
        <p:spPr>
          <a:xfrm>
            <a:off x="1376280" y="5181480"/>
            <a:ext cx="58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etsko prvenstvo u fudbalu FIF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UEFA champiopships - one of the famous sporting events - winners trophy"/>
          <p:cNvPicPr/>
          <p:nvPr/>
        </p:nvPicPr>
        <p:blipFill>
          <a:blip r:embed="rId1"/>
          <a:stretch/>
        </p:blipFill>
        <p:spPr>
          <a:xfrm>
            <a:off x="957240" y="685800"/>
            <a:ext cx="7272360" cy="40384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1359720" y="518148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EFA Liga šampi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Top 10 Biggest Sports Events In The World - YouTube"/>
          <p:cNvPicPr/>
          <p:nvPr/>
        </p:nvPicPr>
        <p:blipFill>
          <a:blip r:embed="rId1"/>
          <a:stretch/>
        </p:blipFill>
        <p:spPr>
          <a:xfrm>
            <a:off x="685800" y="647640"/>
            <a:ext cx="7924680" cy="44578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1382760" y="518148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mpijske ig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4cvrae36tncmfo8js2vheleb.wpengine.netdna-cdn.com/wp-content/uploads/2019/10/tennis.png"/>
          <p:cNvPicPr/>
          <p:nvPr/>
        </p:nvPicPr>
        <p:blipFill>
          <a:blip r:embed="rId1"/>
          <a:stretch/>
        </p:blipFill>
        <p:spPr>
          <a:xfrm>
            <a:off x="762120" y="762120"/>
            <a:ext cx="7683480" cy="42670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"/>
          <p:cNvSpPr/>
          <p:nvPr/>
        </p:nvSpPr>
        <p:spPr>
          <a:xfrm>
            <a:off x="1371240" y="518148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mbldonski turn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http://4cvrae36tncmfo8js2vheleb.wpengine.netdna-cdn.com/wp-content/uploads/2019/10/cycling.png"/>
          <p:cNvPicPr/>
          <p:nvPr/>
        </p:nvPicPr>
        <p:blipFill>
          <a:blip r:embed="rId1"/>
          <a:stretch/>
        </p:blipFill>
        <p:spPr>
          <a:xfrm>
            <a:off x="685800" y="914400"/>
            <a:ext cx="7683480" cy="42670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"/>
          <p:cNvSpPr/>
          <p:nvPr/>
        </p:nvSpPr>
        <p:spPr>
          <a:xfrm>
            <a:off x="1373040" y="5181480"/>
            <a:ext cx="22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 de F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http://4cvrae36tncmfo8js2vheleb.wpengine.netdna-cdn.com/wp-content/uploads/2019/10/car-race.png"/>
          <p:cNvPicPr/>
          <p:nvPr/>
        </p:nvPicPr>
        <p:blipFill>
          <a:blip r:embed="rId1"/>
          <a:stretch/>
        </p:blipFill>
        <p:spPr>
          <a:xfrm>
            <a:off x="609480" y="914400"/>
            <a:ext cx="7683480" cy="42670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2"/>
          <p:cNvSpPr/>
          <p:nvPr/>
        </p:nvSpPr>
        <p:spPr>
          <a:xfrm>
            <a:off x="1379160" y="5181480"/>
            <a:ext cx="18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Basket ball, one of the popular sporting events - in action"/>
          <p:cNvPicPr/>
          <p:nvPr/>
        </p:nvPicPr>
        <p:blipFill>
          <a:blip r:embed="rId1"/>
          <a:stretch/>
        </p:blipFill>
        <p:spPr>
          <a:xfrm>
            <a:off x="609480" y="685800"/>
            <a:ext cx="7547040" cy="41911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1292400" y="50292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A l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c1eeff"/>
                </a:solidFill>
                <a:latin typeface="Consolas"/>
              </a:rPr>
              <a:t>Pisanje skraćenic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A / ФИФА / Фифа (из Фифе, Фифин...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I/О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EFA / УЕФА / Уефа (Уефе, Уефи...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BA/НБА (приликом читања: ен-би-еј или ен-би-а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НБА лига; УЕФА правилник; ФИФА суд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4T18:26:09Z</dcterms:created>
  <dc:creator>a4</dc:creator>
  <dc:description/>
  <dc:language>en-US</dc:language>
  <cp:lastModifiedBy>Natasa</cp:lastModifiedBy>
  <dcterms:modified xsi:type="dcterms:W3CDTF">2021-04-25T12:35:26Z</dcterms:modified>
  <cp:revision>3</cp:revision>
  <dc:subject/>
  <dc:title>Спортске манифестације</dc:title>
</cp:coreProperties>
</file>