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2A8-4269-476D-841D-8C252015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CEE-9D63-4257-816B-B377A443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07E-92C2-4A47-A7CB-65DB865A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CCC-F71A-4B84-9C6F-46D27D9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3B8-2285-458A-B2E3-3F75B1C8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3B2-BDFE-45A5-8CC1-679D104F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6EE1-6953-489F-93B4-8A55A411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05E-2163-4876-AC71-1CFE41C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310D-B174-40D9-9D8B-9D223A3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52ED-D3E4-4D9D-82B5-4F4B7124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D638-7F7F-4612-A8DA-E25A2287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712-9E03-4077-90F6-247FE5F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C96-D42A-4B54-98AF-1D3F69B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04D-D15C-4B5D-A5A2-BD6FF3F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1C3-CF4D-4AFF-80A0-C7B0DD5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384-C63D-43A5-8CB7-C7F3B50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E308-C240-4C8C-8CA5-B8C583E0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4B9-AEB8-43A0-B255-D93961A4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673-DE3D-4CD2-A94F-DD026871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B94F-3185-4723-AE05-A7A61C87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43D8-96E3-44B9-8F8C-B33AF12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CBFA-597B-4345-97E4-FD596DD9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158A-9561-4BC3-A539-1D413CC7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4763-0184-49E1-8FDC-EC16A69D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395-401F-43BA-9AFC-7F452A8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1A01-C57C-40CD-8321-6C55FC2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5437-A694-40A9-9DCC-A091C39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6553-CE22-40AD-A787-406B78C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D42C-C65C-4C4A-9E8F-FBD24D1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4E71-06E8-4327-A711-D72E563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4802-F479-4CE9-A975-7FC9DDB0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96D8-F9A1-442A-802B-9FED13DE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9736-7563-4464-BD1E-E2AB0E97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9625-E4E3-469B-A12D-98B0326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1A36-033A-499A-AE10-05DDFEFA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121-861D-4457-BF6B-E117B271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BFC8-BA1A-4A58-82D7-BEB19A54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A808-FF45-400A-86EB-669BDC6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6CDE-4A7B-499F-AE32-9AB0DEF0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AEE4-C123-431D-9541-55F4714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8813-033C-4AD6-8AF6-46D4531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AD75-013A-4BC2-B2F5-A3DE78C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F9C7-7325-469F-8079-16F4C8A5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DFA3-10A7-4C3A-957D-96166E6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34C1-DAEF-4D5F-81A3-5DC48DC1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B8C96-D34A-4CB9-9E36-6B07F6F9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DD5-9CDC-4FCD-9318-CCEAC582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DF1B3-F184-4379-B2F3-A93AF82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39B2-6454-40C0-9748-38F8C48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8966-BA82-472B-A564-77FDD6A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5DB5-5A54-444A-831F-71416882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5823-8CCC-48AC-A421-18183496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2C9D-4478-4AFB-834F-9A14C20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621E-C59D-483E-9F1F-8A5A2BF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D020D-38AE-419D-B575-ED6D75F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C8E6-C463-47AB-B752-2AD91A51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6F68-B975-4DF0-82CB-2649CA73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20A-9FC7-4D81-A440-99A9213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F3AC-F679-4FE2-B5B0-94494ADC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C53-15CF-47EA-A955-252F7D26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0E9-229E-495E-9ACC-3000B69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4D5-B03B-47FE-B44B-17684C4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c8e3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8EE6-D8A0-40DC-A798-21B42FCC06B7}" type="datetime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BED-3616-43F0-9E56-D9B491F6BAEC}" type="slidenum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c8e3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955-ED56-49DE-AB24-4A7DA0261117}" type="datetime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A42-1B49-47C6-8C8C-834D90644164}" type="slidenum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3F2-C0B5-4AF8-A53E-4369FB73D58D}" type="datetime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A7A-1055-49B8-A678-A8BC54EBA034}" type="slidenum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c8e3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8E64-8470-43D3-AD49-6B39DFCFC862}" type="datetime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7578-FB41-42E7-92F7-90C459E7B912}" type="slidenum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83763"/>
                </a:gs>
                <a:gs pos="50000">
                  <a:srgbClr val="91c6f7"/>
                </a:gs>
                <a:gs pos="100000">
                  <a:srgbClr val="0837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c8e3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1DD-9594-47CF-8322-9B309FF71B45}" type="datetime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2303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82F-33F3-4A7C-9D99-73867E6715D6}" type="slidenum">
              <a:rPr b="0" lang="en-US" sz="1200" spc="-1" strike="noStrike">
                <a:solidFill>
                  <a:srgbClr val="02303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sr-RS" sz="2800" spc="-1" strike="noStrike">
                <a:solidFill>
                  <a:srgbClr val="004e6d"/>
                </a:solidFill>
                <a:latin typeface="Arial"/>
                <a:ea typeface="Arial"/>
              </a:rPr>
              <a:t>Мирослав Антић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en-US" sz="5400" spc="-1" strike="noStrike">
                <a:solidFill>
                  <a:srgbClr val="04617b"/>
                </a:solidFill>
                <a:latin typeface="Arial"/>
                <a:ea typeface="Arial"/>
              </a:rPr>
              <a:t>Плава звезда</a:t>
            </a:r>
            <a:endParaRPr b="0" lang="en-US" sz="5400" spc="-1" strike="noStrike">
              <a:solidFill>
                <a:srgbClr val="004e6d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7720" y="1428840"/>
            <a:ext cx="7620120" cy="47433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лава звезд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евидљива, неухватљива, треба је тражити у машти и сновим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2096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Тема песме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6-Point Star 1"/>
          <p:cNvSpPr/>
          <p:nvPr/>
        </p:nvSpPr>
        <p:spPr>
          <a:xfrm>
            <a:off x="3500280" y="214200"/>
            <a:ext cx="2000520" cy="2071800"/>
          </a:xfrm>
          <a:prstGeom prst="pie">
            <a:avLst/>
          </a:pr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плава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6-Point Star 2"/>
          <p:cNvSpPr/>
          <p:nvPr/>
        </p:nvSpPr>
        <p:spPr>
          <a:xfrm>
            <a:off x="714240" y="1357200"/>
            <a:ext cx="2214720" cy="2143080"/>
          </a:xfrm>
          <a:prstGeom prst="pie">
            <a:avLst/>
          </a:pr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чудна, плава, сјај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6-Point Star 3"/>
          <p:cNvSpPr/>
          <p:nvPr/>
        </p:nvSpPr>
        <p:spPr>
          <a:xfrm>
            <a:off x="5786280" y="1214280"/>
            <a:ext cx="2714760" cy="2643480"/>
          </a:xfrm>
          <a:prstGeom prst="pie">
            <a:avLst/>
          </a:pr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лека, невидљива, неухватљ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6-Point Star 4"/>
          <p:cNvSpPr/>
          <p:nvPr/>
        </p:nvSpPr>
        <p:spPr>
          <a:xfrm>
            <a:off x="1285920" y="3714840"/>
            <a:ext cx="2714760" cy="2714400"/>
          </a:xfrm>
          <a:prstGeom prst="pie">
            <a:avLst/>
          </a:pr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 машти, мис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и сн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6-Point Star 5"/>
          <p:cNvSpPr/>
          <p:nvPr/>
        </p:nvSpPr>
        <p:spPr>
          <a:xfrm>
            <a:off x="5214960" y="3857760"/>
            <a:ext cx="2714760" cy="2714400"/>
          </a:xfrm>
          <a:prstGeom prst="pie">
            <a:avLst/>
          </a:prstGeom>
          <a:solidFill>
            <a:srgbClr val="0f6fc6"/>
          </a:solidFill>
          <a:ln w="1260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ора упорно да се тра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7720" y="1356840"/>
            <a:ext cx="7620120" cy="4815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 algn="just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есник нам поручује да не смемо одустати од потраге за плавом звездом, заправо да треба да следимо своје снове и животне циљеве јер живот без њих не би имао смисла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995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Порука песме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oogle Shape;1077;p52"/>
          <p:cNvGrpSpPr/>
          <p:nvPr/>
        </p:nvGrpSpPr>
        <p:grpSpPr>
          <a:xfrm>
            <a:off x="428760" y="1521000"/>
            <a:ext cx="8501040" cy="2681280"/>
            <a:chOff x="428760" y="1521000"/>
            <a:chExt cx="8501040" cy="2681280"/>
          </a:xfrm>
        </p:grpSpPr>
        <p:sp>
          <p:nvSpPr>
            <p:cNvPr id="269" name="Google Shape;1078;p52"/>
            <p:cNvSpPr/>
            <p:nvPr/>
          </p:nvSpPr>
          <p:spPr>
            <a:xfrm>
              <a:off x="434520" y="1536480"/>
              <a:ext cx="8495280" cy="2665440"/>
            </a:xfrm>
            <a:prstGeom prst="pie">
              <a:avLst/>
            </a:prstGeom>
            <a:noFill/>
            <a:ln w="11448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Google Shape;1079;p52"/>
            <p:cNvSpPr/>
            <p:nvPr/>
          </p:nvSpPr>
          <p:spPr>
            <a:xfrm>
              <a:off x="428760" y="1521000"/>
              <a:ext cx="8492760" cy="2681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oogle Shape;1088;p52"/>
          <p:cNvGrpSpPr/>
          <p:nvPr/>
        </p:nvGrpSpPr>
        <p:grpSpPr>
          <a:xfrm>
            <a:off x="1143000" y="3214800"/>
            <a:ext cx="392040" cy="514080"/>
            <a:chOff x="1143000" y="3214800"/>
            <a:chExt cx="392040" cy="514080"/>
          </a:xfrm>
        </p:grpSpPr>
        <p:sp>
          <p:nvSpPr>
            <p:cNvPr id="272" name="Google Shape;1089;p52"/>
            <p:cNvSpPr/>
            <p:nvPr/>
          </p:nvSpPr>
          <p:spPr>
            <a:xfrm>
              <a:off x="1173960" y="3252600"/>
              <a:ext cx="331560" cy="43632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Google Shape;1090;p52"/>
            <p:cNvSpPr/>
            <p:nvPr/>
          </p:nvSpPr>
          <p:spPr>
            <a:xfrm>
              <a:off x="1143000" y="3214800"/>
              <a:ext cx="3920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4" name="Straight Arrow Connector 9"/>
          <p:cNvCxnSpPr>
            <a:endCxn id="275" idx="0"/>
          </p:cNvCxnSpPr>
          <p:nvPr/>
        </p:nvCxnSpPr>
        <p:spPr>
          <a:xfrm flipH="1">
            <a:off x="1142280" y="3714480"/>
            <a:ext cx="143640" cy="113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75" name="Rectangle 11"/>
          <p:cNvSpPr/>
          <p:nvPr/>
        </p:nvSpPr>
        <p:spPr>
          <a:xfrm>
            <a:off x="285840" y="48448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гора, -е 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oogle Shape;1088;p52"/>
          <p:cNvGrpSpPr/>
          <p:nvPr/>
        </p:nvGrpSpPr>
        <p:grpSpPr>
          <a:xfrm>
            <a:off x="3214800" y="1411200"/>
            <a:ext cx="573120" cy="514440"/>
            <a:chOff x="3214800" y="1411200"/>
            <a:chExt cx="573120" cy="514440"/>
          </a:xfrm>
        </p:grpSpPr>
        <p:sp>
          <p:nvSpPr>
            <p:cNvPr id="277" name="Google Shape;1089;p52"/>
            <p:cNvSpPr/>
            <p:nvPr/>
          </p:nvSpPr>
          <p:spPr>
            <a:xfrm>
              <a:off x="3259800" y="1449000"/>
              <a:ext cx="484560" cy="43668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Google Shape;1090;p52"/>
            <p:cNvSpPr/>
            <p:nvPr/>
          </p:nvSpPr>
          <p:spPr>
            <a:xfrm>
              <a:off x="3214800" y="1411200"/>
              <a:ext cx="57312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9" name="Straight Arrow Connector 15"/>
          <p:cNvCxnSpPr/>
          <p:nvPr/>
        </p:nvCxnSpPr>
        <p:spPr>
          <a:xfrm>
            <a:off x="3597120" y="1909440"/>
            <a:ext cx="224640" cy="810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0" name="Rectangle 16"/>
          <p:cNvSpPr/>
          <p:nvPr/>
        </p:nvSpPr>
        <p:spPr>
          <a:xfrm>
            <a:off x="4362120" y="78588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аћи, зађ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oogle Shape;1088;p52"/>
          <p:cNvGrpSpPr/>
          <p:nvPr/>
        </p:nvGrpSpPr>
        <p:grpSpPr>
          <a:xfrm>
            <a:off x="2500200" y="3500280"/>
            <a:ext cx="571680" cy="514440"/>
            <a:chOff x="2500200" y="3500280"/>
            <a:chExt cx="571680" cy="514440"/>
          </a:xfrm>
        </p:grpSpPr>
        <p:sp>
          <p:nvSpPr>
            <p:cNvPr id="282" name="Google Shape;1089;p52"/>
            <p:cNvSpPr/>
            <p:nvPr/>
          </p:nvSpPr>
          <p:spPr>
            <a:xfrm>
              <a:off x="2545560" y="3538080"/>
              <a:ext cx="483120" cy="43668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Google Shape;1090;p52"/>
            <p:cNvSpPr/>
            <p:nvPr/>
          </p:nvSpPr>
          <p:spPr>
            <a:xfrm>
              <a:off x="2500200" y="3500280"/>
              <a:ext cx="57168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Straight Arrow Connector 24"/>
          <p:cNvCxnSpPr/>
          <p:nvPr/>
        </p:nvCxnSpPr>
        <p:spPr>
          <a:xfrm>
            <a:off x="2928600" y="3857400"/>
            <a:ext cx="741960" cy="538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85" name="Rectangle 25"/>
          <p:cNvSpPr/>
          <p:nvPr/>
        </p:nvSpPr>
        <p:spPr>
          <a:xfrm>
            <a:off x="2721960" y="432432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жбуње, -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083400" y="27417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витање, -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oogle Shape;1088;p52"/>
          <p:cNvGrpSpPr/>
          <p:nvPr/>
        </p:nvGrpSpPr>
        <p:grpSpPr>
          <a:xfrm>
            <a:off x="4643280" y="1730520"/>
            <a:ext cx="541440" cy="514080"/>
            <a:chOff x="4643280" y="1730520"/>
            <a:chExt cx="541440" cy="514080"/>
          </a:xfrm>
        </p:grpSpPr>
        <p:sp>
          <p:nvSpPr>
            <p:cNvPr id="288" name="Google Shape;1089;p52"/>
            <p:cNvSpPr/>
            <p:nvPr/>
          </p:nvSpPr>
          <p:spPr>
            <a:xfrm>
              <a:off x="4686480" y="1768320"/>
              <a:ext cx="457560" cy="43632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Google Shape;1090;p52"/>
            <p:cNvSpPr/>
            <p:nvPr/>
          </p:nvSpPr>
          <p:spPr>
            <a:xfrm>
              <a:off x="4643280" y="1730520"/>
              <a:ext cx="541440" cy="51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Straight Arrow Connector 31"/>
          <p:cNvCxnSpPr>
            <a:endCxn id="280" idx="2"/>
          </p:cNvCxnSpPr>
          <p:nvPr/>
        </p:nvCxnSpPr>
        <p:spPr>
          <a:xfrm flipV="1">
            <a:off x="4928040" y="1247040"/>
            <a:ext cx="405720" cy="538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pSp>
        <p:nvGrpSpPr>
          <p:cNvPr id="291" name="Google Shape;1088;p52"/>
          <p:cNvGrpSpPr/>
          <p:nvPr/>
        </p:nvGrpSpPr>
        <p:grpSpPr>
          <a:xfrm>
            <a:off x="5643720" y="2500200"/>
            <a:ext cx="534960" cy="514440"/>
            <a:chOff x="5643720" y="2500200"/>
            <a:chExt cx="534960" cy="514440"/>
          </a:xfrm>
        </p:grpSpPr>
        <p:sp>
          <p:nvSpPr>
            <p:cNvPr id="292" name="Google Shape;1089;p52"/>
            <p:cNvSpPr/>
            <p:nvPr/>
          </p:nvSpPr>
          <p:spPr>
            <a:xfrm>
              <a:off x="5686200" y="2538000"/>
              <a:ext cx="452160" cy="43668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Google Shape;1090;p52"/>
            <p:cNvSpPr/>
            <p:nvPr/>
          </p:nvSpPr>
          <p:spPr>
            <a:xfrm>
              <a:off x="5643720" y="250020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4" name="Straight Arrow Connector 42"/>
          <p:cNvCxnSpPr>
            <a:endCxn id="295" idx="2"/>
          </p:cNvCxnSpPr>
          <p:nvPr/>
        </p:nvCxnSpPr>
        <p:spPr>
          <a:xfrm flipV="1">
            <a:off x="5999760" y="1882440"/>
            <a:ext cx="665640" cy="689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95" name="Rectangle 44"/>
          <p:cNvSpPr/>
          <p:nvPr/>
        </p:nvSpPr>
        <p:spPr>
          <a:xfrm>
            <a:off x="5639760" y="142092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бескрај, -а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4" descr="Cardamom Mountains - Wikipedia"/>
          <p:cNvPicPr/>
          <p:nvPr/>
        </p:nvPicPr>
        <p:blipFill>
          <a:blip r:embed="rId1"/>
          <a:stretch/>
        </p:blipFill>
        <p:spPr>
          <a:xfrm>
            <a:off x="262080" y="1773360"/>
            <a:ext cx="1761840" cy="2474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Zone 8 Evergreen Shrub Varieties: Selecting Zone 8 Evergreen ..."/>
          <p:cNvPicPr/>
          <p:nvPr/>
        </p:nvPicPr>
        <p:blipFill>
          <a:blip r:embed="rId2"/>
          <a:stretch/>
        </p:blipFill>
        <p:spPr>
          <a:xfrm>
            <a:off x="2401920" y="4925880"/>
            <a:ext cx="2054160" cy="2730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5" descr="It's a new dawn, it's a new day - Waikato Business News"/>
          <p:cNvPicPr/>
          <p:nvPr/>
        </p:nvPicPr>
        <p:blipFill>
          <a:blip r:embed="rId3"/>
          <a:stretch/>
        </p:blipFill>
        <p:spPr>
          <a:xfrm>
            <a:off x="2120760" y="-6480"/>
            <a:ext cx="2049480" cy="2536920"/>
          </a:xfrm>
          <a:prstGeom prst="rect">
            <a:avLst/>
          </a:prstGeom>
          <a:ln w="0">
            <a:noFill/>
          </a:ln>
        </p:spPr>
      </p:pic>
      <p:grpSp>
        <p:nvGrpSpPr>
          <p:cNvPr id="299" name="Google Shape;1088;p52"/>
          <p:cNvGrpSpPr/>
          <p:nvPr/>
        </p:nvGrpSpPr>
        <p:grpSpPr>
          <a:xfrm>
            <a:off x="6643800" y="2975040"/>
            <a:ext cx="534960" cy="514440"/>
            <a:chOff x="6643800" y="2975040"/>
            <a:chExt cx="534960" cy="514440"/>
          </a:xfrm>
        </p:grpSpPr>
        <p:sp>
          <p:nvSpPr>
            <p:cNvPr id="300" name="Google Shape;1089;p52"/>
            <p:cNvSpPr/>
            <p:nvPr/>
          </p:nvSpPr>
          <p:spPr>
            <a:xfrm>
              <a:off x="6686280" y="3012840"/>
              <a:ext cx="452160" cy="43668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Google Shape;1090;p52"/>
            <p:cNvSpPr/>
            <p:nvPr/>
          </p:nvSpPr>
          <p:spPr>
            <a:xfrm>
              <a:off x="6643800" y="2975040"/>
              <a:ext cx="53496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Straight Arrow Connector 62"/>
          <p:cNvCxnSpPr/>
          <p:nvPr/>
        </p:nvCxnSpPr>
        <p:spPr>
          <a:xfrm flipH="1">
            <a:off x="6071400" y="3429000"/>
            <a:ext cx="715320" cy="7149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303" name="Picture 2" descr="Infinitely na srpskom: beskrajno ... | Rečnik engleskog jezika,  englesko-srpski rečnik"/>
          <p:cNvPicPr/>
          <p:nvPr/>
        </p:nvPicPr>
        <p:blipFill>
          <a:blip r:embed="rId4"/>
          <a:stretch/>
        </p:blipFill>
        <p:spPr>
          <a:xfrm>
            <a:off x="6692760" y="633240"/>
            <a:ext cx="1689120" cy="15004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6"/>
          <p:cNvSpPr/>
          <p:nvPr/>
        </p:nvSpPr>
        <p:spPr>
          <a:xfrm>
            <a:off x="4794120" y="414324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испустити, -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Boy Dropping His Smartphone, Sad Child With Broken Phone Cartoon Style  Vector Illustration On White Background Stock Vector - Illustration of  destroyed, fall: 188137359"/>
          <p:cNvPicPr/>
          <p:nvPr/>
        </p:nvPicPr>
        <p:blipFill>
          <a:blip r:embed="rId5"/>
          <a:stretch/>
        </p:blipFill>
        <p:spPr>
          <a:xfrm>
            <a:off x="7192800" y="4425840"/>
            <a:ext cx="1463760" cy="431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13840"/>
            <a:ext cx="7620120" cy="12589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4e6d"/>
                </a:solidFill>
                <a:latin typeface="Arial"/>
                <a:ea typeface="Arial"/>
              </a:rPr>
              <a:t>Вечерња звезда, Вечерњача, Венера </a:t>
            </a:r>
            <a:endParaRPr b="0" lang="en-US" sz="36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39" name="Content Placeholder 4" descr="Is Venus always either a “morning star” or an “evening star ..."/>
          <p:cNvPicPr/>
          <p:nvPr/>
        </p:nvPicPr>
        <p:blipFill>
          <a:blip r:embed="rId1"/>
          <a:srcRect l="6438" t="6586" r="6142" b="9024"/>
          <a:stretch/>
        </p:blipFill>
        <p:spPr>
          <a:xfrm>
            <a:off x="1071720" y="1857240"/>
            <a:ext cx="6858000" cy="442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56800" y="356760"/>
            <a:ext cx="7620120" cy="9954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Звезда падалица, метеор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41" name="Picture 2" descr="How to Trade Shooting Star Candlestick Patterns"/>
          <p:cNvPicPr/>
          <p:nvPr/>
        </p:nvPicPr>
        <p:blipFill>
          <a:blip r:embed="rId1"/>
          <a:srcRect l="10113" t="6196" r="6020" b="2372"/>
          <a:stretch/>
        </p:blipFill>
        <p:spPr>
          <a:xfrm>
            <a:off x="928800" y="1571760"/>
            <a:ext cx="728640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Морска звезда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43" name="Picture 2" descr="What You Didn't Know About Starfish | WorldStrides"/>
          <p:cNvPicPr/>
          <p:nvPr/>
        </p:nvPicPr>
        <p:blipFill>
          <a:blip r:embed="rId1"/>
          <a:srcRect l="0" t="0" r="15918" b="-31"/>
          <a:stretch/>
        </p:blipFill>
        <p:spPr>
          <a:xfrm>
            <a:off x="1071720" y="1428840"/>
            <a:ext cx="735804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звезда која је према Јеванђељу довела три мудраца до Христа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деја, мисао која нас води, начело којег се привржавамо у животу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Звезда водиља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46" name="Picture 2" descr="The Customer Persona: Your Guiding Star for Direct Response ..."/>
          <p:cNvPicPr/>
          <p:nvPr/>
        </p:nvPicPr>
        <p:blipFill>
          <a:blip r:embed="rId1"/>
          <a:stretch/>
        </p:blipFill>
        <p:spPr>
          <a:xfrm>
            <a:off x="2357280" y="4071960"/>
            <a:ext cx="3571920" cy="238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13840"/>
            <a:ext cx="7620120" cy="785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гора, -е ж. род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48" name="Picture 2" descr="Cardamom Mountains - Wikipedia"/>
          <p:cNvPicPr/>
          <p:nvPr/>
        </p:nvPicPr>
        <p:blipFill>
          <a:blip r:embed="rId1"/>
          <a:srcRect l="0" t="0" r="5540" b="10893"/>
          <a:stretch/>
        </p:blipFill>
        <p:spPr>
          <a:xfrm>
            <a:off x="1143000" y="1000080"/>
            <a:ext cx="6429240" cy="4572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1299600" y="5572080"/>
            <a:ext cx="43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 гора, зелена 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 као 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14200"/>
            <a:ext cx="7620120" cy="85752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жбуње, -а с. род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51" name="Picture 2" descr="Zone 8 Evergreen Shrub Varieties: Selecting Zone 8 Evergreen ..."/>
          <p:cNvPicPr/>
          <p:nvPr/>
        </p:nvPicPr>
        <p:blipFill>
          <a:blip r:embed="rId1"/>
          <a:stretch/>
        </p:blipFill>
        <p:spPr>
          <a:xfrm>
            <a:off x="1071720" y="1214280"/>
            <a:ext cx="6215040" cy="4192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1302480" y="5572080"/>
            <a:ext cx="50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адо жбуње, зелено жбу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езати жбу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4e6d"/>
                </a:solidFill>
                <a:latin typeface="Arial"/>
                <a:ea typeface="Arial"/>
              </a:rPr>
              <a:t>свитање, -а с. род</a:t>
            </a:r>
            <a:endParaRPr b="0" lang="en-US" sz="4400" spc="-1" strike="noStrike">
              <a:solidFill>
                <a:srgbClr val="004e6d"/>
              </a:solidFill>
              <a:latin typeface="Century Gothic"/>
            </a:endParaRPr>
          </a:p>
        </p:txBody>
      </p:sp>
      <p:pic>
        <p:nvPicPr>
          <p:cNvPr id="254" name="Picture 2" descr="It's a new dawn, it's a new day - Waikato Business News"/>
          <p:cNvPicPr/>
          <p:nvPr/>
        </p:nvPicPr>
        <p:blipFill>
          <a:blip r:embed="rId1"/>
          <a:stretch/>
        </p:blipFill>
        <p:spPr>
          <a:xfrm>
            <a:off x="1143000" y="1500120"/>
            <a:ext cx="6929280" cy="39229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1303920" y="5572080"/>
            <a:ext cx="41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итање, пре св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71680" y="357120"/>
            <a:ext cx="7619760" cy="56721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лута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, -ам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‒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1. лутати градом, лутати тамо-амо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заћ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, зађем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1. Сунце је зашло. 2. заћи с пута 3. заћи у планину 4. заћи од куће до кућ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испусти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, -им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1. испустити оловку из руке, 2. испустити нешто из ви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7e9632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бескра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, -а м. ро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у бескрај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7" name="Picture 4" descr="Boy Dropping His Smartphone, Sad Child With Broken Phone Cartoon Style  Vector Illustration On White Background Stock Vector - Illustration of  destroyed, fall: 188137359"/>
          <p:cNvPicPr/>
          <p:nvPr/>
        </p:nvPicPr>
        <p:blipFill>
          <a:blip r:embed="rId1"/>
          <a:stretch/>
        </p:blipFill>
        <p:spPr>
          <a:xfrm>
            <a:off x="7259760" y="4206960"/>
            <a:ext cx="1609560" cy="4754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Infinitely na srpskom: beskrajno ... | Rečnik engleskog jezika,  englesko-srpski rečnik"/>
          <p:cNvPicPr/>
          <p:nvPr/>
        </p:nvPicPr>
        <p:blipFill>
          <a:blip r:embed="rId2"/>
          <a:stretch/>
        </p:blipFill>
        <p:spPr>
          <a:xfrm>
            <a:off x="1116000" y="5278320"/>
            <a:ext cx="2297160" cy="203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1T17:09:01Z</dcterms:created>
  <dc:creator>Natasa</dc:creator>
  <dc:description/>
  <dc:language>en-US</dc:language>
  <cp:lastModifiedBy>Natasa</cp:lastModifiedBy>
  <dcterms:modified xsi:type="dcterms:W3CDTF">2021-04-23T18:39:08Z</dcterms:modified>
  <cp:revision>18</cp:revision>
  <dc:subject/>
  <dc:title>Плава звезда</dc:title>
</cp:coreProperties>
</file>