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1CBA-69AF-4EE1-800E-9724BABE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511-782C-4743-A0CF-9E9C2EE6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40E-1A31-4BF0-9A12-66BDCE9E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D4D-AF79-47A6-9D18-0669D491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0FE-4763-44E6-AC01-96DD76F4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7BB-F53E-431D-A19D-1FE7B6A7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5B5-B9C5-4477-93E2-DE63E0F5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EF1-E66F-4753-857D-84636F7F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276-B9DE-4EA5-9D93-6B30FDA6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A33-80C5-45C4-9AE3-80720ACA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DB7-688A-42D1-949F-38B3FB19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C3E-A318-42C8-8219-FB8EA70A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AC27-A46F-440E-B3EA-738BA63C5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ректни и индиректни гов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996920" y="1905120"/>
            <a:ext cx="5362560" cy="3809880"/>
          </a:xfrm>
          <a:prstGeom prst="rect">
            <a:avLst/>
          </a:prstGeom>
          <a:ln w="0">
            <a:noFill/>
          </a:ln>
        </p:spPr>
      </p:pic>
      <p:sp>
        <p:nvSpPr>
          <p:cNvPr id="44" name="Rounded Rectangular Callout 2"/>
          <p:cNvSpPr/>
          <p:nvPr/>
        </p:nvSpPr>
        <p:spPr>
          <a:xfrm>
            <a:off x="533520" y="304920"/>
            <a:ext cx="3276360" cy="1371600"/>
          </a:xfrm>
          <a:prstGeom prst="wedgeRoundRectCallout">
            <a:avLst>
              <a:gd name="adj1" fmla="val -2199"/>
              <a:gd name="adj2" fmla="val 77833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ли хоћеш да идеш са мном у биоскоп вечера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ounded Rectangular Callout 3"/>
          <p:cNvSpPr/>
          <p:nvPr/>
        </p:nvSpPr>
        <p:spPr>
          <a:xfrm>
            <a:off x="5105520" y="304920"/>
            <a:ext cx="2895480" cy="1371600"/>
          </a:xfrm>
          <a:prstGeom prst="wedgeRoundRectCallout">
            <a:avLst>
              <a:gd name="adj1" fmla="val -9148"/>
              <a:gd name="adj2" fmla="val 109833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који фим се дај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и и индиректни гов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2920" y="1017720"/>
            <a:ext cx="878688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о је другарицу: </a:t>
            </a:r>
            <a:r>
              <a:rPr b="1" lang="sr-RS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„Да ли хоћеш да идеш са мном у биоскоп вечерас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sr-RS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ИРЕКТНИ ГОВО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о је другарицу </a:t>
            </a:r>
            <a:r>
              <a:rPr b="1" lang="sr-RS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а ли хоће да иде с њим у биоскоп вечерас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sr-RS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НДИРЕКТИ ГОВОР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3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ЗРИЧНА РЕЧЕНИЦА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own Arrow 3"/>
          <p:cNvSpPr/>
          <p:nvPr/>
        </p:nvSpPr>
        <p:spPr>
          <a:xfrm>
            <a:off x="5500800" y="4538520"/>
            <a:ext cx="64296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own Arrow 4"/>
          <p:cNvSpPr/>
          <p:nvPr/>
        </p:nvSpPr>
        <p:spPr>
          <a:xfrm>
            <a:off x="5857920" y="2176560"/>
            <a:ext cx="64296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190120" y="106668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Шта?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5342400" y="343836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Шта?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able 1" descr=""/>
          <p:cNvPicPr/>
          <p:nvPr/>
        </p:nvPicPr>
        <p:blipFill>
          <a:blip r:embed="rId1"/>
          <a:stretch/>
        </p:blipFill>
        <p:spPr>
          <a:xfrm>
            <a:off x="231840" y="463680"/>
            <a:ext cx="8759880" cy="63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ња 6. зада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 ми је да се вратим што пр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ила сам јој да нећу дуго оста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итао их је када ће доћи код њег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или су му да ће доћи око пола шест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и су нам да не заборавимо на дато обећањ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ћали смо им да ћемо мислити на њи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о сам Мају кога чек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ла ми је да чека Милицу и неке њихове другариц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4200" y="100008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шој школи постоји драмска секција. Питао сам дугарицу: „Да ли си чланица драмске секције?”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ила је: „Јесам већ две године.”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и ми, молим те, којим даном имате пробе. Казала ми је: „Пробе имамо четвртком.”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итала ме је да ли желим да будем члан њихове секције.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ио сам: „Волео бих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ди тачност тврд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840" y="999720"/>
            <a:ext cx="8858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им говором тачно наводимо нечије реч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ректним говором препричавамо оно што је неко река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и говор почиње речима: да, кад, как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нице које представљају директнни говор стављамо под знаке наво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ular Callout 3"/>
          <p:cNvSpPr/>
          <p:nvPr/>
        </p:nvSpPr>
        <p:spPr>
          <a:xfrm>
            <a:off x="3538440" y="1643040"/>
            <a:ext cx="1643040" cy="500040"/>
          </a:xfrm>
          <a:prstGeom prst="wedgeRectCallout">
            <a:avLst>
              <a:gd name="adj1" fmla="val -22703"/>
              <a:gd name="adj2" fmla="val 4956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Ч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ular Callout 5"/>
          <p:cNvSpPr/>
          <p:nvPr/>
        </p:nvSpPr>
        <p:spPr>
          <a:xfrm>
            <a:off x="5929200" y="2857680"/>
            <a:ext cx="1643040" cy="500040"/>
          </a:xfrm>
          <a:prstGeom prst="wedgeRectCallout">
            <a:avLst>
              <a:gd name="adj1" fmla="val -22703"/>
              <a:gd name="adj2" fmla="val 4956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Ч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ular Callout 6"/>
          <p:cNvSpPr/>
          <p:nvPr/>
        </p:nvSpPr>
        <p:spPr>
          <a:xfrm>
            <a:off x="1981080" y="4148280"/>
            <a:ext cx="1928880" cy="500040"/>
          </a:xfrm>
          <a:prstGeom prst="wedgeRectCallout">
            <a:avLst>
              <a:gd name="adj1" fmla="val -22703"/>
              <a:gd name="adj2" fmla="val 4956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АЧ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ular Callout 7"/>
          <p:cNvSpPr/>
          <p:nvPr/>
        </p:nvSpPr>
        <p:spPr>
          <a:xfrm>
            <a:off x="6781680" y="5748480"/>
            <a:ext cx="1928880" cy="500040"/>
          </a:xfrm>
          <a:prstGeom prst="wedgeRectCallout">
            <a:avLst>
              <a:gd name="adj1" fmla="val -22703"/>
              <a:gd name="adj2" fmla="val 4956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Ч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9T09:22:04Z</dcterms:created>
  <dc:creator>a4</dc:creator>
  <dc:description/>
  <dc:language>en-US</dc:language>
  <cp:lastModifiedBy>Natasa</cp:lastModifiedBy>
  <dcterms:modified xsi:type="dcterms:W3CDTF">2021-04-18T13:37:29Z</dcterms:modified>
  <cp:revision>8</cp:revision>
  <dc:subject/>
  <dc:title>Директни и индиректни говор</dc:title>
</cp:coreProperties>
</file>