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450-33C4-44CE-A604-960A327A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0CF-84CB-4F56-8A8C-4D25D4A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907-129E-4092-B7F3-A5536E3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3FD-0030-473D-A120-3F7FB586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AD5-54CC-4DB6-82C5-55C37B1B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D606-DCC2-4038-AD86-06A3A58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055-A3C8-46EB-A3A5-F19DB99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367-63BA-4B72-A827-1DD5ADB5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A8D-C37E-4078-8284-58F035B0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9E7B-7EA2-4E52-AF37-23762AC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88A-DDFF-43A4-BC49-ADC2470F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13D-B16A-45A4-A6C9-E6B2C70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301A-CC34-4094-A10D-649DF53D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A516-784D-43A7-83A7-949A49C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E7AD-DCE6-4A50-8F22-E288182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FF2F-3AC6-4A63-8242-E5FF5E9D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912-56A7-4A38-B01B-D264C2DC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95F6-2F0D-4F9B-BCFE-66A76740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02AC-3336-41C1-ADD8-FC4FC88B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1A0D-FDA6-4943-9D9E-7C649B3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B182-1A8A-4A0C-B0E8-DA53CCF4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10E2-324D-4BB5-A696-D0A587FF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28B-177C-474F-B112-2F52F9F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D6E0-E21B-4CBF-822C-F0D70FD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6257-02B9-413E-9D25-D62BB26E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7E2B-1BFF-49F6-9442-158997A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1ABE-C459-49A4-A710-7400475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CE9C-26A2-4169-9D60-D02192F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56F5-D804-47E0-A2DF-27099A02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E636-B740-4F2C-A61E-CB6369CD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BAFF-E6F5-48DC-9ACE-CEE21A95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21EF-BEE1-49AF-A969-EE3187DD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FB05-D66D-4A58-8BCF-2161675C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81E-0B2E-408A-82E4-901A902D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9B60-3831-4AA7-B225-845BB957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B1FC-0181-4D45-AF37-BA9D0A1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BE95-9931-40D0-9F5F-E872C38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1AC9-C2B4-41F8-A0BA-F7C6819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3DFF-C00F-4439-B6D1-CACB8BB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886F-0E95-4DC7-8136-80AF6E2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00B6-0082-423A-9B89-4CC338B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7529-1877-4CDB-8F6C-E9AE48D5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1618-9A63-4CDA-8F25-0A3788FD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CF49-6197-4924-92A2-97A8FD16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1F7-D8EF-4541-AC35-FDD7ABD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AEC3-C3E4-468C-B10B-40D41C3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672B-97ED-4FCE-8F1C-BE8676BA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960C-9067-48F6-B437-76D4387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22CF-CCEA-429B-B772-26A219F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664F-E05C-4BF3-BB79-CB3B264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BF60-B5B4-49A3-803D-1C5B1BA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83A5-A94D-4F6D-ADC0-A7FB200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1611-4A22-4C70-9DD2-E74BD94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9754-D6A4-42D1-863D-996F53E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E72D-7920-49E9-AF43-D6C469B8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571-A855-4733-8E1D-8F8120D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4FDC-CA74-4652-A046-BCF639C1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666-968F-4DF4-B297-51C2DD2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DC4-414D-4D63-A00A-D29679F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7E0-10D2-491F-8DBD-3D7FDC1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FF7C-F8B6-48C7-A473-CAD90EE39F0E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64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AF6-7493-40EC-AFF5-610B2E3B7BAD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F25-7C7F-4D8D-96CC-C6883AEEC557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09B3-739F-46FF-86E7-04636CD1B081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920-EBEC-4BF4-A217-6A6A48AB7DF9}" type="slidenum">
              <a:rPr b="0" lang="en-US" sz="1200" spc="-1" strike="noStrike">
                <a:solidFill>
                  <a:srgbClr val="775f55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dd8047"/>
                </a:solidFill>
                <a:latin typeface="Century Gothic"/>
              </a:rPr>
              <a:t>Земљо, отвори се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4b6d2"/>
                </a:solidFill>
                <a:latin typeface="Century Gothic"/>
              </a:rPr>
              <a:t>Јасминка Петровић</a:t>
            </a:r>
            <a:endParaRPr b="0" lang="en-US" sz="2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Јасминка Петровић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775f55"/>
                </a:solidFill>
                <a:latin typeface="Century Gothic"/>
              </a:rPr>
              <a:t>Савремена српска списатељица, пише углавном за децу.</a:t>
            </a:r>
            <a:endParaRPr b="0" lang="en-US" sz="3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775f55"/>
                </a:solidFill>
                <a:latin typeface="Century Gothic"/>
              </a:rPr>
              <a:t>Рођена је у Београду 1960. године.</a:t>
            </a:r>
            <a:endParaRPr b="0" lang="en-US" sz="3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775f55"/>
                </a:solidFill>
                <a:latin typeface="Century Gothic"/>
              </a:rPr>
              <a:t>Њене најпознатије књиге: </a:t>
            </a:r>
            <a:r>
              <a:rPr b="0" i="1" lang="ru-RU" sz="3000" spc="-1" strike="noStrike">
                <a:solidFill>
                  <a:srgbClr val="775f55"/>
                </a:solidFill>
                <a:latin typeface="Century Gothic"/>
              </a:rPr>
              <a:t>Школа, Секс за почетнике, Бонтон, Како постати и остати глуп, Ово је најстрашнији дан у мом животу, Маме, Хоћу кући, Дугина долина, Паметна књига за маму и тату</a:t>
            </a:r>
            <a:r>
              <a:rPr b="0" lang="ru-RU" sz="3000" spc="-1" strike="noStrike">
                <a:solidFill>
                  <a:srgbClr val="775f55"/>
                </a:solidFill>
                <a:latin typeface="Century Gothic"/>
              </a:rPr>
              <a:t>..) преведене су на близу тридесет језика.</a:t>
            </a:r>
            <a:endParaRPr b="0" lang="en-US" sz="3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Јасминка Петровић (Сања Латиновић) 02.jpg"/>
          <p:cNvPicPr/>
          <p:nvPr/>
        </p:nvPicPr>
        <p:blipFill>
          <a:blip r:embed="rId1"/>
          <a:stretch/>
        </p:blipFill>
        <p:spPr>
          <a:xfrm>
            <a:off x="1327320" y="1523880"/>
            <a:ext cx="3244680" cy="3505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SEKS ZA POČETNIKE - Jasminka Petrović | Knjižare Vulkan"/>
          <p:cNvPicPr/>
          <p:nvPr/>
        </p:nvPicPr>
        <p:blipFill>
          <a:blip r:embed="rId2"/>
          <a:srcRect l="12816" t="0" r="14101" b="0"/>
          <a:stretch/>
        </p:blipFill>
        <p:spPr>
          <a:xfrm>
            <a:off x="4686480" y="1219320"/>
            <a:ext cx="2171520" cy="2971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OVO JE NAJSTRAŠNIJI DAN U MOM ŽIVOTU - Jasminka Petrović | Knjižare Vulkan"/>
          <p:cNvPicPr/>
          <p:nvPr/>
        </p:nvPicPr>
        <p:blipFill>
          <a:blip r:embed="rId3"/>
          <a:srcRect l="20195" t="0" r="20091" b="1282"/>
          <a:stretch/>
        </p:blipFill>
        <p:spPr>
          <a:xfrm>
            <a:off x="6924600" y="152280"/>
            <a:ext cx="1990800" cy="3065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Kreativni centar - Школа"/>
          <p:cNvPicPr/>
          <p:nvPr/>
        </p:nvPicPr>
        <p:blipFill>
          <a:blip r:embed="rId4"/>
          <a:stretch/>
        </p:blipFill>
        <p:spPr>
          <a:xfrm>
            <a:off x="6926400" y="3505320"/>
            <a:ext cx="21412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Земљо, отвори се!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набијен емоцијама (филм, роман, писмо...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дочарати, дочарам (атмосферу, нечији лик, изглед нечега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хармоничан, -чна, -чно (однос, живот, брак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упућени једни на друге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жврљати, -ам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30" name="Picture 3" descr="IMG_20210306_200613 (1).jpg"/>
          <p:cNvPicPr/>
          <p:nvPr/>
        </p:nvPicPr>
        <p:blipFill>
          <a:blip r:embed="rId1"/>
          <a:srcRect l="1198" t="23652" r="19882" b="964"/>
          <a:stretch/>
        </p:blipFill>
        <p:spPr>
          <a:xfrm>
            <a:off x="1905120" y="1523880"/>
            <a:ext cx="5029200" cy="388620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5"/>
          <p:cNvCxnSpPr/>
          <p:nvPr/>
        </p:nvCxnSpPr>
        <p:spPr>
          <a:xfrm>
            <a:off x="3276720" y="914400"/>
            <a:ext cx="1219680" cy="1905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Straight Arrow Connector 7"/>
          <p:cNvCxnSpPr/>
          <p:nvPr/>
        </p:nvCxnSpPr>
        <p:spPr>
          <a:xfrm flipH="1">
            <a:off x="2666520" y="990720"/>
            <a:ext cx="610560" cy="1219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ждрал, -а м. род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34" name="Picture 2" descr="Ždral | origamifun"/>
          <p:cNvPicPr/>
          <p:nvPr/>
        </p:nvPicPr>
        <p:blipFill>
          <a:blip r:embed="rId1"/>
          <a:stretch/>
        </p:blipFill>
        <p:spPr>
          <a:xfrm>
            <a:off x="1295280" y="1371600"/>
            <a:ext cx="4048200" cy="26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Симболичка значења у кинеској традицији - Ждрал, симбол мира"/>
          <p:cNvPicPr/>
          <p:nvPr/>
        </p:nvPicPr>
        <p:blipFill>
          <a:blip r:embed="rId2"/>
          <a:stretch/>
        </p:blipFill>
        <p:spPr>
          <a:xfrm>
            <a:off x="5638680" y="3048120"/>
            <a:ext cx="331488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степа, -е ж. род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ведар, -дра, -дро (дан, небо, дечак)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37" name="Picture 4" descr="BBC - Travel - Welcome to Europe's cowboy country"/>
          <p:cNvPicPr/>
          <p:nvPr/>
        </p:nvPicPr>
        <p:blipFill>
          <a:blip r:embed="rId1"/>
          <a:stretch/>
        </p:blipFill>
        <p:spPr>
          <a:xfrm>
            <a:off x="1749600" y="1170000"/>
            <a:ext cx="564192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00080" y="104760"/>
            <a:ext cx="8943840" cy="664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avougaonik 3"/>
          <p:cNvSpPr/>
          <p:nvPr/>
        </p:nvSpPr>
        <p:spPr>
          <a:xfrm>
            <a:off x="179280" y="225360"/>
            <a:ext cx="8786880" cy="6388200"/>
          </a:xfrm>
          <a:prstGeom prst="rect">
            <a:avLst/>
          </a:prstGeom>
          <a:solidFill>
            <a:srgbClr val="ebddc3"/>
          </a:solidFill>
          <a:ln w="284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ravougaonik: sa zaobljenim uglovima 6"/>
          <p:cNvSpPr/>
          <p:nvPr/>
        </p:nvSpPr>
        <p:spPr>
          <a:xfrm>
            <a:off x="249120" y="304920"/>
            <a:ext cx="8666280" cy="621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Slika 15" descr=""/>
          <p:cNvPicPr/>
          <p:nvPr/>
        </p:nvPicPr>
        <p:blipFill>
          <a:blip r:embed="rId2"/>
          <a:stretch/>
        </p:blipFill>
        <p:spPr>
          <a:xfrm>
            <a:off x="2236680" y="3700440"/>
            <a:ext cx="74448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Okvir za tekst 14"/>
          <p:cNvSpPr/>
          <p:nvPr/>
        </p:nvSpPr>
        <p:spPr>
          <a:xfrm>
            <a:off x="380880" y="197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очарати, -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Slika 21" descr=""/>
          <p:cNvPicPr/>
          <p:nvPr/>
        </p:nvPicPr>
        <p:blipFill>
          <a:blip r:embed="rId3"/>
          <a:stretch/>
        </p:blipFill>
        <p:spPr>
          <a:xfrm>
            <a:off x="5175360" y="1444680"/>
            <a:ext cx="853920" cy="896760"/>
          </a:xfrm>
          <a:prstGeom prst="rect">
            <a:avLst/>
          </a:prstGeom>
          <a:ln w="0">
            <a:noFill/>
          </a:ln>
        </p:spPr>
      </p:pic>
      <p:sp>
        <p:nvSpPr>
          <p:cNvPr id="244" name="Okvir za tekst 22"/>
          <p:cNvSpPr/>
          <p:nvPr/>
        </p:nvSpPr>
        <p:spPr>
          <a:xfrm>
            <a:off x="457200" y="113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армоничан, -чна, -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lika 23" descr=""/>
          <p:cNvPicPr/>
          <p:nvPr/>
        </p:nvPicPr>
        <p:blipFill>
          <a:blip r:embed="rId4"/>
          <a:stretch/>
        </p:blipFill>
        <p:spPr>
          <a:xfrm>
            <a:off x="2968560" y="1444680"/>
            <a:ext cx="762120" cy="822240"/>
          </a:xfrm>
          <a:prstGeom prst="rect">
            <a:avLst/>
          </a:prstGeom>
          <a:ln w="0">
            <a:noFill/>
          </a:ln>
        </p:spPr>
      </p:pic>
      <p:sp>
        <p:nvSpPr>
          <p:cNvPr id="246" name="Okvir za tekst 27"/>
          <p:cNvSpPr/>
          <p:nvPr/>
        </p:nvSpPr>
        <p:spPr>
          <a:xfrm>
            <a:off x="4495680" y="909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бијен емо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Slika 28" descr=""/>
          <p:cNvPicPr/>
          <p:nvPr/>
        </p:nvPicPr>
        <p:blipFill>
          <a:blip r:embed="rId5"/>
          <a:stretch/>
        </p:blipFill>
        <p:spPr>
          <a:xfrm>
            <a:off x="5784840" y="2968560"/>
            <a:ext cx="701640" cy="822240"/>
          </a:xfrm>
          <a:prstGeom prst="rect">
            <a:avLst/>
          </a:prstGeom>
          <a:ln w="0">
            <a:noFill/>
          </a:ln>
        </p:spPr>
      </p:pic>
      <p:sp>
        <p:nvSpPr>
          <p:cNvPr id="248" name="Okvir za tekst 32"/>
          <p:cNvSpPr/>
          <p:nvPr/>
        </p:nvSpPr>
        <p:spPr>
          <a:xfrm>
            <a:off x="655308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жврљати, -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kvir za tekst 39"/>
          <p:cNvSpPr/>
          <p:nvPr/>
        </p:nvSpPr>
        <p:spPr>
          <a:xfrm>
            <a:off x="30492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ждрал, -а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Slika 42" descr=""/>
          <p:cNvPicPr/>
          <p:nvPr/>
        </p:nvPicPr>
        <p:blipFill>
          <a:blip r:embed="rId6"/>
          <a:stretch/>
        </p:blipFill>
        <p:spPr>
          <a:xfrm>
            <a:off x="2114640" y="237168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251" name="Okvir za tekst 45"/>
          <p:cNvSpPr/>
          <p:nvPr/>
        </p:nvSpPr>
        <p:spPr>
          <a:xfrm>
            <a:off x="5791320" y="4191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ведар, -дра, -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Slika 44" descr=""/>
          <p:cNvPicPr/>
          <p:nvPr/>
        </p:nvPicPr>
        <p:blipFill>
          <a:blip r:embed="rId7"/>
          <a:stretch/>
        </p:blipFill>
        <p:spPr>
          <a:xfrm>
            <a:off x="5022720" y="4413240"/>
            <a:ext cx="774720" cy="792000"/>
          </a:xfrm>
          <a:prstGeom prst="rect">
            <a:avLst/>
          </a:prstGeom>
          <a:ln w="0">
            <a:noFill/>
          </a:ln>
        </p:spPr>
      </p:pic>
      <p:sp>
        <p:nvSpPr>
          <p:cNvPr id="253" name="Okvir za tekst 49"/>
          <p:cNvSpPr/>
          <p:nvPr/>
        </p:nvSpPr>
        <p:spPr>
          <a:xfrm>
            <a:off x="2998800" y="53341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теп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lika 47" descr=""/>
          <p:cNvPicPr/>
          <p:nvPr/>
        </p:nvPicPr>
        <p:blipFill>
          <a:blip r:embed="rId8"/>
          <a:stretch/>
        </p:blipFill>
        <p:spPr>
          <a:xfrm>
            <a:off x="3376440" y="2454120"/>
            <a:ext cx="1729080" cy="1633680"/>
          </a:xfrm>
          <a:prstGeom prst="rect">
            <a:avLst/>
          </a:prstGeom>
          <a:ln w="0">
            <a:noFill/>
          </a:ln>
        </p:spPr>
      </p:pic>
      <p:pic>
        <p:nvPicPr>
          <p:cNvPr id="255" name="Slika 52" descr=""/>
          <p:cNvPicPr/>
          <p:nvPr/>
        </p:nvPicPr>
        <p:blipFill>
          <a:blip r:embed="rId9"/>
          <a:stretch/>
        </p:blipFill>
        <p:spPr>
          <a:xfrm>
            <a:off x="3444840" y="4516560"/>
            <a:ext cx="755640" cy="823680"/>
          </a:xfrm>
          <a:prstGeom prst="rect">
            <a:avLst/>
          </a:prstGeom>
          <a:ln w="0">
            <a:noFill/>
          </a:ln>
        </p:spPr>
      </p:pic>
      <p:cxnSp>
        <p:nvCxnSpPr>
          <p:cNvPr id="256" name="Prava linija spajanja sa strelicom 51"/>
          <p:cNvCxnSpPr/>
          <p:nvPr/>
        </p:nvCxnSpPr>
        <p:spPr>
          <a:xfrm flipH="1" flipV="1">
            <a:off x="2742480" y="2666520"/>
            <a:ext cx="780120" cy="56880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257" name="Prava linija spajanja sa strelicom 56"/>
          <p:cNvCxnSpPr/>
          <p:nvPr/>
        </p:nvCxnSpPr>
        <p:spPr>
          <a:xfrm flipH="1" flipV="1">
            <a:off x="3615840" y="2141280"/>
            <a:ext cx="270720" cy="45000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258" name="Prava linija spajanja sa strelicom 61"/>
          <p:cNvCxnSpPr/>
          <p:nvPr/>
        </p:nvCxnSpPr>
        <p:spPr>
          <a:xfrm flipV="1">
            <a:off x="4571640" y="2204280"/>
            <a:ext cx="732600" cy="538920"/>
          </a:xfrm>
          <a:prstGeom prst="straightConnector1">
            <a:avLst/>
          </a:prstGeom>
          <a:ln w="28440">
            <a:solidFill>
              <a:srgbClr val="ff0101"/>
            </a:solidFill>
            <a:miter/>
            <a:tailEnd len="med" type="triangle" w="med"/>
          </a:ln>
        </p:spPr>
      </p:cxnSp>
      <p:cxnSp>
        <p:nvCxnSpPr>
          <p:cNvPr id="259" name="Prava linija spajanja sa strelicom 66"/>
          <p:cNvCxnSpPr/>
          <p:nvPr/>
        </p:nvCxnSpPr>
        <p:spPr>
          <a:xfrm>
            <a:off x="5028840" y="3124080"/>
            <a:ext cx="803880" cy="1994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260" name="Prava linija spajanja sa strelicom 70"/>
          <p:cNvCxnSpPr/>
          <p:nvPr/>
        </p:nvCxnSpPr>
        <p:spPr>
          <a:xfrm flipH="1">
            <a:off x="2971080" y="3657600"/>
            <a:ext cx="554760" cy="33264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1" name="Prava linija spajanja sa strelicom 73"/>
          <p:cNvCxnSpPr/>
          <p:nvPr/>
        </p:nvCxnSpPr>
        <p:spPr>
          <a:xfrm flipH="1">
            <a:off x="3809520" y="3962520"/>
            <a:ext cx="100800" cy="697680"/>
          </a:xfrm>
          <a:prstGeom prst="straightConnector1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</p:cxnSp>
      <p:cxnSp>
        <p:nvCxnSpPr>
          <p:cNvPr id="262" name="Prava linija spajanja sa strelicom 76"/>
          <p:cNvCxnSpPr/>
          <p:nvPr/>
        </p:nvCxnSpPr>
        <p:spPr>
          <a:xfrm>
            <a:off x="4723920" y="3885840"/>
            <a:ext cx="599400" cy="631080"/>
          </a:xfrm>
          <a:prstGeom prst="straightConnector1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</p:cxnSp>
      <p:pic>
        <p:nvPicPr>
          <p:cNvPr id="263" name="Picture 47" descr="IMG_20210306_200613 (1).jpg"/>
          <p:cNvPicPr/>
          <p:nvPr/>
        </p:nvPicPr>
        <p:blipFill>
          <a:blip r:embed="rId10"/>
          <a:srcRect l="28732" t="39533" r="23556" b="30979"/>
          <a:stretch/>
        </p:blipFill>
        <p:spPr>
          <a:xfrm>
            <a:off x="6629400" y="1371600"/>
            <a:ext cx="198108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имболичка значења у кинеској традицији - Ждрал, симбол мира"/>
          <p:cNvPicPr/>
          <p:nvPr/>
        </p:nvPicPr>
        <p:blipFill>
          <a:blip r:embed="rId11"/>
          <a:stretch/>
        </p:blipFill>
        <p:spPr>
          <a:xfrm>
            <a:off x="360360" y="3882960"/>
            <a:ext cx="1644480" cy="323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BBC - Travel - Welcome to Europe's cowboy country"/>
          <p:cNvPicPr/>
          <p:nvPr/>
        </p:nvPicPr>
        <p:blipFill>
          <a:blip r:embed="rId12"/>
          <a:stretch/>
        </p:blipFill>
        <p:spPr>
          <a:xfrm>
            <a:off x="5867280" y="4952880"/>
            <a:ext cx="228600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OVO JE NAJSTRAŠNIJI DAN U MOM ŽIVOTU - Jasminka Petrović | Knjižare Vulkan"/>
          <p:cNvPicPr/>
          <p:nvPr/>
        </p:nvPicPr>
        <p:blipFill>
          <a:blip r:embed="rId1"/>
          <a:srcRect l="20195" t="0" r="20091" b="1282"/>
          <a:stretch/>
        </p:blipFill>
        <p:spPr>
          <a:xfrm>
            <a:off x="1676520" y="380880"/>
            <a:ext cx="2819160" cy="426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OVO JE NAJSTRAŠNIJI DAN U MOM ŽIVOTU - Jasminka Petrović | Knjižare Vulkan"/>
          <p:cNvPicPr/>
          <p:nvPr/>
        </p:nvPicPr>
        <p:blipFill>
          <a:blip r:embed="rId2"/>
          <a:srcRect l="4241" t="1273" r="2383" b="8278"/>
          <a:stretch/>
        </p:blipFill>
        <p:spPr>
          <a:xfrm>
            <a:off x="4952880" y="380880"/>
            <a:ext cx="3581640" cy="577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6T16:00:58Z</dcterms:created>
  <dc:creator>a4</dc:creator>
  <dc:description/>
  <dc:language>en-US</dc:language>
  <cp:lastModifiedBy>Natasa</cp:lastModifiedBy>
  <dcterms:modified xsi:type="dcterms:W3CDTF">2021-04-23T21:01:40Z</dcterms:modified>
  <cp:revision>22</cp:revision>
  <dc:subject/>
  <dc:title>Земљо, отвори се</dc:title>
</cp:coreProperties>
</file>