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1B4-1D95-4111-B8E9-14EA6C6F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98E-17D5-42A2-90DC-BE796776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259-C1FA-4CBA-8DD1-A35EC13C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C9E-96F6-471D-8479-8A5DAD84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152B-4FB6-497E-AEAC-35BDE987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58B-FCF9-4839-A380-52963490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BCAD-5FB6-4FBF-9CEB-683E27B6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4DDC-16DC-4A5F-95AF-3397DE33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789-5481-4BBE-81DC-55B8BEBE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2D6C-2ABE-46E2-8DC8-8312A3BC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264B-6546-45B0-ADAD-FE7CA55D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F8F-4178-40AA-845A-2B2C2F9A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794B-3D21-4DA8-AE2E-9222FDA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A29-9D9E-4F86-8529-DE81021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DE6A-3540-4A78-95FB-A7B651AC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1EF6-3D4C-4852-AC07-717F4A03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DEC6-1638-4212-BE95-8BCE3644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AEEA-9488-4C73-A1FE-7C78712D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782B-9E58-4318-82F0-6043F088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68D0-3FC2-4057-8E0E-204A76D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54D9-82BB-45C2-BAF8-6545AC53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6425C-72B8-4A03-9AEF-E7AE0FCD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D94-EEBC-4ACF-AE73-00064E26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3167-D1DF-4977-B375-764F635C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FF58-9A30-4780-B26C-D270280E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5919-BFB5-46A0-861F-6CC7887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8941-E412-4CB8-8E19-DB6108F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2A5A-4165-4D70-A5D6-0C4F3A6C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00FA-C460-4B40-B9C3-D27ED817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9C75-3BFF-4E2D-A95F-5F3B17C9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0A8D4-6D0A-4A8F-9779-47A3DD8A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8F6F-442F-4646-A45C-3FA2E54B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AE90C-B186-4B9B-AF79-8FC46C8B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E9C-3805-4F24-AC33-EE2B975E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85F1-C53F-4B13-B084-93B7B8AD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D809A-AEB7-4DB3-80D5-C9480590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EC52D-D3CA-4BCE-8D23-65E79D34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0CA06-DC1F-4EE7-AA94-9893C91C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4064-D6F8-491A-8D6C-414603A4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084C-BD40-41BA-83C4-6FA4C6F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6D3E-4D29-45C9-80C7-5A4BD26B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E1D1-214C-4DD4-8EAC-F1362F44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A0D7A-B40F-4351-A762-583AA00C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28C59-B2E7-40A4-B686-24A988E5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981-7E0C-44A7-9994-6EE1402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6D33-54B5-48A0-A2F2-07BD6082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13017-ED0F-46D5-A099-9EB0F3E5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AD649-BAD0-4497-AD1E-C3FE9DD1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2ED8-B3EF-42B6-9D83-C8232952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79345-CDBE-4D73-92A2-34BD6AB9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DDB83-0E48-4007-AD6F-F6A3B69E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DED1-EBC8-458D-ABED-4B5FE4D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2597C-A46D-4BB1-AF56-29E2D737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74CB1-7611-46FD-8F69-A756D31D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CE8D-1286-4073-A10E-EC2AFC5D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496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9D6-4C9F-43A3-9C01-EC7AF38F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7080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5560" y="14475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4364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97080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05560" y="3954960"/>
            <a:ext cx="2413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00D6D-524C-42FB-84B5-B10293FC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24B-212B-4F55-B8D1-050A4426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600" y="39549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505-F214-422B-B39D-E865406F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64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600" y="1447560"/>
            <a:ext cx="3657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6400" y="3954960"/>
            <a:ext cx="74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E21-554E-4CC8-B2F9-ECCA367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1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10628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3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67AA-7791-4B06-AABB-6BE978390F92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5"/>
          <p:cNvGrpSpPr/>
          <p:nvPr/>
        </p:nvGrpSpPr>
        <p:grpSpPr>
          <a:xfrm>
            <a:off x="6480" y="0"/>
            <a:ext cx="9140760" cy="6858000"/>
            <a:chOff x="6480" y="0"/>
            <a:chExt cx="9140760" cy="6858000"/>
          </a:xfrm>
        </p:grpSpPr>
        <p:sp>
          <p:nvSpPr>
            <p:cNvPr id="46" name="Rectangle 3"/>
            <p:cNvSpPr/>
            <p:nvPr/>
          </p:nvSpPr>
          <p:spPr>
            <a:xfrm>
              <a:off x="6480" y="0"/>
              <a:ext cx="9140760" cy="6858000"/>
            </a:xfrm>
            <a:prstGeom prst="rect">
              <a:avLst/>
            </a:prstGeom>
            <a:solidFill>
              <a:srgbClr val="e0c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" name="Rectangle 14"/>
            <p:cNvSpPr/>
            <p:nvPr/>
          </p:nvSpPr>
          <p:spPr>
            <a:xfrm>
              <a:off x="1106280" y="0"/>
              <a:ext cx="71280" cy="6858000"/>
            </a:xfrm>
            <a:prstGeom prst="rect">
              <a:avLst/>
            </a:prstGeom>
            <a:solidFill>
              <a:srgbClr val="20190b"/>
            </a:solidFill>
            <a:ln w="0">
              <a:noFill/>
            </a:ln>
            <a:effectLst>
              <a:outerShdw dist="38160" dir="10800000" blurRad="0" rotWithShape="0">
                <a:srgbClr val="726a5c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48" name="Picture 2" descr=""/>
            <p:cNvPicPr/>
            <p:nvPr/>
          </p:nvPicPr>
          <p:blipFill>
            <a:blip r:embed="rId2"/>
            <a:stretch/>
          </p:blipFill>
          <p:spPr>
            <a:xfrm>
              <a:off x="6480" y="0"/>
              <a:ext cx="11214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8A8C-FDD0-4554-8760-EA2AFB008E22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2009-127A-444A-87D8-74C0890839A2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EB4B-583E-484E-A940-FC75AD7FE049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cb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10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74" name="Rectangle 10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76" name="Flowchart: Process 11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3d9a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Flowchart: Process 12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d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d8047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436400" y="1447560"/>
            <a:ext cx="74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3" marL="1096920" indent="-173160">
              <a:spcBef>
                <a:spcPts val="601"/>
              </a:spcBef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4" marL="1297080" indent="-182520">
              <a:spcBef>
                <a:spcPts val="601"/>
              </a:spcBef>
              <a:buClr>
                <a:srgbClr val="d8b25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E822-376B-4663-99C9-E1D611B21526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1179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Кад иду преко села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31720" y="267012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лирска народна песма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Лирск</a:t>
            </a:r>
            <a:r>
              <a:rPr b="1" lang="sr-Latn-RS" sz="36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e</a:t>
            </a:r>
            <a:r>
              <a:rPr b="1" lang="sr-RS" sz="36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народн</a:t>
            </a:r>
            <a:r>
              <a:rPr b="1" lang="sr-Latn-RS" sz="36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e</a:t>
            </a:r>
            <a:r>
              <a:rPr b="1" lang="sr-RS" sz="36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обредн</a:t>
            </a:r>
            <a:r>
              <a:rPr b="1" lang="sr-Latn-RS" sz="36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e</a:t>
            </a:r>
            <a:r>
              <a:rPr b="1" lang="sr-RS" sz="36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 песм</a:t>
            </a:r>
            <a:r>
              <a:rPr b="1" lang="sr-Latn-RS" sz="36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e</a:t>
            </a:r>
            <a:endParaRPr b="1" lang="en-US" sz="36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Лирске народне песме </a:t>
            </a:r>
            <a:r>
              <a:rPr b="0" lang="sr-R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‒ песме у којима се пева о осећањима, обичајима и обредима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Обредне песме</a:t>
            </a:r>
            <a:r>
              <a:rPr b="0" lang="sr-R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‒ песме којима су се пратиле промене у природи (почетак нове године, долазак пролећа, суша...) 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85560" y="712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Објањење мање познатих речи</a:t>
            </a:r>
            <a:endParaRPr b="1" lang="en-US" sz="32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13920" y="713880"/>
            <a:ext cx="772020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дола прекривена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лишћем призива 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олујне облаке и 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својим плесом 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ривлачи муње 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ерперунин плес</a:t>
            </a:r>
            <a:r>
              <a:rPr b="0" lang="sr-R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,</a:t>
            </a:r>
            <a:r>
              <a:rPr b="0" lang="sr-Latn-CS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Марек Хапон</a:t>
            </a:r>
            <a:endParaRPr b="0" lang="en-US" sz="3200" spc="-1" strike="noStrike">
              <a:solidFill>
                <a:srgbClr val="775f55"/>
              </a:solidFill>
              <a:latin typeface="Century Gothic"/>
            </a:endParaRPr>
          </a:p>
        </p:txBody>
      </p:sp>
      <p:pic>
        <p:nvPicPr>
          <p:cNvPr id="223" name="Picture 2" descr="https://upload.wikimedia.org/wikipedia/commons/thumb/3/37/Taniec_Perperuny.jpg/800px-Taniec_Perperuny.jpg"/>
          <p:cNvPicPr/>
          <p:nvPr/>
        </p:nvPicPr>
        <p:blipFill>
          <a:blip r:embed="rId1"/>
          <a:stretch/>
        </p:blipFill>
        <p:spPr>
          <a:xfrm>
            <a:off x="5214960" y="714240"/>
            <a:ext cx="3657600" cy="520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97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Додолске песме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42640" y="7617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Ове песме нису везане за одређени датум, изводиле се по потреби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То је женски обред, изводе га младе девојке у костимима од биља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Иду од куће до куће певајући и утркујући се с облацима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маћин их полива водом, што заједно са низом ритуалних радњи, треба да призове кишу.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cc5c7e3d0e7edd86a83831b3d21ded0c.jpg"/>
          <p:cNvPicPr/>
          <p:nvPr/>
        </p:nvPicPr>
        <p:blipFill>
          <a:blip r:embed="rId1"/>
          <a:stretch/>
        </p:blipFill>
        <p:spPr>
          <a:xfrm>
            <a:off x="1523880" y="457200"/>
            <a:ext cx="7293240" cy="54100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2983680" y="6019920"/>
            <a:ext cx="42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оле, Србија1958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Пеперуда_в_Добруджа_1950.jpg"/>
          <p:cNvPicPr/>
          <p:nvPr/>
        </p:nvPicPr>
        <p:blipFill>
          <a:blip r:embed="rId1"/>
          <a:stretch/>
        </p:blipFill>
        <p:spPr>
          <a:xfrm>
            <a:off x="1447920" y="838080"/>
            <a:ext cx="7375320" cy="5105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2291040" y="6095880"/>
            <a:ext cx="47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оле, Бугарска 1950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Трка с облацима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571760" y="1143000"/>
            <a:ext cx="3571920" cy="2575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4643280" y="3786120"/>
            <a:ext cx="38386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583320" cy="4857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"/>
          <p:cNvSpPr/>
          <p:nvPr/>
        </p:nvSpPr>
        <p:spPr>
          <a:xfrm>
            <a:off x="2007720" y="5357880"/>
            <a:ext cx="30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а, -е ж. род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додоле.jpg"/>
          <p:cNvPicPr/>
          <p:nvPr/>
        </p:nvPicPr>
        <p:blipFill>
          <a:blip r:embed="rId1"/>
          <a:stretch/>
        </p:blipFill>
        <p:spPr>
          <a:xfrm>
            <a:off x="1219320" y="457200"/>
            <a:ext cx="782928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"/>
          <p:cNvSpPr/>
          <p:nvPr/>
        </p:nvSpPr>
        <p:spPr>
          <a:xfrm>
            <a:off x="2502000" y="6248520"/>
            <a:ext cx="58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ање додоле, Урош Предић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300" spc="-1" strike="noStrike">
                <a:solidFill>
                  <a:srgbClr val="dd8047"/>
                </a:solidFill>
                <a:latin typeface="Times New Roman"/>
                <a:ea typeface="Times New Roman"/>
              </a:rPr>
              <a:t>Тема песме, стихови</a:t>
            </a:r>
            <a:endParaRPr b="1" lang="en-US" sz="4300" spc="-1" strike="noStrike">
              <a:solidFill>
                <a:srgbClr val="dd8047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Утркивање додола с облацима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Стихови у песми ‒ кратки, опонаша се грмљавина и падање кише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</a:t>
            </a:r>
            <a:r>
              <a:rPr b="0" lang="sr-RS" sz="36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Ој додо, ој додоле ‒ рефрен који се понавља после сваког стиха ‒ ритмичност песме</a:t>
            </a: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5f55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2T09:31:17Z</dcterms:created>
  <dc:creator>Natasa</dc:creator>
  <dc:description/>
  <dc:language>en-US</dc:language>
  <cp:lastModifiedBy>Natasa</cp:lastModifiedBy>
  <dcterms:modified xsi:type="dcterms:W3CDTF">2021-02-02T11:14:32Z</dcterms:modified>
  <cp:revision>9</cp:revision>
  <dc:subject/>
  <dc:title>Кад иду преко села</dc:title>
</cp:coreProperties>
</file>