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BB8E-04C6-4702-895A-A8FB35897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F85-3DAC-470B-908F-29FD17B1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18C-1C78-4622-AC8A-D7BFA93F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122-A474-4AF0-901C-E482DE38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E35-2B88-4229-A421-FBA0C73F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7FA-B278-4863-85BD-3267592A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74CD-A260-4A59-B5BF-76E74DC2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37C-9E05-4143-8230-2DABA460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0A72-C4EE-4223-8B95-D094EE02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BC89-78CE-4206-800D-0E8D4418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F6D8-D382-49DF-A6AA-8B9D93DD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5AD-AE01-4E8D-84D4-AAACF6D6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40DD-E366-44DB-BBDB-598A2ED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F98-0209-4757-B763-500A89C0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6CB2-0262-4939-82EA-D3342E4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76FB-2E35-440D-9F60-8949331A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C3D5-15C9-46D7-829D-CC44D34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01AB-2CF6-463A-A9C4-2C2E1A9E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56F8-61D5-48FB-BA65-99D2E903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655E-764D-41A6-B4A2-AEA0F48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8194-2F1D-4403-9C5C-5C4A1790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57FA-011E-4E41-8E7B-FD1D9991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1177-8670-41FE-A977-47184523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4347-F90E-423B-9498-F3E800C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A87-0991-4C2D-88F4-54C8EEA4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C903-8C7F-48DB-A2BC-87A0E781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5937-1FEB-448F-B770-5BA199B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D5E2-6A26-401D-862B-6BAD43C7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9DC0-C708-4308-935E-0E33CEED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CA08-D712-4E67-A007-2787D545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9E07-7FE9-4218-BD5C-834C925A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EF3E-5E52-4683-8AE7-CAAE680B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BD6A-BA0A-412E-86F4-808831EA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886F-BD71-4CC6-BA98-9F61070E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B309-C9A0-4228-968A-4BE2C80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286-24F7-43D2-9C04-F230C23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D685-271C-4E3C-A5DA-C9C9D011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AA75-8E31-4CA1-96B3-1BC6264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96B70-182A-467D-889F-6B544221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9D11-AB8F-4109-8C17-EBB7E32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5A73-CD51-4733-AA86-8A950CE9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55B8-56DD-468C-BFF7-BAA027E1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5F7E-1DCA-4569-B7D6-D4C6047A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24FB-FCD0-4271-9AF5-36C794A1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DAC18-AB1C-4BF6-A8DA-8B697CF6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B0AC4-79FD-4F3B-BB87-0270B05B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30E-164A-45CE-A1EE-9C7E39A7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83AB-0578-4681-8897-A53C2C3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9BD3-7D8A-485C-9E48-96437C24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B8B4-9AAD-4827-BB6A-5A8724C8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3079-AE07-4584-940E-8D525426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4201-5329-49D5-B49E-FC6BA91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CC3D-1D4B-4DF9-9E9E-BFF0260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A6D1B-A6C7-4A12-B752-FA4C8BF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B995-133C-4096-BCD8-B0C5BCD6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1BB11-659E-45BA-8482-497383B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D1AC-D245-4666-8365-51B89D25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843-4F06-4AA3-9E73-15199EA4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E154-A644-424E-A6BF-31696741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CD6-040F-413E-B849-89B1B84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487-CB6B-428C-A338-8DADFBE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340-C28B-466B-B397-56DA16C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0F2E-9A63-470E-9D1F-9F9AA3D53578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98A2-3A3D-42B0-9424-F90B0D534EB4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E3B8-1E7D-4EBC-8E87-6693F1FB635D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9FB4-3A65-46B3-8E97-070B1859058A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9C94-A2C7-4147-8FE7-E0ABC1AE8E3A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Народна прич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„</a:t>
            </a: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Тамни вилајет”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071720" y="357120"/>
            <a:ext cx="7143480" cy="4714920"/>
          </a:xfrm>
          <a:prstGeom prst="rect">
            <a:avLst/>
          </a:prstGeom>
          <a:ln w="0">
            <a:noFill/>
          </a:ln>
        </p:spPr>
      </p:pic>
      <p:sp>
        <p:nvSpPr>
          <p:cNvPr id="239" name="Subtitle 2"/>
          <p:cNvSpPr/>
          <p:nvPr/>
        </p:nvSpPr>
        <p:spPr>
          <a:xfrm>
            <a:off x="785880" y="5072040"/>
            <a:ext cx="41432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е ж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ан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мна, там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ubtitle 2"/>
          <p:cNvSpPr/>
          <p:nvPr/>
        </p:nvSpPr>
        <p:spPr>
          <a:xfrm>
            <a:off x="4714920" y="5143680"/>
            <a:ext cx="41432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а ноћ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а пећ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8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ubtitle 2"/>
          <p:cNvSpPr/>
          <p:nvPr/>
        </p:nvSpPr>
        <p:spPr>
          <a:xfrm>
            <a:off x="785880" y="5072040"/>
            <a:ext cx="3357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ил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е ж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500120" y="214200"/>
            <a:ext cx="6072120" cy="4710240"/>
          </a:xfrm>
          <a:prstGeom prst="rect">
            <a:avLst/>
          </a:prstGeom>
          <a:ln w="0">
            <a:noFill/>
          </a:ln>
        </p:spPr>
      </p:pic>
      <p:sp>
        <p:nvSpPr>
          <p:cNvPr id="243" name="Subtitle 2"/>
          <p:cNvSpPr/>
          <p:nvPr/>
        </p:nvSpPr>
        <p:spPr>
          <a:xfrm>
            <a:off x="4500720" y="5072040"/>
            <a:ext cx="3857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реб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ета с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ребад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и ж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6591600" cy="3314880"/>
          </a:xfrm>
          <a:prstGeom prst="rect">
            <a:avLst/>
          </a:prstGeom>
          <a:ln w="0">
            <a:noFill/>
          </a:ln>
        </p:spPr>
      </p:pic>
      <p:sp>
        <p:nvSpPr>
          <p:cNvPr id="245" name="Subtitle 2"/>
          <p:cNvSpPr/>
          <p:nvPr/>
        </p:nvSpPr>
        <p:spPr>
          <a:xfrm>
            <a:off x="1357200" y="4500720"/>
            <a:ext cx="63579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о камењ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.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арагди, рубини, сафири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ubtitle 2"/>
          <p:cNvSpPr/>
          <p:nvPr/>
        </p:nvSpPr>
        <p:spPr>
          <a:xfrm>
            <a:off x="857160" y="642960"/>
            <a:ext cx="70725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јати се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ем 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јати се због својих поступа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ко се каја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је се због оног што је урад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ubtitle 2"/>
          <p:cNvSpPr/>
          <p:nvPr/>
        </p:nvSpPr>
        <p:spPr>
          <a:xfrm>
            <a:off x="1000080" y="3929040"/>
            <a:ext cx="7072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ајет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а м. 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и вилај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: тамни вилајет на крају свет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радње: неодређен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ови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јниц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063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 из там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есто и време радње и ликови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ма војника: </a:t>
            </a: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овога камења понесе кајаће се, а ко не понесе кајаће се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ћа није у материјалном богатству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а се кајати јер не можемо вратити оно што је прошло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44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Тема и поруке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oogle Shape;1077;p52"/>
          <p:cNvGrpSpPr/>
          <p:nvPr/>
        </p:nvGrpSpPr>
        <p:grpSpPr>
          <a:xfrm>
            <a:off x="428760" y="1521000"/>
            <a:ext cx="8501040" cy="2681280"/>
            <a:chOff x="428760" y="1521000"/>
            <a:chExt cx="8501040" cy="2681280"/>
          </a:xfrm>
        </p:grpSpPr>
        <p:sp>
          <p:nvSpPr>
            <p:cNvPr id="253" name="Google Shape;1078;p52"/>
            <p:cNvSpPr/>
            <p:nvPr/>
          </p:nvSpPr>
          <p:spPr>
            <a:xfrm>
              <a:off x="434520" y="1536480"/>
              <a:ext cx="8495280" cy="2665440"/>
            </a:xfrm>
            <a:prstGeom prst="pie">
              <a:avLst/>
            </a:prstGeom>
            <a:noFill/>
            <a:ln w="114480">
              <a:solidFill>
                <a:srgbClr val="99cb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Google Shape;1079;p52"/>
            <p:cNvSpPr/>
            <p:nvPr/>
          </p:nvSpPr>
          <p:spPr>
            <a:xfrm>
              <a:off x="428760" y="1521000"/>
              <a:ext cx="8492760" cy="2681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oogle Shape;1088;p52"/>
          <p:cNvGrpSpPr/>
          <p:nvPr/>
        </p:nvGrpSpPr>
        <p:grpSpPr>
          <a:xfrm>
            <a:off x="1143000" y="3214800"/>
            <a:ext cx="392040" cy="514080"/>
            <a:chOff x="1143000" y="3214800"/>
            <a:chExt cx="392040" cy="514080"/>
          </a:xfrm>
        </p:grpSpPr>
        <p:sp>
          <p:nvSpPr>
            <p:cNvPr id="256" name="Google Shape;1089;p52"/>
            <p:cNvSpPr/>
            <p:nvPr/>
          </p:nvSpPr>
          <p:spPr>
            <a:xfrm>
              <a:off x="1173960" y="3252600"/>
              <a:ext cx="331560" cy="43632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Google Shape;1090;p52"/>
            <p:cNvSpPr/>
            <p:nvPr/>
          </p:nvSpPr>
          <p:spPr>
            <a:xfrm>
              <a:off x="1143000" y="3214800"/>
              <a:ext cx="39204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8" name="Straight Arrow Connector 9"/>
          <p:cNvCxnSpPr>
            <a:endCxn id="259" idx="0"/>
          </p:cNvCxnSpPr>
          <p:nvPr/>
        </p:nvCxnSpPr>
        <p:spPr>
          <a:xfrm>
            <a:off x="1213200" y="3714480"/>
            <a:ext cx="358200" cy="113076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59" name="Rectangle 11"/>
          <p:cNvSpPr/>
          <p:nvPr/>
        </p:nvSpPr>
        <p:spPr>
          <a:xfrm>
            <a:off x="142920" y="48448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таман, -мна, -м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oogle Shape;1088;p52"/>
          <p:cNvGrpSpPr/>
          <p:nvPr/>
        </p:nvGrpSpPr>
        <p:grpSpPr>
          <a:xfrm>
            <a:off x="3929040" y="2071800"/>
            <a:ext cx="573120" cy="514080"/>
            <a:chOff x="3929040" y="2071800"/>
            <a:chExt cx="573120" cy="514080"/>
          </a:xfrm>
        </p:grpSpPr>
        <p:sp>
          <p:nvSpPr>
            <p:cNvPr id="261" name="Google Shape;1089;p52"/>
            <p:cNvSpPr/>
            <p:nvPr/>
          </p:nvSpPr>
          <p:spPr>
            <a:xfrm>
              <a:off x="3974040" y="2109600"/>
              <a:ext cx="484560" cy="43632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Google Shape;1090;p52"/>
            <p:cNvSpPr/>
            <p:nvPr/>
          </p:nvSpPr>
          <p:spPr>
            <a:xfrm>
              <a:off x="3929040" y="2071800"/>
              <a:ext cx="57312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3" name="Straight Arrow Connector 15"/>
          <p:cNvCxnSpPr/>
          <p:nvPr/>
        </p:nvCxnSpPr>
        <p:spPr>
          <a:xfrm flipH="1" flipV="1">
            <a:off x="4071240" y="1071360"/>
            <a:ext cx="143640" cy="100080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64" name="Rectangle 16"/>
          <p:cNvSpPr/>
          <p:nvPr/>
        </p:nvSpPr>
        <p:spPr>
          <a:xfrm>
            <a:off x="5711040" y="414324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вилајет, -а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oogle Shape;1088;p52"/>
          <p:cNvGrpSpPr/>
          <p:nvPr/>
        </p:nvGrpSpPr>
        <p:grpSpPr>
          <a:xfrm>
            <a:off x="2714760" y="2571840"/>
            <a:ext cx="571320" cy="514440"/>
            <a:chOff x="2714760" y="2571840"/>
            <a:chExt cx="571320" cy="514440"/>
          </a:xfrm>
        </p:grpSpPr>
        <p:sp>
          <p:nvSpPr>
            <p:cNvPr id="266" name="Google Shape;1089;p52"/>
            <p:cNvSpPr/>
            <p:nvPr/>
          </p:nvSpPr>
          <p:spPr>
            <a:xfrm>
              <a:off x="2760120" y="2609640"/>
              <a:ext cx="482760" cy="43668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Google Shape;1090;p52"/>
            <p:cNvSpPr/>
            <p:nvPr/>
          </p:nvSpPr>
          <p:spPr>
            <a:xfrm>
              <a:off x="2714760" y="2571840"/>
              <a:ext cx="57132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24"/>
          <p:cNvCxnSpPr/>
          <p:nvPr/>
        </p:nvCxnSpPr>
        <p:spPr>
          <a:xfrm>
            <a:off x="3143160" y="3071880"/>
            <a:ext cx="643320" cy="64332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69" name="Rectangle 25"/>
          <p:cNvSpPr/>
          <p:nvPr/>
        </p:nvSpPr>
        <p:spPr>
          <a:xfrm>
            <a:off x="2928960" y="371484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обила, -е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ждребе, -ет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2797560" y="64296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раго кам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oogle Shape;1088;p52"/>
          <p:cNvGrpSpPr/>
          <p:nvPr/>
        </p:nvGrpSpPr>
        <p:grpSpPr>
          <a:xfrm>
            <a:off x="5572080" y="2571840"/>
            <a:ext cx="541440" cy="514440"/>
            <a:chOff x="5572080" y="2571840"/>
            <a:chExt cx="541440" cy="514440"/>
          </a:xfrm>
        </p:grpSpPr>
        <p:sp>
          <p:nvSpPr>
            <p:cNvPr id="272" name="Google Shape;1089;p52"/>
            <p:cNvSpPr/>
            <p:nvPr/>
          </p:nvSpPr>
          <p:spPr>
            <a:xfrm>
              <a:off x="5615280" y="2609640"/>
              <a:ext cx="457560" cy="43668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Google Shape;1090;p52"/>
            <p:cNvSpPr/>
            <p:nvPr/>
          </p:nvSpPr>
          <p:spPr>
            <a:xfrm>
              <a:off x="5572080" y="2571840"/>
              <a:ext cx="54144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4" name="Straight Arrow Connector 31"/>
          <p:cNvCxnSpPr/>
          <p:nvPr/>
        </p:nvCxnSpPr>
        <p:spPr>
          <a:xfrm>
            <a:off x="5856840" y="3143160"/>
            <a:ext cx="143640" cy="100080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34800" y="1852560"/>
            <a:ext cx="1884600" cy="2463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3121200" y="4638600"/>
            <a:ext cx="2189160" cy="3353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3"/>
          <a:stretch/>
        </p:blipFill>
        <p:spPr>
          <a:xfrm>
            <a:off x="5407200" y="566640"/>
            <a:ext cx="24620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278" name="Google Shape;1088;p52"/>
          <p:cNvGrpSpPr/>
          <p:nvPr/>
        </p:nvGrpSpPr>
        <p:grpSpPr>
          <a:xfrm>
            <a:off x="6929280" y="3071880"/>
            <a:ext cx="541440" cy="514440"/>
            <a:chOff x="6929280" y="3071880"/>
            <a:chExt cx="541440" cy="514440"/>
          </a:xfrm>
        </p:grpSpPr>
        <p:sp>
          <p:nvSpPr>
            <p:cNvPr id="279" name="Google Shape;1089;p52"/>
            <p:cNvSpPr/>
            <p:nvPr/>
          </p:nvSpPr>
          <p:spPr>
            <a:xfrm>
              <a:off x="6972480" y="3109680"/>
              <a:ext cx="457560" cy="436680"/>
            </a:xfrm>
            <a:prstGeom prst="pie">
              <a:avLst/>
            </a:prstGeom>
            <a:solidFill>
              <a:srgbClr val="63a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Google Shape;1090;p52"/>
            <p:cNvSpPr/>
            <p:nvPr/>
          </p:nvSpPr>
          <p:spPr>
            <a:xfrm>
              <a:off x="6929280" y="3071880"/>
              <a:ext cx="54144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1" name="Straight Arrow Connector 75"/>
          <p:cNvCxnSpPr/>
          <p:nvPr/>
        </p:nvCxnSpPr>
        <p:spPr>
          <a:xfrm flipV="1">
            <a:off x="7215120" y="2785680"/>
            <a:ext cx="357840" cy="357840"/>
          </a:xfrm>
          <a:prstGeom prst="straightConnector1">
            <a:avLst/>
          </a:prstGeom>
          <a:ln w="38160">
            <a:solidFill>
              <a:srgbClr val="99cb38"/>
            </a:solidFill>
            <a:miter/>
            <a:tailEnd len="med" type="arrow" w="med"/>
          </a:ln>
        </p:spPr>
      </p:cxnSp>
      <p:sp>
        <p:nvSpPr>
          <p:cNvPr id="282" name="Rectangle 76"/>
          <p:cNvSpPr/>
          <p:nvPr/>
        </p:nvSpPr>
        <p:spPr>
          <a:xfrm>
            <a:off x="6368760" y="2286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ајати се, -ем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10:41:51Z</dcterms:created>
  <dc:creator>Natasa</dc:creator>
  <dc:description/>
  <dc:language>en-US</dc:language>
  <cp:lastModifiedBy>Natasa</cp:lastModifiedBy>
  <dcterms:modified xsi:type="dcterms:W3CDTF">2021-04-23T20:37:14Z</dcterms:modified>
  <cp:revision>17</cp:revision>
  <dc:subject/>
  <dc:title>„Тамни вилајет”</dc:title>
</cp:coreProperties>
</file>