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5ED1-B7DF-4022-A709-D7F84401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B21-A0FC-4661-90CE-D2924BBE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3CA-628A-41A6-912D-D47857E9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600-AA92-4D08-B560-8511ECB4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2D1-B17C-4053-80BC-BF07E511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E3E-15B8-4BC4-8FB0-E7397771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BCA-8DA3-48BC-A73B-C57333C6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CE72-3672-4B71-A9EB-86BFF8D2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CE74-C548-44E4-A7F7-9B0489D0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7AB2-3F9A-44D5-8450-6F15EF72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DF2D-E30C-4B4A-B5CB-4C9127F4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F61-666E-48D7-AD0E-0156626D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8B57-FC16-4133-B2F4-A43159C6D877}" type="slidenum">
              <a:rPr b="0" lang="sr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инц Раст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Calibri"/>
              </a:rPr>
              <a:t>Милован Витез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54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Свети Сава, фреска из манастира Милеше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155520" y="-3840120"/>
            <a:ext cx="9105840" cy="80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DA5E7995-6AB1-4C97-8003-34E581DEF3F7.jpeg"/>
          <p:cNvPicPr/>
          <p:nvPr/>
        </p:nvPicPr>
        <p:blipFill>
          <a:blip r:embed="rId1"/>
          <a:stretch/>
        </p:blipFill>
        <p:spPr>
          <a:xfrm>
            <a:off x="1857240" y="289080"/>
            <a:ext cx="568800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аско Немањић / Свети Са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оји се празник слави 27. јануар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ако се он у школама прослављ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Шта знаш о Растку Немањићу ‒ Светом Сав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86280" y="274320"/>
            <a:ext cx="314352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ри Ра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је српски средњовековни град (тврђава) и престоница српске средњовековне држав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шк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Остаци тврђаве налазе се на локалитету Градина изнад Старог Трговишта (Пазаришта), 11 км од Новог Паза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s://upload.wikimedia.org/wikipedia/commons/8/85/Stari_Ras.jpg?1632392471169"/>
          <p:cNvPicPr/>
          <p:nvPr/>
        </p:nvPicPr>
        <p:blipFill>
          <a:blip r:embed="rId1"/>
          <a:stretch/>
        </p:blipFill>
        <p:spPr>
          <a:xfrm>
            <a:off x="785880" y="214200"/>
            <a:ext cx="4898880" cy="635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s://upload.wikimedia.org/wikipedia/commons/thumb/4/49/Relief_map_of_Serbia.png/480px-Relief_map_of_Serbia.png"/>
          <p:cNvPicPr/>
          <p:nvPr/>
        </p:nvPicPr>
        <p:blipFill>
          <a:blip r:embed="rId2"/>
          <a:stretch/>
        </p:blipFill>
        <p:spPr>
          <a:xfrm>
            <a:off x="1214280" y="523800"/>
            <a:ext cx="4000680" cy="5667480"/>
          </a:xfrm>
          <a:prstGeom prst="rect">
            <a:avLst/>
          </a:prstGeom>
          <a:ln w="0">
            <a:noFill/>
          </a:ln>
        </p:spPr>
      </p:pic>
      <p:sp>
        <p:nvSpPr>
          <p:cNvPr id="51" name="Flowchart: Connector 4"/>
          <p:cNvSpPr/>
          <p:nvPr/>
        </p:nvSpPr>
        <p:spPr>
          <a:xfrm>
            <a:off x="2643120" y="4357800"/>
            <a:ext cx="142920" cy="14292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рсташ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Krstaški ratovi | Shtreber"/>
          <p:cNvPicPr/>
          <p:nvPr/>
        </p:nvPicPr>
        <p:blipFill>
          <a:blip r:embed="rId1"/>
          <a:stretch/>
        </p:blipFill>
        <p:spPr>
          <a:xfrm>
            <a:off x="1357200" y="1308240"/>
            <a:ext cx="666936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1680" y="274320"/>
            <a:ext cx="361476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Фридрих Барбарос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љ Немачке (1152—1190) и цар Светог римског царства (1155—1190). Био је такође краљ Италије (1154—1186). Познат је по учешћу у Трећем крсташком ра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Barbarossa.jpg"/>
          <p:cNvPicPr/>
          <p:nvPr/>
        </p:nvPicPr>
        <p:blipFill>
          <a:blip r:embed="rId1"/>
          <a:stretch/>
        </p:blipFill>
        <p:spPr>
          <a:xfrm>
            <a:off x="500040" y="517680"/>
            <a:ext cx="442908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ирнбер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Nuremberg panorama morning 3.jpg"/>
          <p:cNvPicPr/>
          <p:nvPr/>
        </p:nvPicPr>
        <p:blipFill>
          <a:blip r:embed="rId1"/>
          <a:stretch/>
        </p:blipFill>
        <p:spPr>
          <a:xfrm>
            <a:off x="285840" y="1500120"/>
            <a:ext cx="833436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45352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нежевина Травун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s://upload.wikimedia.org/wikipedia/commons/f/fe/Serbien_9.Jhd.jpg"/>
          <p:cNvPicPr/>
          <p:nvPr/>
        </p:nvPicPr>
        <p:blipFill>
          <a:blip r:embed="rId1"/>
          <a:stretch/>
        </p:blipFill>
        <p:spPr>
          <a:xfrm>
            <a:off x="1260360" y="1000080"/>
            <a:ext cx="6586560" cy="5572080"/>
          </a:xfrm>
          <a:prstGeom prst="rect">
            <a:avLst/>
          </a:prstGeom>
          <a:ln w="0">
            <a:noFill/>
          </a:ln>
        </p:spPr>
      </p:pic>
      <p:sp>
        <p:nvSpPr>
          <p:cNvPr id="60" name="Freeform 4"/>
          <p:cNvSpPr/>
          <p:nvPr/>
        </p:nvSpPr>
        <p:spPr>
          <a:xfrm>
            <a:off x="3573360" y="4219560"/>
            <a:ext cx="1658880" cy="81612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ветлост и голуб ‒ симб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Светлост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‒ 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симбол духовности или владарске моћ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Ја сам сада Сава Грешни” ‒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грешност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, одлука да се посвети духовном животу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голуб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 ‒ симбол Божјег благо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23T10:03:22Z</dcterms:created>
  <dc:creator>Natasa</dc:creator>
  <dc:description/>
  <dc:language>en-US</dc:language>
  <cp:lastModifiedBy>Natasa</cp:lastModifiedBy>
  <dcterms:modified xsi:type="dcterms:W3CDTF">2021-09-25T18:56:38Z</dcterms:modified>
  <cp:revision>13</cp:revision>
  <dc:subject/>
  <dc:title>Принц Растко</dc:title>
</cp:coreProperties>
</file>