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4.png" ContentType="image/pn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4D0-9E10-46B6-8B24-F94DBD71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84D-6851-4CA6-B60E-5DE77E3B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99FC3-371F-4985-B8F5-E1B1144E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7E848-7ED4-40A4-A81C-3CECDA6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4FBB3-3C10-4633-B5C1-0335707E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8D6D0-DF4D-4317-BC12-A9C79FF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C6540-DF17-4EC9-A1B1-AD5B78C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B6986-609E-421C-B14D-B227048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3927C-833C-4C19-AD08-8579116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41724-EA38-40F7-B984-4C767C0E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D09A2-28D3-4AAB-9935-9504D217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BA1-7AC9-4C5F-A41D-54B5664A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075-C54E-446F-869F-B57D3B14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01719-6A58-4581-B2B0-480B1E62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A2A94-88BB-4684-8787-CD4A6E8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83179-BDAA-4621-AE3F-4BCA97F7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CAD2C-8757-431B-B795-D90162F7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F85F-08EC-496B-A8DB-ABAE2C2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522F0-4384-4734-8922-3BA3D907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74BB-8EFE-46AE-81F1-CBBE88A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BD8-168A-4EFF-97DF-AB4D4C1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6BD95-5007-4717-B02B-54B404C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24E32-655B-4243-9A9F-9D330E1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D36D3-4FEF-4D71-9969-86C55D9C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6806-D248-43D4-879F-ECF603DD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1045-A710-4F03-88F0-C25FB847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00AC-01F7-425C-BC54-74E375E3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9700-1875-434B-9281-62E24A11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5F67-934B-4478-9461-CF772D3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18FB-6F27-4A23-BF95-27EB29D6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F599-CF51-4C34-B648-75099023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BDE-28D9-49E5-85E3-A8988445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78F1-1889-4AA7-BF9D-A01BF8E3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1DF2-22A3-489C-8D58-B86AE87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5E26-474F-45B8-80D0-840A558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23B2-CF6A-4F78-A723-C48877B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D3E1-77D8-4EC9-89FA-EF2D0AF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4641-99A6-4458-93BA-A6062866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3CAE-D05D-4A3B-9800-6EA2CFB3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DCB7A-7146-4D7F-98B1-CFC190CA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7A991-F3DF-4981-BDDF-439B7FF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A709D-8F82-422A-AFA4-44F9FE58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B41-D1C8-424A-8BDA-B39DF0EC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4C118-3717-4E2E-8B8D-F556EFB4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3447C-8226-4DA6-8B99-9920D359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2BD6B-9435-498C-9ACD-A4B1CDA6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AB6E0-B695-4594-A550-48E0300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1CF40-66E4-4754-BB29-3394710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4ADE4-87C0-43D4-A359-A89D6A39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76840-A677-409C-8896-8718188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FE8AF-2F7E-43E1-9719-1F469475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A1029-2D24-4250-A19F-469EF47B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1982-8868-4491-A435-5EB082F0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704-E8BB-4B90-B1CC-A8472285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BBFA-25E0-4F4C-9277-DCC53D19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3D15-EC27-443A-96A5-1E059D2F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A7F5-C520-425B-84D5-7899730E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A88A-4E8E-4550-B279-80312A4A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AAE2-A502-464B-885D-87D2D9E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D5DCA-6789-49D5-B5BD-E98F9BD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DAA1-DA29-432C-AA11-9E6EC28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1DA0-44EF-4FD0-A74F-62F8096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4DA1-384F-485D-8D5C-FE18662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92E2-683D-4135-BF9B-EC3D43B9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947-D455-4AF9-8D4D-4CCBD9A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919F-BA57-462C-A8EB-6744D9AF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E017-6BA2-46CD-AD1B-CFBB766C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24E6F-38D1-43B7-90FD-7D725389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BDEA8-533C-40B3-9D57-ED40F08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7A02-B3D5-408B-830B-4CC770E3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6B66-FE77-4BBD-8898-619D437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39F5-DC29-43DC-AF65-9865A84A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AF7A-26C2-4871-96EA-6ECD4E3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CB88-317C-444C-AB3E-D088C8D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6FC6-68FB-4F99-A4C4-37396C4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463-EF87-4EA4-957D-D61B3B0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21D2-7245-4347-B2B1-8033659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00A0-5DBC-40EB-A9DF-ACE97FA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9ECE-82F4-48C8-AC83-54C7E9AA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7EF5-0358-4C37-AD62-9E6616EA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3015-F748-4126-97C6-8D223A2D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3B142-1978-4B80-A4EC-81E0286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7C70-4FB8-400D-84FC-C1E717E2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0F76-7203-4217-9A65-9FEE77A6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3E6B-C9FB-4773-95C6-3BFA675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8388D-D890-48F8-B00B-BACA22F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B37-59B9-41E9-A85D-AD2FE42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D53E-FBD6-462E-9C4B-D0E1EE7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BEEEA-80F1-4822-836B-7D53922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1791-600F-4E6E-94B5-8CE3610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AC28-DD21-4323-AA04-92FCC9B9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B445-8EF7-44F6-A906-6457B2A0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3FB9AF-F099-4EC2-B0C3-84552EE0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4E0A9-05ED-4ABF-BF2D-F6E23A4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3D68E-BE6D-41C1-9F1F-D7BF98E3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7DC48-C8D9-4F84-A05B-BCBE4E0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8ADE5-4DDF-4631-BC04-0DD34EA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6AA-77EA-4677-BB4E-7AB6E67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3E548-00FD-4E16-ABC5-DB8102D3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BF168-6A21-4347-B7BA-377226DA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B56ED-CAC4-4063-86C7-089BE009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2006A-CD75-428D-B2A0-98C8332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5CBEF-E158-48D4-92C0-2549BE8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8178E-CAAD-416C-BCFA-ACC9DFCA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37EAFC-AFB6-4B91-9022-5D373E17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B49434-B6CE-4493-B283-8AF293C5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DA932-F5A1-4BE9-A1D9-F883319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261C5-32AC-4240-BBC4-FBA519C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318-407A-4BBE-AFC8-7BAF64C94CB4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FD3-4803-41D3-93CD-71BEEC07193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8DB-B45C-4191-BE88-0C01A1A36E25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E21-930D-4610-BFFB-40ACF2922D6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97D-55E1-4511-8AA3-54106D952EE1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B6D-14E6-4A05-A1D2-A3DAB13D394D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19C2-E84B-4B26-A1CD-5458724F49FA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1F6-F7E9-421B-AD12-DF2F3649A073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493A-E236-4FF6-8F7A-584FE96E3A4C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mbria"/>
              </a:rPr>
              <a:t>Стеван Раичковић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956120" y="298440"/>
            <a:ext cx="4065480" cy="774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дивљи шара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упецати шарана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8" name="Picture 5" descr="Carp — Stock Photo"/>
          <p:cNvPicPr/>
          <p:nvPr/>
        </p:nvPicPr>
        <p:blipFill>
          <a:blip r:embed="rId2"/>
          <a:stretch/>
        </p:blipFill>
        <p:spPr>
          <a:xfrm>
            <a:off x="928800" y="2071800"/>
            <a:ext cx="6643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956120" y="152280"/>
            <a:ext cx="4114800" cy="9208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крљушт рибе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1" name="Picture 5" descr="Fish scales texture — Stock Photo"/>
          <p:cNvPicPr/>
          <p:nvPr/>
        </p:nvPicPr>
        <p:blipFill>
          <a:blip r:embed="rId2"/>
          <a:stretch/>
        </p:blipFill>
        <p:spPr>
          <a:xfrm>
            <a:off x="1049400" y="1785960"/>
            <a:ext cx="6645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956120" y="152280"/>
            <a:ext cx="4114800" cy="9208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плућа се надимају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стомак се надима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5" descr="Blowfish or puffer fish in ocean — Stock Photo"/>
          <p:cNvPicPr/>
          <p:nvPr/>
        </p:nvPicPr>
        <p:blipFill>
          <a:blip r:embed="rId2"/>
          <a:stretch/>
        </p:blipFill>
        <p:spPr>
          <a:xfrm>
            <a:off x="971640" y="2092320"/>
            <a:ext cx="63151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8412120" cy="1852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92852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а) Пресељење у нову кућу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б) Разочарање због рибарског неуспеха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в) Куповина првог пецачког прибора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г) Први упецани шаранчић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846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Први рибарски неуспех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Први рибарски успех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Први сусрет с Тисом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Нова нада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867564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а) Када се вратио са пецања без рибе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б) Када је упецао сасвим малог шарана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в) Када је помислио да се отац подсмева његовом риболовачком неуспеху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358480" cy="14810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5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а) 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Кад је схватио да се отац не смеје томе што није ништа уловио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б) 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Кад је схватио да се отац смеје због тога што на удицу није стављао никакав мамац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в) 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Кад је схватио да његов рибарски подухват није потпуно пропао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689120" y="-96840"/>
            <a:ext cx="7210440" cy="1170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РАЗОЧАРАЊЕ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3. ...</a:t>
            </a:r>
            <a:r>
              <a:rPr b="0" lang="en-GB" sz="4000" spc="-1" strike="noStrike">
                <a:solidFill>
                  <a:srgbClr val="ffffff"/>
                </a:solidFill>
                <a:latin typeface="Rockwell"/>
              </a:rPr>
              <a:t>попео сам се сломљен у кућу, носећи у руци трску са удицом, разочаран у себе и у реку која је мој први озбиљнији покушај у животу дочекала хладно, смрачено и ћутећи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689120" y="-96840"/>
            <a:ext cx="7210440" cy="11700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СТИД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1. </a:t>
            </a:r>
            <a:r>
              <a:rPr b="0" lang="en-GB" sz="4000" spc="-1" strike="noStrike">
                <a:solidFill>
                  <a:srgbClr val="ffffff"/>
                </a:solidFill>
                <a:latin typeface="Rockwell"/>
              </a:rPr>
              <a:t>Кад је отац те вечери дознао за мој први рибарски неуспех, ударио је у такав смех да сам дуго, постиђен и изгубљен, гледао у зид, чекајући да се тај непријатни смех утиша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689120" y="-96840"/>
            <a:ext cx="7210440" cy="1170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НЕСТРПЉЕЊЕ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2. </a:t>
            </a: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Лежећи у кревету пожелео сам да ноћ траје само тренутак, да бих прескочио ту мрачну провалију, која се тако неумољиво постављала између мене и мог сутрашњег рибарења</a:t>
            </a:r>
            <a:r>
              <a:rPr b="0" lang="en-GB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0494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во је кратка прича о мени. Зовем се Стеван Раичковић. Моји родитељи су се стално селили из места у место, као и толики други учитељи. У једном од њих сам се родио. То је било 5. јула 1928. године у селу Нересници крај реке Пека. Родно место не памтим. Отишао сам из њега када сам имао две године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689120" y="-96840"/>
            <a:ext cx="7210440" cy="1170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ПОНОС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4. </a:t>
            </a: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Трком сам појурио према кући, прескачући по два степеника, и задихан и нем стајао пред мајком дуго, држећи у руци шаранче</a:t>
            </a: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..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689120" y="-96840"/>
            <a:ext cx="7210440" cy="1170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ЗАДОВОЉСТВО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mbria"/>
              </a:rPr>
              <a:t>5. </a:t>
            </a: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Иако је био тако мали да се могао појести у једном залогају, ја сам дуго мљацкао то слатко месо, откидајући са танких костију трун по трун</a:t>
            </a:r>
            <a:r>
              <a:rPr b="0" lang="en-GB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ular Callout 1"/>
          <p:cNvSpPr/>
          <p:nvPr/>
        </p:nvSpPr>
        <p:spPr>
          <a:xfrm>
            <a:off x="500040" y="285840"/>
            <a:ext cx="3714840" cy="1571400"/>
          </a:xfrm>
          <a:prstGeom prst="wedgeRectCallout">
            <a:avLst>
              <a:gd name="adj1" fmla="val 41310"/>
              <a:gd name="adj2" fmla="val 66694"/>
            </a:avLst>
          </a:prstGeom>
          <a:solidFill>
            <a:srgbClr val="ffffff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Хоћеш ли да идеш сутра са мном на пецањ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ular Callout 2"/>
          <p:cNvSpPr/>
          <p:nvPr/>
        </p:nvSpPr>
        <p:spPr>
          <a:xfrm>
            <a:off x="5143680" y="214200"/>
            <a:ext cx="3714480" cy="1571760"/>
          </a:xfrm>
          <a:prstGeom prst="wedgeRectCallout">
            <a:avLst>
              <a:gd name="adj1" fmla="val -44069"/>
              <a:gd name="adj2" fmla="val 75078"/>
            </a:avLst>
          </a:prstGeom>
          <a:gradFill rotWithShape="0">
            <a:gsLst>
              <a:gs pos="0">
                <a:srgbClr val="7ba2f4"/>
              </a:gs>
              <a:gs pos="100000">
                <a:srgbClr val="dfe6fa"/>
              </a:gs>
            </a:gsLst>
            <a:lin ang="16200000"/>
          </a:gradFill>
          <a:ln w="9360">
            <a:solidFill>
              <a:srgbClr val="0c64b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Могу, а можемо и заједно вечерас ископати гли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ular Callout 3"/>
          <p:cNvSpPr/>
          <p:nvPr/>
        </p:nvSpPr>
        <p:spPr>
          <a:xfrm>
            <a:off x="285840" y="2214720"/>
            <a:ext cx="4071960" cy="1643040"/>
          </a:xfrm>
          <a:prstGeom prst="wedgeRectCallout">
            <a:avLst>
              <a:gd name="adj1" fmla="val 41310"/>
              <a:gd name="adj2" fmla="val 66694"/>
            </a:avLst>
          </a:prstGeom>
          <a:solidFill>
            <a:srgbClr val="ffffff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Ја имам пецаљку и удицу? Можеш ли ти да набавиш мам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ular Callout 4"/>
          <p:cNvSpPr/>
          <p:nvPr/>
        </p:nvSpPr>
        <p:spPr>
          <a:xfrm>
            <a:off x="428760" y="4214880"/>
            <a:ext cx="3714480" cy="785880"/>
          </a:xfrm>
          <a:prstGeom prst="wedgeRectCallout">
            <a:avLst>
              <a:gd name="adj1" fmla="val 41310"/>
              <a:gd name="adj2" fmla="val 66694"/>
            </a:avLst>
          </a:prstGeom>
          <a:solidFill>
            <a:srgbClr val="ffffff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Кад ћемо крену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ular Callout 5"/>
          <p:cNvSpPr/>
          <p:nvPr/>
        </p:nvSpPr>
        <p:spPr>
          <a:xfrm>
            <a:off x="5072040" y="2143080"/>
            <a:ext cx="3714840" cy="1571760"/>
          </a:xfrm>
          <a:prstGeom prst="wedgeRectCallout">
            <a:avLst>
              <a:gd name="adj1" fmla="val -49171"/>
              <a:gd name="adj2" fmla="val 71412"/>
            </a:avLst>
          </a:prstGeom>
          <a:gradFill rotWithShape="0">
            <a:gsLst>
              <a:gs pos="0">
                <a:srgbClr val="7ba2f4"/>
              </a:gs>
              <a:gs pos="100000">
                <a:srgbClr val="dfe6fa"/>
              </a:gs>
            </a:gsLst>
            <a:lin ang="16200000"/>
          </a:gradFill>
          <a:ln w="9360">
            <a:solidFill>
              <a:srgbClr val="0c64b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Да, обожавам пецање, а немам с ким да ид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ular Callout 6"/>
          <p:cNvSpPr/>
          <p:nvPr/>
        </p:nvSpPr>
        <p:spPr>
          <a:xfrm>
            <a:off x="428760" y="5214960"/>
            <a:ext cx="3714480" cy="1428840"/>
          </a:xfrm>
          <a:prstGeom prst="wedgeRectCallout">
            <a:avLst>
              <a:gd name="adj1" fmla="val 41310"/>
              <a:gd name="adj2" fmla="val 66694"/>
            </a:avLst>
          </a:prstGeom>
          <a:solidFill>
            <a:srgbClr val="ffffff"/>
          </a:solidFill>
          <a:ln w="381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Договорено. Чекам те у 5 на углу ули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ular Callout 7"/>
          <p:cNvSpPr/>
          <p:nvPr/>
        </p:nvSpPr>
        <p:spPr>
          <a:xfrm>
            <a:off x="5072040" y="4071960"/>
            <a:ext cx="3714840" cy="1000080"/>
          </a:xfrm>
          <a:prstGeom prst="wedgeRectCallout">
            <a:avLst>
              <a:gd name="adj1" fmla="val -49171"/>
              <a:gd name="adj2" fmla="val 71412"/>
            </a:avLst>
          </a:prstGeom>
          <a:gradFill rotWithShape="0">
            <a:gsLst>
              <a:gs pos="0">
                <a:srgbClr val="7ba2f4"/>
              </a:gs>
              <a:gs pos="100000">
                <a:srgbClr val="dfe6fa"/>
              </a:gs>
            </a:gsLst>
            <a:lin ang="16200000"/>
          </a:gradFill>
          <a:ln w="9360">
            <a:solidFill>
              <a:srgbClr val="0c64b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Важи, сигурно долаз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ular Callout 8"/>
          <p:cNvSpPr/>
          <p:nvPr/>
        </p:nvSpPr>
        <p:spPr>
          <a:xfrm>
            <a:off x="5072040" y="5286240"/>
            <a:ext cx="3714840" cy="1571760"/>
          </a:xfrm>
          <a:prstGeom prst="wedgeRectCallout">
            <a:avLst>
              <a:gd name="adj1" fmla="val -49171"/>
              <a:gd name="adj2" fmla="val 71412"/>
            </a:avLst>
          </a:prstGeom>
          <a:gradFill rotWithShape="0">
            <a:gsLst>
              <a:gs pos="0">
                <a:srgbClr val="7ba2f4"/>
              </a:gs>
              <a:gs pos="100000">
                <a:srgbClr val="dfe6fa"/>
              </a:gs>
            </a:gsLst>
            <a:lin ang="16200000"/>
          </a:gradFill>
          <a:ln w="9360">
            <a:solidFill>
              <a:srgbClr val="0c64b3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mbria"/>
              </a:rPr>
              <a:t>Најбоље рано ујутру. Тад риба најбоље гри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6" name="Straight Arrow Connector 10"/>
          <p:cNvCxnSpPr>
            <a:stCxn id="448" idx="3"/>
          </p:cNvCxnSpPr>
          <p:nvPr/>
        </p:nvCxnSpPr>
        <p:spPr>
          <a:xfrm>
            <a:off x="4214520" y="1071360"/>
            <a:ext cx="857880" cy="128628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457" name="Straight Arrow Connector 12"/>
          <p:cNvCxnSpPr/>
          <p:nvPr/>
        </p:nvCxnSpPr>
        <p:spPr>
          <a:xfrm flipV="1">
            <a:off x="4357800" y="1356840"/>
            <a:ext cx="714960" cy="150120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458" name="Straight Arrow Connector 13"/>
          <p:cNvCxnSpPr/>
          <p:nvPr/>
        </p:nvCxnSpPr>
        <p:spPr>
          <a:xfrm flipV="1">
            <a:off x="4143240" y="4571280"/>
            <a:ext cx="929520" cy="78660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  <p:cxnSp>
        <p:nvCxnSpPr>
          <p:cNvPr id="459" name="Straight Arrow Connector 16"/>
          <p:cNvCxnSpPr>
            <a:stCxn id="451" idx="3"/>
          </p:cNvCxnSpPr>
          <p:nvPr/>
        </p:nvCxnSpPr>
        <p:spPr>
          <a:xfrm>
            <a:off x="4143240" y="4608000"/>
            <a:ext cx="929520" cy="1250280"/>
          </a:xfrm>
          <a:prstGeom prst="straightConnector1">
            <a:avLst/>
          </a:prstGeom>
          <a:ln w="38160">
            <a:solidFill>
              <a:srgbClr val="009dd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00040" y="571680"/>
          <a:ext cx="8143920" cy="5991120"/>
        </p:xfrm>
        <a:graphic>
          <a:graphicData uri="http://schemas.openxmlformats.org/drawingml/2006/table">
            <a:tbl>
              <a:tblPr/>
              <a:tblGrid>
                <a:gridCol w="2143080"/>
                <a:gridCol w="2071800"/>
                <a:gridCol w="1893960"/>
                <a:gridCol w="20350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стич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р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еч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ка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ршча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анинс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орс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хле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диц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ут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љуш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лист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линке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ис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шкрг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куру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0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Rectangular Callout 2"/>
          <p:cNvSpPr/>
          <p:nvPr/>
        </p:nvSpPr>
        <p:spPr>
          <a:xfrm>
            <a:off x="642960" y="5072040"/>
            <a:ext cx="1785960" cy="571680"/>
          </a:xfrm>
          <a:prstGeom prst="wedgeRectCallout">
            <a:avLst>
              <a:gd name="adj1" fmla="val -20833"/>
              <a:gd name="adj2" fmla="val 50967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mbria"/>
              </a:rPr>
              <a:t>пецаљ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ular Callout 3"/>
          <p:cNvSpPr/>
          <p:nvPr/>
        </p:nvSpPr>
        <p:spPr>
          <a:xfrm>
            <a:off x="2928960" y="5857920"/>
            <a:ext cx="2857320" cy="571320"/>
          </a:xfrm>
          <a:prstGeom prst="wedgeRectCallout">
            <a:avLst>
              <a:gd name="adj1" fmla="val -20833"/>
              <a:gd name="adj2" fmla="val 50967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mbria"/>
              </a:rPr>
              <a:t>ПЕЦ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ular Callout 4"/>
          <p:cNvSpPr/>
          <p:nvPr/>
        </p:nvSpPr>
        <p:spPr>
          <a:xfrm>
            <a:off x="4786200" y="5072040"/>
            <a:ext cx="1643040" cy="571680"/>
          </a:xfrm>
          <a:prstGeom prst="wedgeRectCallout">
            <a:avLst>
              <a:gd name="adj1" fmla="val -20833"/>
              <a:gd name="adj2" fmla="val 50967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mbria"/>
              </a:rPr>
              <a:t>ри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ular Callout 5"/>
          <p:cNvSpPr/>
          <p:nvPr/>
        </p:nvSpPr>
        <p:spPr>
          <a:xfrm>
            <a:off x="6643800" y="5072040"/>
            <a:ext cx="1785960" cy="571680"/>
          </a:xfrm>
          <a:prstGeom prst="wedgeRectCallout">
            <a:avLst>
              <a:gd name="adj1" fmla="val -20833"/>
              <a:gd name="adj2" fmla="val 50967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mbria"/>
              </a:rPr>
              <a:t>мама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ular Callout 6"/>
          <p:cNvSpPr/>
          <p:nvPr/>
        </p:nvSpPr>
        <p:spPr>
          <a:xfrm>
            <a:off x="2714760" y="5072040"/>
            <a:ext cx="1785960" cy="571680"/>
          </a:xfrm>
          <a:prstGeom prst="wedgeRectCallout">
            <a:avLst>
              <a:gd name="adj1" fmla="val -20833"/>
              <a:gd name="adj2" fmla="val 50967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mbria"/>
              </a:rPr>
              <a:t>р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42876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д тада па до дана данашњег одвија се моје безуспешно трагање за завичајем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Уместо једног – пронашао сам многе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Један од њих је Сента, крај Тисе, у којој сам провео добар део свог детињства. ”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3" descr="401px-Stevan_Raickovic.jpg"/>
          <p:cNvPicPr/>
          <p:nvPr/>
        </p:nvPicPr>
        <p:blipFill>
          <a:blip r:embed="rId1"/>
          <a:stretch/>
        </p:blipFill>
        <p:spPr>
          <a:xfrm>
            <a:off x="6429240" y="3429000"/>
            <a:ext cx="1938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57800" y="4768560"/>
            <a:ext cx="3409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14560" y="357120"/>
            <a:ext cx="39322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mbria"/>
              </a:rPr>
              <a:t>Тиса крај Сенте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2" name="Picture 4" descr="River — Stock Photo"/>
          <p:cNvPicPr/>
          <p:nvPr/>
        </p:nvPicPr>
        <p:blipFill>
          <a:blip r:embed="rId1"/>
          <a:stretch/>
        </p:blipFill>
        <p:spPr>
          <a:xfrm>
            <a:off x="642960" y="1214280"/>
            <a:ext cx="764388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928760" y="214200"/>
            <a:ext cx="3932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утон, сутона м. род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5" descr="View on the sunset over the Tisza and the dock — Stock Photo"/>
          <p:cNvPicPr/>
          <p:nvPr/>
        </p:nvPicPr>
        <p:blipFill>
          <a:blip r:embed="rId1"/>
          <a:srcRect l="0" t="0" r="694" b="8826"/>
          <a:stretch/>
        </p:blipFill>
        <p:spPr>
          <a:xfrm>
            <a:off x="1214280" y="1500120"/>
            <a:ext cx="6500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5205240" y="353880"/>
            <a:ext cx="3457800" cy="68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Rod spinning with spoon-bait — Stock Vector"/>
          <p:cNvPicPr/>
          <p:nvPr/>
        </p:nvPicPr>
        <p:blipFill>
          <a:blip r:embed="rId2"/>
          <a:stretch/>
        </p:blipFill>
        <p:spPr>
          <a:xfrm>
            <a:off x="1428840" y="1227240"/>
            <a:ext cx="62150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5492880" y="133200"/>
            <a:ext cx="3438360" cy="543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71360" y="5375160"/>
            <a:ext cx="53226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тршчани, -а, -о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тршчани кров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ambria"/>
              </a:rPr>
              <a:t>тршчана пецаљка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5" descr="Nature — Stock Photo"/>
          <p:cNvPicPr/>
          <p:nvPr/>
        </p:nvPicPr>
        <p:blipFill>
          <a:blip r:embed="rId2"/>
          <a:stretch/>
        </p:blipFill>
        <p:spPr>
          <a:xfrm>
            <a:off x="1928880" y="1143000"/>
            <a:ext cx="6329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ext Placeholder 2" descr=""/>
          <p:cNvPicPr/>
          <p:nvPr/>
        </p:nvPicPr>
        <p:blipFill>
          <a:blip r:embed="rId1"/>
          <a:stretch/>
        </p:blipFill>
        <p:spPr>
          <a:xfrm>
            <a:off x="5102280" y="5327640"/>
            <a:ext cx="3852720" cy="1036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000080" y="4071960"/>
            <a:ext cx="3322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mbria"/>
              </a:rPr>
              <a:t>удица, удице ж. род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7" descr="Artificial fishing lures — Stock Vector"/>
          <p:cNvPicPr/>
          <p:nvPr/>
        </p:nvPicPr>
        <p:blipFill>
          <a:blip r:embed="rId2"/>
          <a:stretch/>
        </p:blipFill>
        <p:spPr>
          <a:xfrm>
            <a:off x="5000760" y="1143000"/>
            <a:ext cx="373212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Fishing hook — Stock Vector"/>
          <p:cNvPicPr/>
          <p:nvPr/>
        </p:nvPicPr>
        <p:blipFill>
          <a:blip r:embed="rId3"/>
          <a:stretch/>
        </p:blipFill>
        <p:spPr>
          <a:xfrm>
            <a:off x="1071720" y="78588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65520" y="353880"/>
            <a:ext cx="4365720" cy="633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Sago worm larvae insect asian food isolated white background — Stock Photo"/>
          <p:cNvPicPr/>
          <p:nvPr/>
        </p:nvPicPr>
        <p:blipFill>
          <a:blip r:embed="rId2"/>
          <a:stretch/>
        </p:blipFill>
        <p:spPr>
          <a:xfrm>
            <a:off x="1785960" y="2000160"/>
            <a:ext cx="53658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0:58:09Z</dcterms:created>
  <dc:creator>Dobrici</dc:creator>
  <dc:description/>
  <dc:language>en-US</dc:language>
  <cp:lastModifiedBy>Natasa</cp:lastModifiedBy>
  <dcterms:modified xsi:type="dcterms:W3CDTF">2020-01-21T16:06:08Z</dcterms:modified>
  <cp:revision>73</cp:revision>
  <dc:subject/>
  <dc:title>Кућа крај Тисе</dc:title>
</cp:coreProperties>
</file>