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C9A-6AC2-4402-9151-7940A605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721-FEB7-4466-80DB-28A326A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2A8-670C-4DDF-A978-FD3C157D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EA7-9455-414B-AF03-718714CF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E64-B911-44EE-8C90-38C14BB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116-7668-490B-8F58-8C9D3E3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AEE-0AEB-4372-BB50-2395160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6B6-A727-49FC-BB4E-1EB8778E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92B-D9E7-4349-B36E-C664287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9DC-ED8F-46B4-AEAC-36AD674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D5D-013A-453D-B58C-D27CDF0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8DC-FA1E-4A9F-8CEA-9E48669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7AA-352A-4198-B74F-86EF67E00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МС приче ‒ упутство за употреб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гор Кол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де се може чита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ја су места, према мишљењу писца добра за читање? Наведи 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а ли си некад читао/читала на једном таквом мест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Где ти обично читаш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Шта ти смета док читаш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ја омиљена књи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азив књиге и аутор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 чему се у књизи говор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 су главни ликов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нимљив цитат из књиг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ме и зашто препоручујеш ову књи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езултат слика за 20 000 milja pod morem"/>
          <p:cNvPicPr/>
          <p:nvPr/>
        </p:nvPicPr>
        <p:blipFill>
          <a:blip r:embed="rId1"/>
          <a:stretch/>
        </p:blipFill>
        <p:spPr>
          <a:xfrm>
            <a:off x="857160" y="285840"/>
            <a:ext cx="3108240" cy="445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Резултат слика за put na mesec zil vern"/>
          <p:cNvPicPr/>
          <p:nvPr/>
        </p:nvPicPr>
        <p:blipFill>
          <a:blip r:embed="rId2"/>
          <a:stretch/>
        </p:blipFill>
        <p:spPr>
          <a:xfrm>
            <a:off x="5143680" y="1285920"/>
            <a:ext cx="2952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ubmarine in the shallow water — Stock Photo"/>
          <p:cNvPicPr/>
          <p:nvPr/>
        </p:nvPicPr>
        <p:blipFill>
          <a:blip r:embed="rId1"/>
          <a:stretch/>
        </p:blipFill>
        <p:spPr>
          <a:xfrm>
            <a:off x="785880" y="428760"/>
            <a:ext cx="7715160" cy="6064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2010960" y="550080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морница, -е ж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ilver telescope on a support — Stock Photo"/>
          <p:cNvPicPr/>
          <p:nvPr/>
        </p:nvPicPr>
        <p:blipFill>
          <a:blip r:embed="rId1"/>
          <a:stretch/>
        </p:blipFill>
        <p:spPr>
          <a:xfrm>
            <a:off x="1714680" y="500040"/>
            <a:ext cx="514332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2012040" y="550080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лескоп, -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he mine. — Stock Photo"/>
          <p:cNvPicPr/>
          <p:nvPr/>
        </p:nvPicPr>
        <p:blipFill>
          <a:blip r:embed="rId1"/>
          <a:stretch/>
        </p:blipFill>
        <p:spPr>
          <a:xfrm>
            <a:off x="642960" y="500040"/>
            <a:ext cx="7881840" cy="464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650880" y="521496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удник, -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08280" y="5214960"/>
            <a:ext cx="35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удник угљ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адити у руд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crap copper wire — Stock Photo"/>
          <p:cNvPicPr/>
          <p:nvPr/>
        </p:nvPicPr>
        <p:blipFill>
          <a:blip r:embed="rId1"/>
          <a:stretch/>
        </p:blipFill>
        <p:spPr>
          <a:xfrm>
            <a:off x="1071720" y="571680"/>
            <a:ext cx="722304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010160" y="53578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акар, -кр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434200" y="535788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жице од бак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вака књига има свог човека, и сваки човек припада некој књиз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разумеш ову речениц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ја је твоја омиљена књиг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јасни зашт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губи се док читаш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се осећаш док читаш занимљиву књи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 какве светове те књига може одве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ве пределе си упознао/упознала читајућ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 читања књиг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Шта саветује писац да је добро урадити пре читањ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се ти припремаш за читањ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што је читање озбиљна и предивна ствар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7T15:21:13Z</dcterms:created>
  <dc:creator>Natasa</dc:creator>
  <dc:description/>
  <dc:language>en-US</dc:language>
  <cp:lastModifiedBy>Natasa</cp:lastModifiedBy>
  <dcterms:modified xsi:type="dcterms:W3CDTF">2020-07-21T13:16:44Z</dcterms:modified>
  <cp:revision>6</cp:revision>
  <dc:subject/>
  <dc:title>СМС приче ‒ упутство за употребу</dc:title>
</cp:coreProperties>
</file>