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E21-501E-4518-8FB3-BA1C934C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4C6-F844-4D51-9755-275E63D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C11-C1EE-41A0-99F2-120CDE2E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6D3-B4D7-43FD-99F4-111EC706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8FE-3FEA-45CA-AD81-EB34C63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92B-7E38-458E-BA63-F361A42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E37-CD0B-456C-9B90-2AA5CB3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D34-9C47-480F-9FDB-FAF157E2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53F-B812-4B90-BD79-D2B37C0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59A-CA5D-4BCB-8F78-61E3B2BC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6A8-C827-4815-AFF7-FE985F6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D69-9187-4A20-9467-D089E63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44C4-97CC-48DA-8333-CBDC453C1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ње и утврђивање град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Здравље, оријентација у простору, исказивање особине поређењем, исказивање начина вршења рад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 је укуснији / укуснија / укусније од _________ (чај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мбоне су слађи / слађа / слађе од ____________. (чоколад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ње су киселији / киселија / киселије од ______________. (трешњ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долед је укуснији / укуснија / укусније од ______________. (воћ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 је бољи / боља / боље од ___________. (слаткиш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и реченице од датих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‒ топло ‒ јес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 ‒ дуг ‒ 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а ‒ горак ‒ сиру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‒ хладан ‒ ч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 ‒ густ ‒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ада ‒ кисео ‒ 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 ‒ здраво ‒ чокол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 ‒ болестан ‒ д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и реченице. Угледај се на урађени приме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и зуб. Боли г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го ју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и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у. Температура је сада __________ него јут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о грло ј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д је ___________ него што је било ју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ћем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љи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ати руке. Опраћемо их ______________ него ина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нта је близу, ___________ је него апот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ће чекати преглед. Чекаће __________ него оби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брзо је стигао на ред, __________ него што је мисли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потеци је много људи, има их _________ него у амбулан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љу је хладно, ____________ је него ина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97164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ood pyramid — Stock Vector"/>
          <p:cNvPicPr/>
          <p:nvPr/>
        </p:nvPicPr>
        <p:blipFill>
          <a:blip r:embed="rId1"/>
          <a:stretch/>
        </p:blipFill>
        <p:spPr>
          <a:xfrm>
            <a:off x="1785960" y="142920"/>
            <a:ext cx="4568760" cy="4929120"/>
          </a:xfrm>
          <a:prstGeom prst="rect">
            <a:avLst/>
          </a:prstGeom>
          <a:ln w="0">
            <a:noFill/>
          </a:ln>
        </p:spPr>
      </p:pic>
      <p:sp>
        <p:nvSpPr>
          <p:cNvPr id="80" name="Title 1"/>
          <p:cNvSpPr/>
          <p:nvPr/>
        </p:nvSpPr>
        <p:spPr>
          <a:xfrm>
            <a:off x="6286680" y="407196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тесто, пеци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5857920" y="3000240"/>
            <a:ext cx="192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 и повр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785880" y="228600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5214960" y="1857240"/>
            <a:ext cx="1785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и 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786200" y="571680"/>
            <a:ext cx="2071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и и грицка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928800" y="5072040"/>
            <a:ext cx="7572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и реченице у којој ћеш упоредити храну коју видиш у пирамиди. Користи речи: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ј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ниј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ђ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иј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ш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ј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ј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уј установе и састави реченице по угледу на дати при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     Идем у пошту да пошаљем писм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ц   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       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    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м    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   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а 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 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и дијалоге речима којима се исказује правац кретања и одговарајућим глагол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45435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Добар дан! Извините, да ли можете да ми објасните како да дођем до пошт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: Иди _____________, па _______________ на следећем углу. Онда ___________________ док не дођеш до семафора. Код семафора _____________________ и видећеш пошту. Она је тач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биоскоп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4" descr=""/>
          <p:cNvPicPr/>
          <p:nvPr/>
        </p:nvPicPr>
        <p:blipFill>
          <a:blip r:embed="rId1"/>
          <a:srcRect l="6233" t="0" r="5212" b="-26"/>
          <a:stretch/>
        </p:blipFill>
        <p:spPr>
          <a:xfrm>
            <a:off x="5000760" y="221472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користимо кад смо болесни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42800" y="2000160"/>
            <a:ext cx="8701200" cy="414360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785880" y="5357880"/>
            <a:ext cx="221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5286240"/>
            <a:ext cx="20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 за каша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2214720" y="5286240"/>
            <a:ext cx="157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4000680" y="528624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500800" y="5286240"/>
            <a:ext cx="157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7358040" y="5286240"/>
            <a:ext cx="1571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0040" y="2357280"/>
          <a:ext cx="8143920" cy="3857760"/>
        </p:xfrm>
        <a:graphic>
          <a:graphicData uri="http://schemas.openxmlformats.org/drawingml/2006/table">
            <a:tbl>
              <a:tblPr/>
              <a:tblGrid>
                <a:gridCol w="2714760"/>
                <a:gridCol w="2286000"/>
                <a:gridCol w="3143160"/>
              </a:tblGrid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мп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 се корист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убобољ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зе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р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ушен 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в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ша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п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дарена но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в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itle 1"/>
          <p:cNvSpPr/>
          <p:nvPr/>
        </p:nvSpPr>
        <p:spPr>
          <a:xfrm>
            <a:off x="428760" y="357120"/>
            <a:ext cx="8286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лек нам треба и како се користи? Састави реченице по угледу на урађене прим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ме зуб. Узећу таблете против бо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је зуб. Нека узме једну таблету против бо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Милана бол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ће ићи лекару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урадити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hild have headache — Stock Photo"/>
          <p:cNvPicPr/>
          <p:nvPr/>
        </p:nvPicPr>
        <p:blipFill>
          <a:blip r:embed="rId1"/>
          <a:stretch/>
        </p:blipFill>
        <p:spPr>
          <a:xfrm>
            <a:off x="857160" y="264312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Medical pill tablet on white — Stock Photo"/>
          <p:cNvPicPr/>
          <p:nvPr/>
        </p:nvPicPr>
        <p:blipFill>
          <a:blip r:embed="rId2"/>
          <a:stretch/>
        </p:blipFill>
        <p:spPr>
          <a:xfrm>
            <a:off x="4714920" y="3786120"/>
            <a:ext cx="2071800" cy="13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lass of water isolated on white — Stock Photo"/>
          <p:cNvPicPr/>
          <p:nvPr/>
        </p:nvPicPr>
        <p:blipFill>
          <a:blip r:embed="rId3"/>
          <a:stretch/>
        </p:blipFill>
        <p:spPr>
          <a:xfrm>
            <a:off x="6643800" y="2428920"/>
            <a:ext cx="16556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је Милиц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тата урадит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ће одвести Милиц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Sick little girl — Stock Photo"/>
          <p:cNvPicPr/>
          <p:nvPr/>
        </p:nvPicPr>
        <p:blipFill>
          <a:blip r:embed="rId1"/>
          <a:stretch/>
        </p:blipFill>
        <p:spPr>
          <a:xfrm>
            <a:off x="357120" y="27147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Hospital Hospital Building Isolated Vector Icon Can Easily Modified Edit — Stock Vector"/>
          <p:cNvPicPr/>
          <p:nvPr/>
        </p:nvPicPr>
        <p:blipFill>
          <a:blip r:embed="rId2"/>
          <a:stretch/>
        </p:blipFill>
        <p:spPr>
          <a:xfrm>
            <a:off x="6872400" y="3643200"/>
            <a:ext cx="1557360" cy="163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Thermometer — Stock Vector"/>
          <p:cNvPicPr/>
          <p:nvPr/>
        </p:nvPicPr>
        <p:blipFill>
          <a:blip r:embed="rId3"/>
          <a:stretch/>
        </p:blipFill>
        <p:spPr>
          <a:xfrm>
            <a:off x="5143680" y="2928960"/>
            <a:ext cx="12142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боли Ану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ће она ић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зубарка уради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Little girl with tootheche — Stock Photo"/>
          <p:cNvPicPr/>
          <p:nvPr/>
        </p:nvPicPr>
        <p:blipFill>
          <a:blip r:embed="rId1"/>
          <a:srcRect l="0" t="12088" r="0" b="0"/>
          <a:stretch/>
        </p:blipFill>
        <p:spPr>
          <a:xfrm>
            <a:off x="857160" y="2428920"/>
            <a:ext cx="2571840" cy="340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Stomatologist — Stock Photo"/>
          <p:cNvPicPr/>
          <p:nvPr/>
        </p:nvPicPr>
        <p:blipFill>
          <a:blip r:embed="rId2"/>
          <a:stretch/>
        </p:blipFill>
        <p:spPr>
          <a:xfrm>
            <a:off x="4249800" y="2857680"/>
            <a:ext cx="36478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је Ањ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ће она ић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лекар урадити?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ће Ања редовно узима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Girl sitting in meadow with dandelions and has hay fever or allergy — Stock Photo"/>
          <p:cNvPicPr/>
          <p:nvPr/>
        </p:nvPicPr>
        <p:blipFill>
          <a:blip r:embed="rId1"/>
          <a:stretch/>
        </p:blipFill>
        <p:spPr>
          <a:xfrm>
            <a:off x="357120" y="3357720"/>
            <a:ext cx="376092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llergy - skin prick tests — Stock Photo"/>
          <p:cNvPicPr/>
          <p:nvPr/>
        </p:nvPicPr>
        <p:blipFill>
          <a:blip r:embed="rId2"/>
          <a:stretch/>
        </p:blipFill>
        <p:spPr>
          <a:xfrm>
            <a:off x="4357800" y="2714760"/>
            <a:ext cx="2714400" cy="27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Illustration Item Object Medicament White Frontal Nasal Spray Bottle Ideal — Stock Vector"/>
          <p:cNvPicPr/>
          <p:nvPr/>
        </p:nvPicPr>
        <p:blipFill>
          <a:blip r:embed="rId3"/>
          <a:stretch/>
        </p:blipFill>
        <p:spPr>
          <a:xfrm>
            <a:off x="7286760" y="50007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ј дијалог с другом/другарицом из клу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1411200"/>
            <a:ext cx="8275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бери одговарајућу реч и њоме допуни реченицу, а реч у загради употреби у правилном обл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146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ца је здравије / здравија / здравији од _________ (Ањ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 је виши / више / виша од ________ (Јова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у уреднија / уреднији / уредније од н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су веселији / веселије /веселија од __________. (родитељ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нта је већи / већа / веће од _________. (апоте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30T11:42:21Z</dcterms:created>
  <dc:creator>Natasa</dc:creator>
  <dc:description/>
  <dc:language>en-US</dc:language>
  <cp:lastModifiedBy>Natasa</cp:lastModifiedBy>
  <dcterms:modified xsi:type="dcterms:W3CDTF">2020-07-15T14:17:09Z</dcterms:modified>
  <cp:revision>23</cp:revision>
  <dc:subject/>
  <dc:title>Slide 1</dc:title>
</cp:coreProperties>
</file>