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5D9-87D6-4145-ABEB-23D55AE9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639-089F-4533-9C88-430CE88B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2A3-D751-42E9-9672-59C6025D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153-9C6F-4B90-95EB-B942A843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80A-778E-4A9A-ABA8-A9A3A1F9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974-43B0-49D1-9C21-C8B6D5F5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1A1-23CF-46E3-BDF3-3C3E57BE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040-C377-45EC-8958-6670F0D9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DC-3CAB-44B9-AC71-059F6EA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7DA-A6DA-4E17-BBEF-0C0A8A06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030-AD87-4867-A4E1-0DDFE9D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A67-7BB9-43E6-B694-2E6E266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D061-BC8C-481E-BDE7-005174D1B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435744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пска рамон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542916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amonda serb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nata2.jpg"/>
          <p:cNvPicPr/>
          <p:nvPr/>
        </p:nvPicPr>
        <p:blipFill>
          <a:blip r:embed="rId1"/>
          <a:stretch/>
        </p:blipFill>
        <p:spPr>
          <a:xfrm>
            <a:off x="571680" y="785880"/>
            <a:ext cx="35384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Srpska ramonda, drevni vaskrsavajući cvet"/>
          <p:cNvPicPr/>
          <p:nvPr/>
        </p:nvPicPr>
        <p:blipFill>
          <a:blip r:embed="rId2"/>
          <a:stretch/>
        </p:blipFill>
        <p:spPr>
          <a:xfrm>
            <a:off x="4786200" y="1285920"/>
            <a:ext cx="3756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3571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ључне речи:</a:t>
            </a:r>
            <a:br>
              <a:rPr sz="4000"/>
            </a:br>
            <a:r>
              <a:rPr b="0" lang="sr-R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десни</a:t>
            </a:r>
            <a:r>
              <a:rPr b="0" lang="sr-Latn-R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, лепота, Јосиф Панчић, Велики рат, симбол, станиште,</a:t>
            </a:r>
            <a:r>
              <a:rPr b="0" lang="sr-R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штићен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вет који може да ож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пска рамонда (Ramonda serbica) је чудесан цвет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 изгледа да се потпуно осушила, може поново да оживи ако се зал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Srpska ramonda, drevni vaskrsavajući cvet"/>
          <p:cNvPicPr/>
          <p:nvPr/>
        </p:nvPicPr>
        <p:blipFill>
          <a:blip r:embed="rId1"/>
          <a:stretch/>
        </p:blipFill>
        <p:spPr>
          <a:xfrm>
            <a:off x="1071720" y="1285920"/>
            <a:ext cx="6786360" cy="508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Zašto je cvet feniks simbol Srbije? - alo.rs"/>
          <p:cNvPicPr/>
          <p:nvPr/>
        </p:nvPicPr>
        <p:blipFill>
          <a:blip r:embed="rId2"/>
          <a:stretch/>
        </p:blipFill>
        <p:spPr>
          <a:xfrm>
            <a:off x="928800" y="10717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пска рамонда и Велики 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 цвет веома воле овај цвет. Он је симбол српске војску која је после повлачења поново оживела и показала своју храброст у Великом ра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 је симбол Дана примирја у Првом светском р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Natalijina ramonda, čudnovati cvet koji se nosi povodom Dana ..."/>
          <p:cNvPicPr/>
          <p:nvPr/>
        </p:nvPicPr>
        <p:blipFill>
          <a:blip r:embed="rId1"/>
          <a:stretch/>
        </p:blipFill>
        <p:spPr>
          <a:xfrm>
            <a:off x="3143160" y="1357200"/>
            <a:ext cx="2786040" cy="457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Republika / ZOVU JE I &quot;CVET FENIKS&quot;: Ovo je snažna simbolika koja ..."/>
          <p:cNvPicPr/>
          <p:nvPr/>
        </p:nvPicPr>
        <p:blipFill>
          <a:blip r:embed="rId2"/>
          <a:stretch/>
        </p:blipFill>
        <p:spPr>
          <a:xfrm>
            <a:off x="1214280" y="1285920"/>
            <a:ext cx="7399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онду је први открио чувени природњак Јосиф Панчић 1874. године и дао јој је име. Биљку је прво видео на планини Ртањ, а онда и у околини Ни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1324411_josif-pancic-foto-youtube-printscreen_ff.jpg"/>
          <p:cNvPicPr/>
          <p:nvPr/>
        </p:nvPicPr>
        <p:blipFill>
          <a:blip r:embed="rId1"/>
          <a:stretch/>
        </p:blipFill>
        <p:spPr>
          <a:xfrm>
            <a:off x="2000160" y="2786040"/>
            <a:ext cx="4735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на Рта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rtanj-naslovna1.jpg"/>
          <p:cNvPicPr/>
          <p:nvPr/>
        </p:nvPicPr>
        <p:blipFill>
          <a:blip r:embed="rId1"/>
          <a:stretch/>
        </p:blipFill>
        <p:spPr>
          <a:xfrm>
            <a:off x="857160" y="1928880"/>
            <a:ext cx="756612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Udaljenost Beograd Rtanj km"/>
          <p:cNvPicPr/>
          <p:nvPr/>
        </p:nvPicPr>
        <p:blipFill>
          <a:blip r:embed="rId2"/>
          <a:srcRect l="31417" t="0" r="35373" b="1774"/>
          <a:stretch/>
        </p:blipFill>
        <p:spPr>
          <a:xfrm>
            <a:off x="1428840" y="714240"/>
            <a:ext cx="6215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де рас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рста је веома издржљива, преживела је ледено доба и опстала до дан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врста која расте само на Балканском полуострву (Србија, Северна Македонија, Црна Гора, Бугарска, Грчка, Албанија).  Расте на планинама од 150‒1800м висине и на стенама у клисур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што је заштићена вр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расте на планинама, није примећено смањење броја ове биљке. Ипак, сакупљачи угрожавају оне биљке које расту на приступачнијем терену (стене поред путев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је Рамонда у Србији строго заштићена биљна вр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Ramonda serbica, Jelašnička klisura (4).jpg"/>
          <p:cNvPicPr/>
          <p:nvPr/>
        </p:nvPicPr>
        <p:blipFill>
          <a:blip r:embed="rId1"/>
          <a:stretch/>
        </p:blipFill>
        <p:spPr>
          <a:xfrm>
            <a:off x="2428920" y="1090440"/>
            <a:ext cx="4057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10:49:28Z</dcterms:created>
  <dc:creator>Natasa</dc:creator>
  <dc:description/>
  <dc:language>en-US</dc:language>
  <cp:lastModifiedBy>Natasa</cp:lastModifiedBy>
  <dcterms:modified xsi:type="dcterms:W3CDTF">2020-07-15T14:20:14Z</dcterms:modified>
  <cp:revision>9</cp:revision>
  <dc:subject/>
  <dc:title>Српска рамонда</dc:title>
</cp:coreProperties>
</file>