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2DE-1711-4178-9788-3435F6C6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D9A-46E2-4F4D-9D47-64B6E02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8C8-B00F-41EC-92CF-F50E9EBC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D50-BDDE-46C1-8D03-533C1B41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FB3-C24A-4EB1-A052-9E93BA0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345-E809-4D06-B301-8C5922F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E0E-36C8-4B1D-8F7D-DCF4423D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E3D-CA46-415F-B819-9CD2BA3E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BDE-0630-4AA9-8BAF-08352AA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290-DC5F-4317-8CEA-BD3219C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AA3-5925-4FAF-B2D7-46EC740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80F-6E55-46F1-82DF-4E4CB22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5BE-330B-44EB-8B07-64C8D6FF1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ne gricka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898989"/>
                </a:solidFill>
                <a:latin typeface="Calibri"/>
              </a:rPr>
              <a:t>Č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IPS SLANI 150G MARBO"/>
          <p:cNvPicPr/>
          <p:nvPr/>
        </p:nvPicPr>
        <p:blipFill>
          <a:blip r:embed="rId1"/>
          <a:stretch/>
        </p:blipFill>
        <p:spPr>
          <a:xfrm>
            <a:off x="2571840" y="857160"/>
            <a:ext cx="35719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is proiz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upa proizvod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ni č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o količi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ckalica koju često pojedem na velikom odmoru za uži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že se kupiti u prodavnicama i kiosc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79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n/kom. 877.78 din/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isak sastoja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omp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lmino ul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(max.3,5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jačivač arome – mononatrijum glutaminat (aditiv E62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datne informaci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lovi čuvanj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Čuvati na suvom i tamnom mes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mlja porekl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ublika Srb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kovano u zaštitnoj atmosferi. Ne sadrži konzervanse i veštačke bo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ranljiva vred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Energija (kJ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224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Energija (kcal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16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Masti</a:t>
            </a:r>
            <a:r>
              <a:rPr b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(g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34.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od kojih zasićene masne kiseline (g):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16.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Ugljeni hidrati (g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47.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od kojih šećeri (g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0.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Proteini (g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7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So (g):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1.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Calibri"/>
              </a:rPr>
              <a:t>*Hranljiva vrednost na 100g proizvo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šljenje o proizvo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drži mnogo masnoće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34.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i soli 1,5 g u 100g proizvoda, (izazivaju srčana oboljenja visok krvni pritisak); palmino ulje (ulja se telu pretvaraju u masti i povećavaju rizik od srčanih bolesti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drži pojačivač ukusa o čijem se uticaju na ljudski organizam ne zna dovoljn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 visoku energetsku vrednost 162kcal kao da smo pojeli 2 pečena jajeta ili 100g svinjetine, (100g jogurta sadrži 74kcal, 100g graška 37kcal, 100g banana 66kc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izvod je visokokaloričan, ali ima malu hranljivu vrednost (u njemu ima veoma malo proteina koji su potrebni telu da raste i razvija se, a ima mnogo ugljenih hidrata i masti koji daju energiju, ali goje ako ih previše unosim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poru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aj proizvod treba izbegavati jer loše utiče na zdravl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3T12:33:18Z</dcterms:created>
  <dc:creator>Natasa</dc:creator>
  <dc:description/>
  <dc:language>en-US</dc:language>
  <cp:lastModifiedBy>Natasa</cp:lastModifiedBy>
  <dcterms:modified xsi:type="dcterms:W3CDTF">2020-07-15T12:51:41Z</dcterms:modified>
  <cp:revision>11</cp:revision>
  <dc:subject/>
  <dc:title>Slane grickalice</dc:title>
</cp:coreProperties>
</file>