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EB6-2278-4CE2-8E2F-4D906219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94C-1204-4AA6-B036-7D5DFE59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E74-8A5C-41E1-9D8F-93A5EFEE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36B-3DA8-41EA-ACA5-7360602B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689A-0BB4-4467-B9E9-F444C018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F785-4A1E-4578-AD66-4D2684A6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A23A-8B44-4B7A-826F-31BFE0CF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5FDD-32F7-4EF6-9E21-A63E9C82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DEB6-24C0-4712-A308-735655D1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9E34-C4B5-4B91-B8B7-6EB88210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7476-4586-4948-9597-AC2E1375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6B1-EAC8-4581-BD07-1833D8C4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83B5-16C7-4844-8728-1E40C182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2B48-0BC9-4519-89EF-4C42AB47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79AE-A531-494C-A9AF-E239FDDD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EB26-8541-4E7A-996E-29FAC8EE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E8C2-C374-4D30-BA51-696A64BC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D414-8976-4524-B912-0B71DCF4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EAB8-00A3-4055-A8CB-AB953D92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E1A0-E722-4F69-8449-8F1A1D82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1C7E-F14F-4020-BE94-D2EB2A97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4405-BC1C-48D7-AE3D-2D5C78A9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7CE-65C2-45E5-9340-97444BD4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BADB9-CAC9-45F8-9B6C-778A7A5C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D781-AFAF-414A-BD67-13DCAB1E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69B1-234E-4B18-91F0-8D507B24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78104-EADD-4FE9-BA2F-3BE664F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616C-5913-4D46-8A2A-BB4426A6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5CDC-58DD-44E8-87B4-3D51BDB4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FF6B-8F70-45B5-A3BB-822D1F00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A5019-0FD0-4354-8579-7C600A4C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A0FF-D3E8-4B37-86DA-865C244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90C5A-4F28-4DC5-A280-55F35BC5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BDE-DEE5-4473-9A8C-4DA27820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06CA-734F-420E-83CD-6AF0DF26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82077-80F3-437B-BD03-5BDE2B78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9614-93BC-4DF5-B69C-461B84A8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F91D1-0E62-4FA4-9AED-5F71773D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5F08C-FFFC-49D2-B59A-0BA3E1D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EDA3F-4E13-4012-AE27-28193C52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16A05-2F7C-4CEC-A382-319ED774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B5F57-FCC8-472A-8175-7189FA29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446D-B6E4-400A-A78A-F4938E31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A0444-94C4-4D95-9FEC-9C585507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058-F72D-4887-A277-A04F35AF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7B3D3-EF43-48B0-A1FF-5C9D16DB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6FB0D-6D11-4A15-A257-A5F633CF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8192F-6C81-4708-BF74-75013826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315B-1229-4104-8FF6-152C1632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C6D0-BA31-4AD3-A7BE-DFF047C0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54764-DF51-4865-807C-835A3353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4DA0-B07F-400F-84AC-C707D2D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59C81-C88C-440B-B048-62C63288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6F03D-A6F6-48C2-B32C-7D724FC7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CA4A0-1010-4093-80DB-984DF236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685-1064-4B52-8BE1-32AAA281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D679F-8429-4566-A22E-ED34C69C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9F305-E4FC-4738-ADC8-6E1B9387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0C55-DD70-47DD-9981-3804445A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5EDF8-B293-4D32-BC56-CCA5382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582DC-7A77-446A-8C38-AC67784C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275F-D2FD-4B69-AF7C-F616B72B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A2A5-44F6-4E88-BFB9-1B1640E2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A35F-8CDF-4F16-857F-7E31E9DD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D12F9-C961-4288-8905-836A10E6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77107-D2CE-4510-9C0A-C4872785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294-CC87-43B2-A6DA-122EE09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77F06-32E9-4AEF-8FD1-F8C033BC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396B3-1930-46FF-9DAC-9AE28A3E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82AA9-160A-4F7D-9041-19DA8D1C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75A5-750C-41A5-AF14-AB5D9823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21216-D92B-441E-8755-A12C5D2F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5D59D-77FE-433B-B95A-32AD1836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09247-C6CD-4C96-A5E3-8ABA6047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002D7-6A77-446A-B309-0D79214F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87C9-8A88-4197-AFB3-5889F555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43E0A-57C3-4B25-A029-B1E5D730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912-607D-4E54-AF25-38E80B23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3FFC2-6460-4478-8ADB-E5BDE715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BE6A5-CB78-4B11-A786-FF2ACF2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0AA25-089D-42B5-8A95-B09D833D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2CAE4-B212-48C2-B60C-206D8C19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27F98-7D60-464D-840D-3333AA99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C38-02AD-49D2-8BE5-81C372E7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CA6A-7C05-41FF-B071-2EA510034C1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B9E2-F13B-49FA-8C81-C7ED8B0DD3B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90DE-9152-4D78-B2D8-702C08C7B2A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D1FE-E69F-49C9-A1D3-AFB677B5B3C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3333-C114-4D16-A29E-8A02594B583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9012-AF63-48A3-8644-E17B2BAB115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E05A-EB99-4538-AD91-C4D9BB522FA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0720"/>
            <a:ext cx="80107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1320" y="142920"/>
            <a:ext cx="84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Састави реченице према датом моделу.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99680" y="1071360"/>
            <a:ext cx="85726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аутомобил ‒ брз ‒ воз (Аутомобил је бржи од воза.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папир ‒ бео ‒ снег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шерпа ‒ плитак ‒ лонац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Милан ‒ ведан ‒ Милица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дете ‒ млад ‒ мама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дрво ‒ тврд ‒ пластика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планина ‒ висок ‒ брдо  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99680" y="28584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мачке ‒ умиљат ‒ пси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девојчице ‒ нежан ‒ дечаци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ноћи ‒ хладан ‒ дани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села ‒ мањи ‒ градови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трешње ‒ сладак ‒ вишње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уће ‒ низак ‒ зграде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професори ‒ строг ‒ наставници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мајке ‒ благ ‒ очеви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зграде ‒ висок ‒ куће  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57120" y="3571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Одговори на питања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акав је колач у поређењу с тортом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аква је крушка у поређењу с јабуком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акве су књиге у поређењу са свескама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акво је млеко у поређењу с лимунадом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аква је физика у поређењу с историјом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акви су кликери у поређењу с лоптама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аква су мора у поређењу с језерима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акав је лептир у поређењу с гусеницом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аква је кафа у поређењу с чајем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57120" y="0"/>
            <a:ext cx="8715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Упореди их на други начин. Посматрај урађени пример.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 u="sng">
                <a:solidFill>
                  <a:srgbClr val="00addc"/>
                </a:solidFill>
                <a:uFillTx/>
                <a:latin typeface="Times New Roman"/>
                <a:ea typeface="Times New Roman"/>
              </a:rPr>
              <a:t>Бака је млађа од деде. Деда је старији од баке</a:t>
            </a:r>
            <a:r>
              <a:rPr b="0" lang="sr-RS" sz="33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Пиле је мање од кокошке. ________________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Отац је виши од сина. ________________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Перо је лакше од камена. ________________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Боксери су јачи од фудбалера. ___________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Зец је бржи од пса. ________________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Отац је строжи од мајке. ________________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Дрво је дебље од цвета. ________________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3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Чај је слађи од кафе. ________________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57120" y="7128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Одговори на питања. Одговоре напиши у својој свесци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о је највиши у разреду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о је највреднији у твојој породици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Шта је најслађе на свету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Шта је најлепше у школи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Шта је најважније у животу?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оја животиља је највећа у мору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оје воће је најкиселије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акви задаци су најтежи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Који океан је најдубљи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На која питања одговарају истакнуте речи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13840" y="1142640"/>
            <a:ext cx="8858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Ласта је </a:t>
            </a:r>
            <a:r>
              <a:rPr b="1" lang="sr-R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мала</a:t>
            </a: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.</a:t>
            </a: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	</a:t>
            </a:r>
            <a:r>
              <a:rPr b="0" lang="sr-RS" sz="36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Она је                од роде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Пролеће</a:t>
            </a:r>
            <a:r>
              <a:rPr b="0" lang="sr-RS" sz="32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 је </a:t>
            </a:r>
            <a:r>
              <a:rPr b="1" lang="sr-RS" sz="32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лепо</a:t>
            </a:r>
            <a:r>
              <a:rPr b="0" lang="sr-RS" sz="32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.  Оно је </a:t>
            </a:r>
            <a:r>
              <a:rPr b="1" lang="sr-RS" sz="32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         </a:t>
            </a:r>
            <a:r>
              <a:rPr b="0" lang="sr-RS" sz="32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   од јесени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Месец је </a:t>
            </a:r>
            <a:r>
              <a:rPr b="1" lang="sr-RS" sz="32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сјајан</a:t>
            </a:r>
            <a:r>
              <a:rPr b="0" lang="sr-RS" sz="3200" spc="-1" strike="noStrike">
                <a:solidFill>
                  <a:srgbClr val="00addc"/>
                </a:solidFill>
                <a:latin typeface="Times New Roman"/>
                <a:ea typeface="Times New Roman"/>
              </a:rPr>
              <a:t>. Он је                    од звезда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Title 1"/>
          <p:cNvSpPr/>
          <p:nvPr/>
        </p:nvSpPr>
        <p:spPr>
          <a:xfrm>
            <a:off x="5415120" y="1071720"/>
            <a:ext cx="1514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мањ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itle 1"/>
          <p:cNvSpPr/>
          <p:nvPr/>
        </p:nvSpPr>
        <p:spPr>
          <a:xfrm>
            <a:off x="5072040" y="2714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лепш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itle 1"/>
          <p:cNvSpPr/>
          <p:nvPr/>
        </p:nvSpPr>
        <p:spPr>
          <a:xfrm>
            <a:off x="4643280" y="471492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сјајниј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12" descr="Barn swallow perched — Stock Photo"/>
          <p:cNvPicPr/>
          <p:nvPr/>
        </p:nvPicPr>
        <p:blipFill>
          <a:blip r:embed="rId1"/>
          <a:srcRect l="10368" t="16009" r="11862" b="9289"/>
          <a:stretch/>
        </p:blipFill>
        <p:spPr>
          <a:xfrm>
            <a:off x="1357200" y="178596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Stork walking on a meadow — Stock Photo"/>
          <p:cNvPicPr/>
          <p:nvPr/>
        </p:nvPicPr>
        <p:blipFill>
          <a:blip r:embed="rId2"/>
          <a:srcRect l="11674" t="16188" r="13702" b="20599"/>
          <a:stretch/>
        </p:blipFill>
        <p:spPr>
          <a:xfrm>
            <a:off x="5857920" y="1643040"/>
            <a:ext cx="928800" cy="1285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4" descr="Close Image Beautiful Pink Flowers Abstract Bright Floral Background Bunch — Stock Photo"/>
          <p:cNvPicPr/>
          <p:nvPr/>
        </p:nvPicPr>
        <p:blipFill>
          <a:blip r:embed="rId3"/>
          <a:srcRect l="0" t="0" r="1837" b="10901"/>
          <a:stretch/>
        </p:blipFill>
        <p:spPr>
          <a:xfrm>
            <a:off x="928800" y="3429000"/>
            <a:ext cx="2501640" cy="1389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Autumn colored leaves falling — Stock Photo"/>
          <p:cNvPicPr/>
          <p:nvPr/>
        </p:nvPicPr>
        <p:blipFill>
          <a:blip r:embed="rId4"/>
          <a:stretch/>
        </p:blipFill>
        <p:spPr>
          <a:xfrm>
            <a:off x="5286240" y="3429000"/>
            <a:ext cx="2357640" cy="1357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6" descr="Full Moon close-up. — Stock Photo"/>
          <p:cNvPicPr/>
          <p:nvPr/>
        </p:nvPicPr>
        <p:blipFill>
          <a:blip r:embed="rId5"/>
          <a:srcRect l="16580" t="22476" r="18545" b="18545"/>
          <a:stretch/>
        </p:blipFill>
        <p:spPr>
          <a:xfrm>
            <a:off x="1357200" y="535788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7" descr="Stars Background 01 — Stock Photo"/>
          <p:cNvPicPr/>
          <p:nvPr/>
        </p:nvPicPr>
        <p:blipFill>
          <a:blip r:embed="rId6"/>
          <a:stretch/>
        </p:blipFill>
        <p:spPr>
          <a:xfrm>
            <a:off x="5214960" y="5400720"/>
            <a:ext cx="19288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57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Подсетимо се облика придева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28760" y="999720"/>
            <a:ext cx="857232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р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црњи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јаја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сјајнији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жиј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њ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а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љ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гори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жа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5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Обрати пажњу на истакнуте настав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1420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шки род, једнина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месец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а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. род, јд.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 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је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раћ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и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 недељ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е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ж. род, јд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столећ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а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. род, јд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 је најкраћ</a:t>
            </a:r>
            <a:r>
              <a:rPr b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и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5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Обрати пажњу на истакнуте настав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ски род, једнина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поток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_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. род, јд.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</a:t>
            </a:r>
            <a:r>
              <a:rPr b="0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а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је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убљ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_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 бар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_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ж. род, јд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језер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_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. род, јд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а је најдубљ</a:t>
            </a:r>
            <a:r>
              <a:rPr b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_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5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Обрати пажњу на истакнуте настав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1420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њи род, једнина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јесен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_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ж. род, јд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то 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је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оплиј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е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 зим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_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ж. род, јд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пролећ</a:t>
            </a:r>
            <a:r>
              <a:rPr b="1" i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_</a:t>
            </a:r>
            <a:r>
              <a:rPr b="0" i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. род, јд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то је најтоплиј</a:t>
            </a:r>
            <a:r>
              <a:rPr b="1" lang="sr-C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_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5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Обрати пажњу на истакнуте настав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1420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шки род, множина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месец</a:t>
            </a:r>
            <a:r>
              <a:rPr b="1" i="1" lang="sr-C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и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. род, мн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</a:t>
            </a:r>
            <a:r>
              <a:rPr b="1" i="1" lang="sr-C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и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C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су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раћ</a:t>
            </a:r>
            <a:r>
              <a:rPr b="1" i="1" lang="sr-C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и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 недељ</a:t>
            </a:r>
            <a:r>
              <a:rPr b="1" i="1" lang="sr-C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а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ж. род, мн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столећ</a:t>
            </a:r>
            <a:r>
              <a:rPr b="1" i="1" lang="sr-C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а</a:t>
            </a:r>
            <a:r>
              <a:rPr b="0" i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. род, мн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и су најкраћ</a:t>
            </a:r>
            <a:r>
              <a:rPr b="1" lang="sr-C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и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Начини облике компаратива и суперлатива придева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28760" y="164268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зи воз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о сне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итка вод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дни ђац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ада девој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рд ора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о дрв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Начини облике компаратива и суперлатива придева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28760" y="1642680"/>
            <a:ext cx="85723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иљато куч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жно дет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и лис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торт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а дец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ги наставниц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е реч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17:18:20Z</dcterms:created>
  <dc:creator>Natasa</dc:creator>
  <dc:description/>
  <dc:language>en-US</dc:language>
  <cp:lastModifiedBy>Natasa</cp:lastModifiedBy>
  <dcterms:modified xsi:type="dcterms:W3CDTF">2020-03-01T15:25:29Z</dcterms:modified>
  <cp:revision>66</cp:revision>
  <dc:subject/>
  <dc:title>Исказивање особине поређењем</dc:title>
</cp:coreProperties>
</file>