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A22-4C23-450B-B7B8-DE0ECF6E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717-6419-47C8-9CDC-F14348F4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8E8C-A882-4F08-BF2E-63185FDB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E66E-E727-49DF-8305-668D7FE0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739-8311-4C59-B4E2-40F8EEF7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D067-DD84-46B8-9D52-2FC00705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7D1-E4F8-406E-9C63-F9DF010D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63A-DBA3-4BA8-9B94-75F82927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8B5-A3DE-475D-8BEE-8AF58838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CBF6-5DF9-4E06-9319-9B84371F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3A7-B657-4B15-989A-D3B3C700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9D09-DD99-416B-8273-46C3365F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9220-5F6C-4793-9514-935D1014C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нављање и утврђивање град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898989"/>
                </a:solidFill>
                <a:latin typeface="Calibri"/>
              </a:rPr>
              <a:t>Текстови Где је торба? Шапутање, Школске речи; представљање, породица; исказивање просторних и временских односа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 Састави дијалог од датих речи. Напиши га у својој свесц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: Здраво, – име – моје – Весна – 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: сам – Марко – ја – Здрав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: је – Драго – ми – се – упознали – смо – шт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: Мени – такође – је – дра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: ли – да – седнем – Могу – тебе – поред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: Изволи – седи – Наравно. – слобод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8. а)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 Дате речи кажи у одговарајућем облик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28840" y="1285920"/>
          <a:ext cx="7000920" cy="4968720"/>
        </p:xfrm>
        <a:graphic>
          <a:graphicData uri="http://schemas.openxmlformats.org/drawingml/2006/table">
            <a:tbl>
              <a:tblPr/>
              <a:tblGrid>
                <a:gridCol w="3179520"/>
                <a:gridCol w="3821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р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ија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утобуска стан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та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та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т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јесе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јутр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ч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 Састави реченице са речима из претходног задатка. Угледај се на дате пример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214440"/>
            <a:ext cx="82296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Дошли су до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ренула је рано од кућ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Брзо је стигао од парка до пијац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 Опиши један свој дан. Користи следеће ре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будити се, доручковати, после, школа, ићи, до, пешице, часови, вечерати, спавањ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People Park Illustration — Stock Vector"/>
          <p:cNvPicPr/>
          <p:nvPr/>
        </p:nvPicPr>
        <p:blipFill>
          <a:blip r:embed="rId1"/>
          <a:srcRect l="0" t="0" r="0" b="8578"/>
          <a:stretch/>
        </p:blipFill>
        <p:spPr>
          <a:xfrm>
            <a:off x="357120" y="223920"/>
            <a:ext cx="847584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 Заокружи слово испред речи која има супротно значењ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57120" y="160020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има је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редан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дечак.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) храбар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) лењ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) лош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)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уред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н је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изгубио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школску торбу.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) сакрио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) спаковао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) нашао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) узе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ма га је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грубо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погледала.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) лењо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) слабо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) јако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) бла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орба је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уна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ствари.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) празна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) тешка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) лака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) сла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3"/>
          <p:cNvSpPr/>
          <p:nvPr/>
        </p:nvSpPr>
        <p:spPr>
          <a:xfrm>
            <a:off x="2571840" y="2143080"/>
            <a:ext cx="50004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4929120" y="3214800"/>
            <a:ext cx="50004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5"/>
          <p:cNvSpPr/>
          <p:nvPr/>
        </p:nvSpPr>
        <p:spPr>
          <a:xfrm>
            <a:off x="5857920" y="4286160"/>
            <a:ext cx="50004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6"/>
          <p:cNvSpPr/>
          <p:nvPr/>
        </p:nvSpPr>
        <p:spPr>
          <a:xfrm>
            <a:off x="642960" y="5429160"/>
            <a:ext cx="50004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 Повежи назив текста са ликовима који се у њему јављај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школски психол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има                                     „Школске речи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ђаци                                        „Шапутање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ама                                      „Где је торба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шк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тк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лаба оц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4"/>
          <p:cNvCxnSpPr/>
          <p:nvPr/>
        </p:nvCxnSpPr>
        <p:spPr>
          <a:xfrm>
            <a:off x="4071600" y="1999800"/>
            <a:ext cx="1143720" cy="5007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3" name="Straight Arrow Connector 6"/>
          <p:cNvCxnSpPr/>
          <p:nvPr/>
        </p:nvCxnSpPr>
        <p:spPr>
          <a:xfrm>
            <a:off x="1928880" y="2499840"/>
            <a:ext cx="3358080" cy="114372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54" name="Straight Arrow Connector 11"/>
          <p:cNvCxnSpPr/>
          <p:nvPr/>
        </p:nvCxnSpPr>
        <p:spPr>
          <a:xfrm>
            <a:off x="1857240" y="3071880"/>
            <a:ext cx="3501360" cy="21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55" name="Straight Arrow Connector 13"/>
          <p:cNvCxnSpPr/>
          <p:nvPr/>
        </p:nvCxnSpPr>
        <p:spPr>
          <a:xfrm>
            <a:off x="1856880" y="3714840"/>
            <a:ext cx="3358440" cy="216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56" name="Straight Arrow Connector 15"/>
          <p:cNvCxnSpPr/>
          <p:nvPr/>
        </p:nvCxnSpPr>
        <p:spPr>
          <a:xfrm flipV="1">
            <a:off x="2071440" y="2571480"/>
            <a:ext cx="3072600" cy="17150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7" name="Straight Arrow Connector 17"/>
          <p:cNvCxnSpPr/>
          <p:nvPr/>
        </p:nvCxnSpPr>
        <p:spPr>
          <a:xfrm flipV="1">
            <a:off x="2285640" y="2642760"/>
            <a:ext cx="2786760" cy="22154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8" name="Straight Arrow Connector 20"/>
          <p:cNvCxnSpPr/>
          <p:nvPr/>
        </p:nvCxnSpPr>
        <p:spPr>
          <a:xfrm flipV="1">
            <a:off x="3071880" y="2571480"/>
            <a:ext cx="2000880" cy="29296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 Постави питања тако да одговори буду истакнуте реч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000000"/>
                </a:solidFill>
                <a:latin typeface="Calibri"/>
              </a:rPr>
              <a:t>Сима је изгубио </a:t>
            </a:r>
            <a:r>
              <a:rPr b="1" lang="sr-RS" sz="4300" spc="-1" strike="noStrike">
                <a:solidFill>
                  <a:srgbClr val="000000"/>
                </a:solidFill>
                <a:latin typeface="Calibri"/>
              </a:rPr>
              <a:t>школску торбу</a:t>
            </a:r>
            <a:r>
              <a:rPr b="0" lang="sr-RS" sz="4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300" spc="-1" strike="noStrike">
                <a:solidFill>
                  <a:srgbClr val="000000"/>
                </a:solidFill>
                <a:latin typeface="Calibri"/>
              </a:rPr>
              <a:t>Мама</a:t>
            </a:r>
            <a:r>
              <a:rPr b="0" lang="sr-RS" sz="4300" spc="-1" strike="noStrike">
                <a:solidFill>
                  <a:srgbClr val="000000"/>
                </a:solidFill>
                <a:latin typeface="Calibri"/>
              </a:rPr>
              <a:t> га је грдила.</a:t>
            </a:r>
            <a:r>
              <a:rPr b="0" lang="sr-RS" sz="4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4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000000"/>
                </a:solidFill>
                <a:latin typeface="Calibri"/>
              </a:rPr>
              <a:t>Тражио ју је </a:t>
            </a:r>
            <a:r>
              <a:rPr b="1" lang="sr-RS" sz="4300" spc="-1" strike="noStrike">
                <a:solidFill>
                  <a:srgbClr val="000000"/>
                </a:solidFill>
                <a:latin typeface="Calibri"/>
              </a:rPr>
              <a:t>испод кревета</a:t>
            </a:r>
            <a:r>
              <a:rPr b="0" lang="sr-RS" sz="43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RS" sz="43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000000"/>
                </a:solidFill>
                <a:latin typeface="Calibri"/>
              </a:rPr>
              <a:t>Мама је торбу купила </a:t>
            </a:r>
            <a:r>
              <a:rPr b="1" lang="sr-RS" sz="4300" spc="-1" strike="noStrike">
                <a:solidFill>
                  <a:srgbClr val="000000"/>
                </a:solidFill>
                <a:latin typeface="Calibri"/>
              </a:rPr>
              <a:t>прошле године</a:t>
            </a:r>
            <a:r>
              <a:rPr b="0" lang="sr-RS" sz="4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000000"/>
                </a:solidFill>
                <a:latin typeface="Calibri"/>
              </a:rPr>
              <a:t>Торба је била скоро </a:t>
            </a:r>
            <a:r>
              <a:rPr b="1" lang="sr-RS" sz="4300" spc="-1" strike="noStrike">
                <a:solidFill>
                  <a:srgbClr val="000000"/>
                </a:solidFill>
                <a:latin typeface="Calibri"/>
              </a:rPr>
              <a:t>нова</a:t>
            </a:r>
            <a:r>
              <a:rPr b="0" lang="sr-RS" sz="4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има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неће да ид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у школу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На часу се не прича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гласно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Ђац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се друже на путу од куће до школ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Једни другима говоре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своје тајн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Школа је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васпитно-образовна установ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 Шта су они теби? Допуни речениц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"/>
              </a:rPr>
              <a:t>Мамина сестра је моја _______________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"/>
              </a:rPr>
              <a:t>Њен муж ми је ___________________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"/>
              </a:rPr>
              <a:t>Њихова деца су моја _______________ и _________________ од ________________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"/>
              </a:rPr>
              <a:t>Татин брат је мој ____________________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"/>
              </a:rPr>
              <a:t>Његова жена је моја ______________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Њихова деца су ми ____________________________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Татина сестра ми је ___________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Мамин брат је мој ________________, а његова жена ми је __________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 Представи себе и своју породицу. Испричај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ако се зовеш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ада си рођен/рођен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олико чланова има твоја породиц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ако се зову и чиме се бав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ако проводите слободно врем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25T20:20:51Z</dcterms:created>
  <dc:creator>Natasa</dc:creator>
  <dc:description/>
  <dc:language>en-US</dc:language>
  <cp:lastModifiedBy>Natasa</cp:lastModifiedBy>
  <dcterms:modified xsi:type="dcterms:W3CDTF">2020-07-21T11:15:51Z</dcterms:modified>
  <cp:revision>9</cp:revision>
  <dc:subject/>
  <dc:title>Понављање и утврђивање градива</dc:title>
</cp:coreProperties>
</file>