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15A-BDB0-47A1-8E4D-CE76A38A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8B5-32BB-4464-ABF9-5193D505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849-B25E-4F56-A3E8-30F05163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4C3-CFA2-4209-976D-59DE6E6E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454-C8B1-40CA-9AEE-6E38CC8C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7F2-5D21-450D-96A6-1645325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CD7-2C25-46DB-B0DA-3C6FD903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D80-50EC-4219-9732-DFFD062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772-6011-434F-A7B7-6F7646E8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7EC-64D9-449C-9E88-7E82353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B3F-112E-4404-892B-BF5133E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659-ADE7-4B85-81FC-D2405143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12CC-26CE-4328-BE18-F10B3868E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ч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Никола Тес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икола Те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nikola-tesla.jpg"/>
          <p:cNvPicPr/>
          <p:nvPr/>
        </p:nvPicPr>
        <p:blipFill>
          <a:blip r:embed="rId1"/>
          <a:stretch/>
        </p:blipFill>
        <p:spPr>
          <a:xfrm>
            <a:off x="4071960" y="357120"/>
            <a:ext cx="4754520" cy="5853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400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рпски проналазач и инжењер електротехнике и машинства (1856-194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4" descr="Tesla_young.jpg"/>
          <p:cNvPicPr/>
          <p:nvPr/>
        </p:nvPicPr>
        <p:blipFill>
          <a:blip r:embed="rId1"/>
          <a:stretch/>
        </p:blipFill>
        <p:spPr>
          <a:xfrm>
            <a:off x="4251240" y="766800"/>
            <a:ext cx="3759120" cy="4863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642600"/>
            <a:ext cx="32576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о је веома радознао дечак, волео је животиње, прир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чио Политехничку школу у Грацу (Аустрија), студирао у Прагу (Чеш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6120" y="5286240"/>
            <a:ext cx="4786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сла у лабораторији у Колорад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инг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Nikola_Tesla,_with_his_equipment_Wellcome_M0014782.jpg"/>
          <p:cNvPicPr/>
          <p:nvPr/>
        </p:nvPicPr>
        <p:blipFill>
          <a:blip r:embed="rId1"/>
          <a:stretch/>
        </p:blipFill>
        <p:spPr>
          <a:xfrm>
            <a:off x="3525840" y="1071720"/>
            <a:ext cx="5299200" cy="4000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Најзначајнији проналасци су  му везани за струј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поменик Николи Тесли на Нијагариним водопад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Natasa\Desktop\1024px-Niagara-Falls_ON_Monument_Nikola-Tesla_2015-08-13_(7).jpg"/>
          <p:cNvPicPr/>
          <p:nvPr/>
        </p:nvPicPr>
        <p:blipFill>
          <a:blip r:embed="rId1"/>
          <a:stretch/>
        </p:blipFill>
        <p:spPr>
          <a:xfrm>
            <a:off x="1071720" y="1571760"/>
            <a:ext cx="6572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бјашњење мање познатих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леса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блеска м. род (блесак муњ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Abstract background — Stock Photo"/>
          <p:cNvPicPr/>
          <p:nvPr/>
        </p:nvPicPr>
        <p:blipFill>
          <a:blip r:embed="rId1"/>
          <a:stretch/>
        </p:blipFill>
        <p:spPr>
          <a:xfrm>
            <a:off x="642960" y="2428920"/>
            <a:ext cx="3571920" cy="257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Lightning showdown — Stock Photo"/>
          <p:cNvPicPr/>
          <p:nvPr/>
        </p:nvPicPr>
        <p:blipFill>
          <a:blip r:embed="rId2"/>
          <a:stretch/>
        </p:blipFill>
        <p:spPr>
          <a:xfrm>
            <a:off x="4500720" y="3500280"/>
            <a:ext cx="42861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Electric cable with glowing electricity lightning — Stock Photo"/>
          <p:cNvPicPr/>
          <p:nvPr/>
        </p:nvPicPr>
        <p:blipFill>
          <a:blip r:embed="rId1"/>
          <a:stretch/>
        </p:blipFill>
        <p:spPr>
          <a:xfrm>
            <a:off x="2500200" y="428760"/>
            <a:ext cx="3686400" cy="4857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924840" y="542916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електрицит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електрицитета м. 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Sun behind dark clouds in sky — Stock Photo"/>
          <p:cNvPicPr/>
          <p:nvPr/>
        </p:nvPicPr>
        <p:blipFill>
          <a:blip r:embed="rId1"/>
          <a:stretch/>
        </p:blipFill>
        <p:spPr>
          <a:xfrm>
            <a:off x="1143000" y="500040"/>
            <a:ext cx="6858000" cy="5000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866600" y="564372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ут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сутона м. 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а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грабим (грабити нешто ‒ храну, своје ствар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вер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уверим (уверити некога у нешто, Уверио ме је да је то истина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4T17:19:28Z</dcterms:created>
  <dc:creator>Natasa</dc:creator>
  <dc:description/>
  <dc:language>en-US</dc:language>
  <cp:lastModifiedBy>Natasa</cp:lastModifiedBy>
  <dcterms:modified xsi:type="dcterms:W3CDTF">2020-07-21T11:23:21Z</dcterms:modified>
  <cp:revision>10</cp:revision>
  <dc:subject/>
  <dc:title>Мачак</dc:title>
</cp:coreProperties>
</file>