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CB2-BEEF-409A-82AC-3CE5EDB5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1E1-9788-47F7-B57E-14F5B09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507-DE28-42E1-8ACA-A9BED29F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84B-F852-4368-AC22-8EEBF875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545-CE02-4D8D-A823-6F54F07D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E8A-03C7-4FD5-BB27-63FD4782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3F1-A9A7-4AA9-ABF6-67AC2C25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AE0-B9D2-4C29-A780-FBD757D4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006-C8E0-4149-A6D0-0348191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F8C-1D88-41C9-A87F-6BBCD64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4FC-6F5C-4162-A89A-239B340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46C-FA9B-4B31-8675-8FC5FBC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9B4-4535-4D18-8F5D-FA947D55E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лугодишње понављање град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85880" y="285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стави пет реченица о фотографији коју видиш. Реченице напиши у својој свес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ulti Generation Family Watching TV — Stock Photo"/>
          <p:cNvPicPr/>
          <p:nvPr/>
        </p:nvPicPr>
        <p:blipFill>
          <a:blip r:embed="rId1"/>
          <a:stretch/>
        </p:blipFill>
        <p:spPr>
          <a:xfrm>
            <a:off x="785880" y="1500120"/>
            <a:ext cx="7715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45720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матрај илустрације и испричај како се прави колач с џе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A Step by Step Collage of Making Christmas Layered Cake — Stock Photo"/>
          <p:cNvPicPr/>
          <p:nvPr/>
        </p:nvPicPr>
        <p:blipFill>
          <a:blip r:embed="rId1"/>
          <a:srcRect l="0" t="0" r="915" b="12304"/>
          <a:stretch/>
        </p:blipFill>
        <p:spPr>
          <a:xfrm>
            <a:off x="357120" y="1357200"/>
            <a:ext cx="8501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епознај дело на основу илустрац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Резултат слика за Bik i zec"/>
          <p:cNvPicPr/>
          <p:nvPr/>
        </p:nvPicPr>
        <p:blipFill>
          <a:blip r:embed="rId1"/>
          <a:srcRect l="0" t="0" r="0" b="9201"/>
          <a:stretch/>
        </p:blipFill>
        <p:spPr>
          <a:xfrm>
            <a:off x="571680" y="1357200"/>
            <a:ext cx="2357280" cy="364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4.bp.blogspot.com/-IoVvB8FrQaA/T6V9NdMrs6I/AAAAAAAABZQ/Tvt--bRSy5Y/s1600/IMGP8405.jpg"/>
          <p:cNvPicPr/>
          <p:nvPr/>
        </p:nvPicPr>
        <p:blipFill>
          <a:blip r:embed="rId2">
            <a:lum bright="10000"/>
          </a:blip>
          <a:srcRect l="12568" t="5310" r="11813" b="25840"/>
          <a:stretch/>
        </p:blipFill>
        <p:spPr>
          <a:xfrm>
            <a:off x="3286080" y="142884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578880" y="5000760"/>
            <a:ext cx="24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к и зец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родна ба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711600" y="6048360"/>
            <a:ext cx="41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берче”, народна бај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Резултат слика за шапутање драган лукић"/>
          <p:cNvPicPr/>
          <p:nvPr/>
        </p:nvPicPr>
        <p:blipFill>
          <a:blip r:embed="rId1"/>
          <a:stretch/>
        </p:blipFill>
        <p:spPr>
          <a:xfrm>
            <a:off x="285840" y="428760"/>
            <a:ext cx="4000320" cy="292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Резултат слика за мајка јову у ружи родила"/>
          <p:cNvPicPr/>
          <p:nvPr/>
        </p:nvPicPr>
        <p:blipFill>
          <a:blip r:embed="rId2"/>
          <a:stretch/>
        </p:blipFill>
        <p:spPr>
          <a:xfrm>
            <a:off x="4714920" y="2000160"/>
            <a:ext cx="3429000" cy="3071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083240" y="3500280"/>
            <a:ext cx="22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апутање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раган Лук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355280" y="5214960"/>
            <a:ext cx="455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јка Јову у ружи родила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родна пес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514368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36600" y="342900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чак”, Никола Те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Резултат слика за подела улога гвидо тартаља"/>
          <p:cNvPicPr/>
          <p:nvPr/>
        </p:nvPicPr>
        <p:blipFill>
          <a:blip r:embed="rId2"/>
          <a:srcRect l="1188" t="28696" r="0" b="0"/>
          <a:stretch/>
        </p:blipFill>
        <p:spPr>
          <a:xfrm>
            <a:off x="4214880" y="3571920"/>
            <a:ext cx="4643280" cy="2521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962520" y="6072120"/>
            <a:ext cx="49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ела улога”, Гвидо Тарта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пиши нешто о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абери једно од обрађених књижевних дела и напиш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ив дела и ауто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реди те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веди главне лико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причај укратко о чему се у њему говор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јасни зашто ти се до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те речи кажи у одговарајућем облику, а затим састави по једну реченицу с њ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571760"/>
          <a:ext cx="5929200" cy="4632120"/>
        </p:xfrm>
        <a:graphic>
          <a:graphicData uri="http://schemas.openxmlformats.org/drawingml/2006/table">
            <a:tbl>
              <a:tblPr/>
              <a:tblGrid>
                <a:gridCol w="2965320"/>
                <a:gridCol w="296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ћ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 Са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от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р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ес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птемб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цемб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т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ч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лико често се бавиш наведеним активности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760" y="2428920"/>
          <a:ext cx="8358120" cy="3779640"/>
        </p:xfrm>
        <a:graphic>
          <a:graphicData uri="http://schemas.openxmlformats.org/drawingml/2006/table">
            <a:tbl>
              <a:tblPr/>
              <a:tblGrid>
                <a:gridCol w="1857240"/>
                <a:gridCol w="1486080"/>
                <a:gridCol w="1442880"/>
                <a:gridCol w="1643040"/>
                <a:gridCol w="1928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еде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едаш 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ш игр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љаш 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ш у биоск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таш књи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едеш слатки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емаш соб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жиш 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ше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в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иш бици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иш роле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ш у позориш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ива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таш 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ш у пар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шаш музи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42960" y="1571760"/>
          <a:ext cx="8215200" cy="64296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081080"/>
                <a:gridCol w="1265040"/>
                <a:gridCol w="1173240"/>
                <a:gridCol w="1174680"/>
                <a:gridCol w="117324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т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ик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нек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ал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и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цртај нетачну речен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јим са бојиц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ишем хемијском олов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утовали су са новим кол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ја се умила водом и сапу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аће косу шампо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ака шије иглом и конц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ма иде на посао са аутобу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4"/>
          <p:cNvSpPr/>
          <p:nvPr/>
        </p:nvSpPr>
        <p:spPr>
          <a:xfrm>
            <a:off x="785880" y="1927080"/>
            <a:ext cx="3357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928800" y="3071880"/>
            <a:ext cx="5500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7"/>
          <p:cNvSpPr/>
          <p:nvPr/>
        </p:nvSpPr>
        <p:spPr>
          <a:xfrm>
            <a:off x="857160" y="5429160"/>
            <a:ext cx="57866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име вршиш наведене радњ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4240" y="1785960"/>
          <a:ext cx="7929720" cy="3565440"/>
        </p:xfrm>
        <a:graphic>
          <a:graphicData uri="http://schemas.openxmlformats.org/drawingml/2006/table">
            <a:tbl>
              <a:tblPr/>
              <a:tblGrid>
                <a:gridCol w="1982880"/>
                <a:gridCol w="1903320"/>
                <a:gridCol w="2186280"/>
                <a:gridCol w="1857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ји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еде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ш ру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ш зуб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ш кос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ишеш прашин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 игра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жеш ру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 чешља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чеш хле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ује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7T13:02:24Z</dcterms:created>
  <dc:creator>Natasa</dc:creator>
  <dc:description/>
  <dc:language>en-US</dc:language>
  <cp:lastModifiedBy>Natasa</cp:lastModifiedBy>
  <dcterms:modified xsi:type="dcterms:W3CDTF">2020-07-21T13:13:57Z</dcterms:modified>
  <cp:revision>17</cp:revision>
  <dc:subject/>
  <dc:title>Полугодишње понављање градива</dc:title>
</cp:coreProperties>
</file>