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D34-DBD1-4A9E-A0C5-4554945D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7C1-0DD0-4C3C-B232-FCABF7E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FF9-7FFE-4CDA-A031-D6EE9165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9D3-32C2-454F-AD4C-2D810D41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6B2-4288-4B19-9298-4AADC8B4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06FA-4F1F-42AA-8BD2-68FB6326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39F-D75E-427C-9AA6-116D2B8F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9E56-75E5-462C-BEAC-4CAD77A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00F9-06EA-4605-AB00-95DA510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2A5-373F-4FF2-BA58-BD8E078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5BC-CEBB-4F7A-941E-DBDB8023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C15-78A7-4F79-93EE-96175D9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B260-B58D-4CF0-A0B6-8395E02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988-5E88-48EC-ABAD-9492FF4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5306-1757-441C-BDAC-B74B31D1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B91E-75B3-49EF-B981-239AFF5C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29E-AD76-4FE5-BF6E-2FC1E23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E8BD-BA69-473C-B400-59C5E71E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F1E4-9A3A-485F-B2D8-4C2946CD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7861-4A41-4C27-8D18-DF7B31C8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CC44-42F5-47EC-92EB-43216CF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353F-EA92-4016-BEB2-D479D0C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B90-BFBA-4BDB-A4BC-7D055BB2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B56B-9393-4812-BBCD-F4068458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A886-DA65-4A34-87E6-9C62D22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8E4D-8129-47D6-924D-DB9E1ECE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ACFC-F70C-46B3-9336-CA920BF0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BDD3-71AB-4500-8007-71B13C12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31B4-CBBE-4682-BF56-478145E1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9351-58F2-4157-BBB5-88CB2489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F575-5AB7-4B13-8671-DF9D6679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BBD0-185A-4E9F-AB92-F2C404B1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B46A-F4F3-4596-AECA-2D13E63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C5E-1DFD-44C8-9668-DDDC0542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335E-9E45-4C68-9C15-9751F10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05C38-83E6-4A53-8BA5-B529E970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BB941-80AB-4B09-9BAD-9F03FA95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0849-A727-4A23-9F8D-FCBD112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2D41-2E6C-42FB-94F0-06C4EA9E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B512-7FDE-48C0-947C-4DD842F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21DB-53BD-4B20-9C05-A79CD50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A6EA-90BC-4EA8-8E05-BA41AD09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A94F-5E92-4C8B-AEBE-514D090C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3563-32DB-467D-8727-789727FB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BAC-EC28-4E7B-88C9-6FAE924B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3025-173C-4FE8-BD2F-67F834B1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5D6A-73BD-4632-BD5B-B7D937D9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DDFD-3C57-4502-BD6B-DB21D3B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DF27-F254-408E-8B15-7022BFD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F5A9-BA2E-48F3-9280-889A5EC8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D1115-B16E-4A78-BFC6-40E6B1D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0288-3C93-4802-9A91-DCDCF9A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845DF-BA69-4B0A-A7B6-3A9A389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A997-F2A4-4087-A767-A8F5AFDD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4AE1-7E34-4C0A-B605-994B7032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BAF-491D-4F57-8CF0-3B4E7A5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46AE-1D9E-4EDD-9298-AEB2013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404-461D-49DF-8EB8-983CC5A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E84-034A-4700-B463-A3233CF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6DA-B332-4489-861C-4691D62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1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2D4-BA6F-4793-B837-3B8ECDD516D5}" type="datetime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27C-3EDB-42FA-A5BF-865162C55330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46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EBF2-0121-4257-83C5-995DA5F2B80B}" type="datetime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B21-7268-4261-B221-5FF0C25796EE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772B-DB7C-4528-91B4-44576F4A1CE5}" type="datetime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E9D-14C4-4A0C-A7E8-1EFF4491E5B5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17FD-898B-4898-80AC-3647126A4F5C}" type="datetime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2143-4C04-4A20-A25D-E441CD546317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10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lowchart: Process 11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Process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4DB2-B4DD-4F22-AB34-8DE56300B5A9}" type="datetime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61DB-7320-4C4D-B50E-7201D4FC2028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1179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Биљни свет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1720" y="26701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4b6d2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Имена биљака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34960" y="106668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унцокрет је име добио због тога што се његов цвет окреће према сунцу. Како се он назива у твом матерњем језику?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38" name="Picture 3" descr="A_sunflower.jpg"/>
          <p:cNvPicPr/>
          <p:nvPr/>
        </p:nvPicPr>
        <p:blipFill>
          <a:blip r:embed="rId1"/>
          <a:stretch/>
        </p:blipFill>
        <p:spPr>
          <a:xfrm>
            <a:off x="2286000" y="304920"/>
            <a:ext cx="474336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295280" y="304920"/>
            <a:ext cx="7639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Шта мислиш, како су ове биљке добиле имена?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40" name="Picture 3" descr="carrot-fb.jpg"/>
          <p:cNvPicPr/>
          <p:nvPr/>
        </p:nvPicPr>
        <p:blipFill>
          <a:blip r:embed="rId1"/>
          <a:stretch/>
        </p:blipFill>
        <p:spPr>
          <a:xfrm>
            <a:off x="1295280" y="1752480"/>
            <a:ext cx="7696440" cy="4040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460520" y="18288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гаре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krastavci.jpg"/>
          <p:cNvPicPr/>
          <p:nvPr/>
        </p:nvPicPr>
        <p:blipFill>
          <a:blip r:embed="rId1"/>
          <a:stretch/>
        </p:blipFill>
        <p:spPr>
          <a:xfrm>
            <a:off x="1676520" y="560520"/>
            <a:ext cx="7270560" cy="5459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6723360" y="525780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тава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iljevci-cuvarkuca-2.jpg"/>
          <p:cNvPicPr/>
          <p:nvPr/>
        </p:nvPicPr>
        <p:blipFill>
          <a:blip r:embed="rId1"/>
          <a:srcRect l="6760" t="0" r="194" b="12711"/>
          <a:stretch/>
        </p:blipFill>
        <p:spPr>
          <a:xfrm>
            <a:off x="1371600" y="838080"/>
            <a:ext cx="7583400" cy="4724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6717600" y="487692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арк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visibaba.jpg"/>
          <p:cNvPicPr/>
          <p:nvPr/>
        </p:nvPicPr>
        <p:blipFill>
          <a:blip r:embed="rId1"/>
          <a:stretch/>
        </p:blipFill>
        <p:spPr>
          <a:xfrm>
            <a:off x="2057400" y="304920"/>
            <a:ext cx="6134040" cy="6083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5953680" y="53352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ба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biljka-zelenika.jpg"/>
          <p:cNvPicPr/>
          <p:nvPr/>
        </p:nvPicPr>
        <p:blipFill>
          <a:blip r:embed="rId1"/>
          <a:stretch/>
        </p:blipFill>
        <p:spPr>
          <a:xfrm>
            <a:off x="1447920" y="1092240"/>
            <a:ext cx="7546680" cy="50259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607040" y="11430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Допуни текст речима: ницати, венути, цветати, клијати, листати, расти.</a:t>
            </a:r>
            <a:r>
              <a:rPr b="1" lang="sr-RS" sz="39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endParaRPr b="1" lang="en-US" sz="39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440" y="1856880"/>
            <a:ext cx="84582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На одговарајућој температури и влажности семе </a:t>
            </a:r>
            <a:r>
              <a:rPr b="0" lang="en-US" sz="36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клија</a:t>
            </a: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 Тада почиње да </a:t>
            </a:r>
            <a:r>
              <a:rPr b="0" lang="en-US" sz="36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ниче</a:t>
            </a: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млада биљка. Ако су јој услови повољни, она све више </a:t>
            </a:r>
            <a:r>
              <a:rPr b="0" lang="en-US" sz="36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расте</a:t>
            </a: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 Неке биљке прво </a:t>
            </a:r>
            <a:r>
              <a:rPr b="0" lang="en-US" sz="36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листају</a:t>
            </a: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, а затим </a:t>
            </a:r>
            <a:r>
              <a:rPr b="0" lang="en-US" sz="36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цветају</a:t>
            </a: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, а код других је обрнуто. Када се развије плод и формира семе, једногодишње биљке почињу да </a:t>
            </a:r>
            <a:r>
              <a:rPr b="0" lang="en-US" sz="36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вену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Реши загонетке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34960" y="114300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осејах колачиће, порастоше конопци, обрах клупчад?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54" name="Picture 3" descr="carrot-fb.jpg"/>
          <p:cNvPicPr/>
          <p:nvPr/>
        </p:nvPicPr>
        <p:blipFill>
          <a:blip r:embed="rId1"/>
          <a:srcRect l="12501" t="7145" r="15833" b="3965"/>
          <a:stretch/>
        </p:blipFill>
        <p:spPr>
          <a:xfrm>
            <a:off x="1600200" y="2838600"/>
            <a:ext cx="2895480" cy="1885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krompir-dijeta-366.png"/>
          <p:cNvPicPr/>
          <p:nvPr/>
        </p:nvPicPr>
        <p:blipFill>
          <a:blip r:embed="rId2"/>
          <a:stretch/>
        </p:blipFill>
        <p:spPr>
          <a:xfrm>
            <a:off x="5334120" y="2819520"/>
            <a:ext cx="2840040" cy="1993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luk-crni-300x199.jpg"/>
          <p:cNvPicPr/>
          <p:nvPr/>
        </p:nvPicPr>
        <p:blipFill>
          <a:blip r:embed="rId3"/>
          <a:stretch/>
        </p:blipFill>
        <p:spPr>
          <a:xfrm>
            <a:off x="3429000" y="4902120"/>
            <a:ext cx="274320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434960" y="228600"/>
            <a:ext cx="7499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уна школа ђака, ниоткуда врата?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58" name="Picture 3" descr="bundeva.jpg"/>
          <p:cNvPicPr/>
          <p:nvPr/>
        </p:nvPicPr>
        <p:blipFill>
          <a:blip r:embed="rId1"/>
          <a:stretch/>
        </p:blipFill>
        <p:spPr>
          <a:xfrm>
            <a:off x="1447920" y="2057400"/>
            <a:ext cx="2828880" cy="2027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lubenica-01.jpg"/>
          <p:cNvPicPr/>
          <p:nvPr/>
        </p:nvPicPr>
        <p:blipFill>
          <a:blip r:embed="rId2"/>
          <a:stretch/>
        </p:blipFill>
        <p:spPr>
          <a:xfrm>
            <a:off x="5105520" y="2057400"/>
            <a:ext cx="3504960" cy="207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krastavci.jpg"/>
          <p:cNvPicPr/>
          <p:nvPr/>
        </p:nvPicPr>
        <p:blipFill>
          <a:blip r:embed="rId3"/>
          <a:stretch/>
        </p:blipFill>
        <p:spPr>
          <a:xfrm>
            <a:off x="3352680" y="4419720"/>
            <a:ext cx="28544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66320" y="457200"/>
            <a:ext cx="7867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Један отац имао хиљаду синова, па свима купио шешир, а себи не може?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62" name="Picture 4" descr="Plody_Lipa.jpg"/>
          <p:cNvPicPr/>
          <p:nvPr/>
        </p:nvPicPr>
        <p:blipFill>
          <a:blip r:embed="rId1"/>
          <a:stretch/>
        </p:blipFill>
        <p:spPr>
          <a:xfrm>
            <a:off x="1828800" y="2438280"/>
            <a:ext cx="2743200" cy="2195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hrast.jpg"/>
          <p:cNvPicPr/>
          <p:nvPr/>
        </p:nvPicPr>
        <p:blipFill>
          <a:blip r:embed="rId2"/>
          <a:stretch/>
        </p:blipFill>
        <p:spPr>
          <a:xfrm>
            <a:off x="5257800" y="1905120"/>
            <a:ext cx="3092400" cy="2317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images.jpg"/>
          <p:cNvPicPr/>
          <p:nvPr/>
        </p:nvPicPr>
        <p:blipFill>
          <a:blip r:embed="rId3"/>
          <a:stretch/>
        </p:blipFill>
        <p:spPr>
          <a:xfrm>
            <a:off x="5029200" y="4572000"/>
            <a:ext cx="312408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пуни реченицу једном од понуђених речи: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зелен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зимзелен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зељаст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. 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18960" y="2742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Биљке чије је стабло меко и зелено називају се __________ биљке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пуни реченицу једном од понуђених речи: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махуна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сем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лопта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. 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18960" y="2742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Грашак, боранија, пасуљ и соја имају плод у облику __________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пуни реченицу једном од понуђених речи: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прашник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полен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зрно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. 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8960" y="2742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челе са цветова сакупљају __________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пуни реченицу једном од понуђених речи: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сем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зрно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плод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. 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8960" y="2742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оленова __________ могу бити различите величине и облика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пуни реченицу једном од понуђених речи: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поједен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јестив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једуће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. 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18960" y="2742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Биљке које се могу јести  називају се __________ биљке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пуни реченицу једном од понуђених речи: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велико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вишеструко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, 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разновсно</a:t>
            </a: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. 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18960" y="29718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Биљке су ____________ корисне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Постави питање тако да одговор буде истакнути део реченице.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18960" y="144756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унцокрет се ставља </a:t>
            </a:r>
            <a:r>
              <a:rPr b="0" lang="sr-R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у салате, супе и пецива</a:t>
            </a: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Још су </a:t>
            </a:r>
            <a:r>
              <a:rPr b="0" lang="sr-R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амерички Индијанци </a:t>
            </a: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цедили уље из њега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И ми данас добијамо уље </a:t>
            </a:r>
            <a:r>
              <a:rPr b="0" lang="sr-R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из сунцокрета</a:t>
            </a: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Његово семе је </a:t>
            </a:r>
            <a:r>
              <a:rPr b="0" lang="sr-R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чаробног</a:t>
            </a: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укуса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челама пружа </a:t>
            </a:r>
            <a:r>
              <a:rPr b="0" lang="sr-R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богату пашу</a:t>
            </a:r>
            <a:r>
              <a:rPr b="0" lang="sr-R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218960" y="152280"/>
            <a:ext cx="7715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Сунцокретов</a:t>
            </a: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мед је веома здрав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Сунцокретов мед</a:t>
            </a: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је веома здрав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Уље му је богато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минералима и витамином Е</a:t>
            </a: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Уље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му</a:t>
            </a: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је богато минералима и витамином Е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но је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веома</a:t>
            </a: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здраво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унцокрет се гаји и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због сточне исхране</a:t>
            </a:r>
            <a:r>
              <a:rPr b="0" lang="en-US" sz="4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14:13:48Z</dcterms:created>
  <dc:creator>Natasa</dc:creator>
  <dc:description/>
  <dc:language>en-US</dc:language>
  <cp:lastModifiedBy>Natasa</cp:lastModifiedBy>
  <dcterms:modified xsi:type="dcterms:W3CDTF">2020-07-15T12:23:19Z</dcterms:modified>
  <cp:revision>9</cp:revision>
  <dc:subject/>
  <dc:title>Биљни свет</dc:title>
</cp:coreProperties>
</file>