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3128-E2E2-4263-80AF-CE35A1FCB8B1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B76E-9F71-480D-BB15-CE08FCD3D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957-110C-4DB3-9AB9-DAB9281A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F28-63BF-4949-8AAA-98C94D2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E78-EC91-43C9-A3FF-5F02A55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D09-5151-4AA4-A61E-CCE4666B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31F-2EDC-4D6E-B7E6-E1C9C00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132-C3C4-4999-9892-98FAAB46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C89-461F-4F79-80BD-73CDF3C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22B-08CC-429F-9E48-6A67DE6C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611-4CDD-48AA-A4BE-8FA709B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461-3EB5-4967-B7F7-383468F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E54-A2BD-4EE4-B873-2AFBF4E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13F-7CCA-4CBA-9159-AE8B1C65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9C8-B91A-4050-90C1-1E1F973C4575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Речено - учињено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892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икола Тес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4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Никола Тес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fotonoticia_20180710123535_1200.jpg"/>
          <p:cNvPicPr/>
          <p:nvPr/>
        </p:nvPicPr>
        <p:blipFill>
          <a:blip r:embed="rId1"/>
          <a:stretch/>
        </p:blipFill>
        <p:spPr>
          <a:xfrm>
            <a:off x="420840" y="1566720"/>
            <a:ext cx="3870000" cy="408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4286160" y="1357200"/>
            <a:ext cx="44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икола Тес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1856 –194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рпски и амери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нжењер електротехнике и проналазач.  Отишао у Америку 1884. године, и својим проналасцима дао огроман допринос развоју нау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43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ладост и први изу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857840" y="92880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икола Тесла је б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радознало де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жељно знања. Ве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је волео животи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 књизи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Моји изу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описује своје детињ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школовање и жељу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остане проналаз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ише и о томе како 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авладао све преп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тигао у Америку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остварио своје жељ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MLADOST I PRVI IZUMI"/>
          <p:cNvPicPr/>
          <p:nvPr/>
        </p:nvPicPr>
        <p:blipFill>
          <a:blip r:embed="rId1"/>
          <a:stretch/>
        </p:blipFill>
        <p:spPr>
          <a:xfrm>
            <a:off x="714240" y="928800"/>
            <a:ext cx="3857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3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ање познате речи и израз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571680" y="92880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рећ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учини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6"/>
          <p:cNvSpPr/>
          <p:nvPr/>
        </p:nvSpPr>
        <p:spPr>
          <a:xfrm>
            <a:off x="2714760" y="121428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500280" y="107172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речен, -а, -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учињен, -а, -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71680" y="2214720"/>
            <a:ext cx="47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речено – учиње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53920" y="3206880"/>
            <a:ext cx="2864160" cy="2620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3786120" y="378000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раћка, -ћке ж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3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ање познате речи и израз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57120" y="1071720"/>
            <a:ext cx="36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лук и стр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одапети стре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797360" y="1066680"/>
            <a:ext cx="2425680" cy="2803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428760" y="23572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направа, -е ж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633240" y="3638520"/>
            <a:ext cx="3000600" cy="2513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4143240" y="407196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рибити, -иј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4214880" y="513720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пањивати, -њуј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43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ање познате речи и израз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28760" y="107172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астрмка, -е ж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28760" y="192240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оцртавати се, -ам 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4786200" y="32860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надво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4214880" y="407196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оћ, -и ж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780080" y="1139760"/>
            <a:ext cx="3887640" cy="186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06320" y="2852640"/>
            <a:ext cx="3322800" cy="1938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571680" y="507204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ити ван себе (од страха, бес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6T16:58:30Z</dcterms:created>
  <dc:creator>Natasa</dc:creator>
  <dc:description/>
  <dc:language>en-US</dc:language>
  <cp:lastModifiedBy>Natasa</cp:lastModifiedBy>
  <dcterms:modified xsi:type="dcterms:W3CDTF">2022-03-11T14:42:46Z</dcterms:modified>
  <cp:revision>9</cp:revision>
  <dc:subject/>
  <dc:title>„Речено - учињено”</dc:title>
</cp:coreProperties>
</file>