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5B6-A4B3-47DC-ACF1-E77908F6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302-CD3A-494E-9672-7C0526AB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14C-7A17-4B76-84F3-B28B2202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777-AA0A-4FA2-A5C2-018CD9BA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A901-67A2-474F-A98A-B4CD626A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ED7F-5265-4AFF-8000-2C1CDE25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6F6-4AF2-4B75-A8BA-5DC7FB8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93DB-D6E5-4867-B9DF-1B9B2359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F0D2-20DC-4D0D-B57C-6F9AB93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2123-9981-4831-AB2E-324C9761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0E4-693A-4BEC-80C6-7401742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032-7E6D-4FF0-9361-D4EE700D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85C0-9C66-42AE-8EDB-40DF5A5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63FA-62A5-4DA1-A23A-B2848856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8A8F-9916-48E7-B246-2A24CF53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CA0C-36BA-4C29-AC0A-501DC657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CB6D-1026-4577-A249-BD0C5EC2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F549-ED5A-4500-8954-BF7ADFDC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AF6D-0D02-4CE1-A208-FDECBF9F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9098-1804-42B0-87A5-2190E0F3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E3C1-CB8A-404D-B63E-BEC686A3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A2FA-FCDB-4CB8-A124-75D2A340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F58-3775-4592-9FFB-74A1780F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BF9C-CF3D-44DA-BEC0-F1D18CA1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C2D8-2E4C-4745-8A1A-6FF1D026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2594-98D9-4339-9BB4-7FC35567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2CE1-C49A-4393-B888-AF793B42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1607F-FD65-45FD-8E47-EF28C38B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B73D-A712-4979-99E8-02515AEF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9DEC-9AD1-49E1-B238-A32714C6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1112-7A07-4120-82BD-082E5014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A5F0-BBD9-420B-9FC7-6B59F801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A5C9-9564-4159-9FDC-5E3C1031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476-DF52-4AD9-87F0-E323EC11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BBA8D-8A73-4D53-BB3A-30A04E9D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ABE1-C9F3-4A20-88F1-6BEC6347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D5B4B-2D55-4F0A-A9EA-AB326B7E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3E248-F722-4809-843C-19BF4D8F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AC6F-95D0-4E42-8385-6F67236A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C36FA-BEB6-4E58-9C61-095FF88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F4F2-F5D6-4385-82AB-BE543B54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0BDB-46E3-454E-B094-B37C1C47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68DB-CBDE-4638-8601-27965989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6562A-A2ED-455B-8214-46592872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977-A9DE-48C3-BBCE-B42112CE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446C-0C6F-4560-9E0E-2B1F4DB8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2A568-6077-4819-BDAA-1D05A4CC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366B8-36E2-434E-8FA9-16ED9B22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F060-E8A0-438D-9570-0F49A799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671A-3CE9-4EF4-8F80-AFEE8E86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C6AAE-991A-47DA-8604-BE14602C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9AB75-84C4-4634-BCD3-8CB612E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BAD3-BDDF-4F90-86D1-5DCACE91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16D0-2E79-43C0-B24F-ECB6A828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B4B94-D794-492F-AE63-CDDAFFED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524-7D3F-4575-BB96-43E04C29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30D1-88B2-4167-8071-49520CDE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743-DC0E-45B7-9624-454859DC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0CE-6F90-438D-8081-AA7804B1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8C0-A39E-4F12-9BBD-CF60777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2042-7E99-4EF6-9515-2977A6EA7534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4920" cy="6858000"/>
              <a:chOff x="0" y="0"/>
              <a:chExt cx="354492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1960" y="0"/>
                <a:ext cx="10296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F447-9163-4546-81AC-3D4ADD1347E3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3120" y="0"/>
              <a:ext cx="10152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2408-F609-43FA-AEB1-B0618908DBFF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6D3E-1FDF-4D4C-AE43-FEB74BA647DD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A5DE-5EEE-4155-91DD-4D91D4DA260D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Бранислав Нушић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„</a:t>
            </a: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Дружина с храстовог стабла”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071680" y="1701720"/>
            <a:ext cx="37148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и српски драмски писац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 романа за децу „Хајдуци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биографије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75960"/>
            <a:ext cx="821520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Бранислав Нушић (1864‒1938)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Бранислав Нушић — Википедија"/>
          <p:cNvPicPr/>
          <p:nvPr/>
        </p:nvPicPr>
        <p:blipFill>
          <a:blip r:embed="rId1"/>
          <a:stretch/>
        </p:blipFill>
        <p:spPr>
          <a:xfrm>
            <a:off x="857160" y="1247760"/>
            <a:ext cx="3429000" cy="517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780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31521b"/>
                </a:solidFill>
                <a:latin typeface="Century Gothic"/>
              </a:rPr>
              <a:t>Хајдуци, Бранислав Нушић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6" name="Picture 2" descr="Hajduci : Branislav Nušić"/>
          <p:cNvPicPr/>
          <p:nvPr/>
        </p:nvPicPr>
        <p:blipFill>
          <a:blip r:embed="rId1"/>
          <a:stretch/>
        </p:blipFill>
        <p:spPr>
          <a:xfrm>
            <a:off x="428760" y="1000080"/>
            <a:ext cx="3795480" cy="54849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4357800" y="939960"/>
            <a:ext cx="450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г четвртка и недеље група дечака окупља се поред храстовог стабла на обали Дунава. Ту уживају ‒ играју се лоптом, маштају и измишљају различите приче уместо да раде домаће задатке. Пошто нико од њих не воли школу, доћи ће на идеју да побегну од куће и постану хајдуци. Њихова авантура, пуна згода и незгода, опаметиће младе хајдуке и насмејати читао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780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хајдук</a:t>
            </a:r>
            <a:r>
              <a:rPr b="0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, -а м. род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428920" y="928800"/>
            <a:ext cx="4232160" cy="562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995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храст</a:t>
            </a: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, -а м. род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66680" y="1706400"/>
            <a:ext cx="3919680" cy="2895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5425920" y="3359160"/>
            <a:ext cx="272448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923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На храстовом стаблу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071800" y="1357200"/>
            <a:ext cx="4970520" cy="478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избуљити</a:t>
            </a:r>
            <a:r>
              <a:rPr b="0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, -им (очи)</a:t>
            </a:r>
            <a:br>
              <a:rPr sz="4400"/>
            </a:br>
            <a:r>
              <a:rPr b="1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надути се</a:t>
            </a:r>
            <a:r>
              <a:rPr b="0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, надујем се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170080" y="2011320"/>
            <a:ext cx="4554720" cy="327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7720" y="100008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ка Дроња, Миле Врабац, Сима Глуваћ, Мита Трта, лаза Цврца, Чеда Брба, ј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780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Ликови у одломку</a:t>
            </a: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50" name="Title 2"/>
          <p:cNvSpPr/>
          <p:nvPr/>
        </p:nvSpPr>
        <p:spPr>
          <a:xfrm>
            <a:off x="857160" y="1928880"/>
            <a:ext cx="762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еста дешавања</a:t>
            </a: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tent Placeholder 1"/>
          <p:cNvSpPr/>
          <p:nvPr/>
        </p:nvSpPr>
        <p:spPr>
          <a:xfrm>
            <a:off x="928800" y="2571840"/>
            <a:ext cx="7619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стово стаб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le 2"/>
          <p:cNvSpPr/>
          <p:nvPr/>
        </p:nvSpPr>
        <p:spPr>
          <a:xfrm>
            <a:off x="1000080" y="4357800"/>
            <a:ext cx="762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Тема</a:t>
            </a: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: дружење и опис деч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2"/>
          <p:cNvSpPr/>
          <p:nvPr/>
        </p:nvSpPr>
        <p:spPr>
          <a:xfrm>
            <a:off x="1000080" y="51436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риповедач</a:t>
            </a: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: ј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7T11:31:28Z</dcterms:created>
  <dc:creator>Natasa</dc:creator>
  <dc:description/>
  <dc:language>en-US</dc:language>
  <cp:lastModifiedBy>Natasa</cp:lastModifiedBy>
  <dcterms:modified xsi:type="dcterms:W3CDTF">2022-03-11T15:03:04Z</dcterms:modified>
  <cp:revision>12</cp:revision>
  <dc:subject/>
  <dc:title>Дружина с храстовог стабла</dc:title>
</cp:coreProperties>
</file>