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A5F-6B00-4F15-A1E6-37C74279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F6F-881E-4BA7-9B12-87757216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C44-DC14-4DFE-8B89-2A2C9ABC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407-ABF7-4C81-8CDB-5924FBF2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A77-0822-4458-9421-3EEB994E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639-DDB9-4E0C-88BE-0E0C1507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994-6255-42F4-BF00-A0E050AC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4C5-F475-46BB-83E2-85062D3B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846-50C0-4F22-B8FF-F491FB48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33C-48AD-49F7-A4E1-3E37ADFC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D7D-6367-4779-A7E5-4683FEB7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EF7-254A-47F8-95BB-BC61AAC3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AD60-79CD-470C-93C2-26B92A805EE8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Google Shape;134;p4"/>
          <p:cNvSpPr/>
          <p:nvPr/>
        </p:nvSpPr>
        <p:spPr>
          <a:xfrm rot="10906800">
            <a:off x="7985880" y="645480"/>
            <a:ext cx="520920" cy="515880"/>
          </a:xfrm>
          <a:prstGeom prst="pi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Google Shape;135;p4"/>
          <p:cNvSpPr/>
          <p:nvPr/>
        </p:nvSpPr>
        <p:spPr>
          <a:xfrm>
            <a:off x="0" y="719280"/>
            <a:ext cx="8431200" cy="69660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Google Shape;136;p4"/>
          <p:cNvSpPr/>
          <p:nvPr/>
        </p:nvSpPr>
        <p:spPr>
          <a:xfrm>
            <a:off x="96840" y="800280"/>
            <a:ext cx="79200" cy="534960"/>
          </a:xfrm>
          <a:prstGeom prst="pie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Google Shape;139;p4"/>
          <p:cNvSpPr/>
          <p:nvPr/>
        </p:nvSpPr>
        <p:spPr>
          <a:xfrm rot="10906800">
            <a:off x="8151840" y="789840"/>
            <a:ext cx="357120" cy="351000"/>
          </a:xfrm>
          <a:prstGeom prst="pi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Google Shape;140;p4"/>
          <p:cNvSpPr/>
          <p:nvPr/>
        </p:nvSpPr>
        <p:spPr>
          <a:xfrm>
            <a:off x="8510760" y="5983200"/>
            <a:ext cx="217440" cy="298440"/>
          </a:xfrm>
          <a:prstGeom prst="pi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oogle Shape;141;p4"/>
          <p:cNvGrpSpPr/>
          <p:nvPr/>
        </p:nvGrpSpPr>
        <p:grpSpPr>
          <a:xfrm>
            <a:off x="8664480" y="6250320"/>
            <a:ext cx="298440" cy="431280"/>
            <a:chOff x="8664480" y="6250320"/>
            <a:chExt cx="298440" cy="431280"/>
          </a:xfrm>
        </p:grpSpPr>
        <p:sp>
          <p:nvSpPr>
            <p:cNvPr id="47" name="Google Shape;142;p4"/>
            <p:cNvSpPr/>
            <p:nvPr/>
          </p:nvSpPr>
          <p:spPr>
            <a:xfrm rot="3913800">
              <a:off x="8724960" y="6277680"/>
              <a:ext cx="198000" cy="21492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Google Shape;143;p4"/>
            <p:cNvSpPr/>
            <p:nvPr/>
          </p:nvSpPr>
          <p:spPr>
            <a:xfrm rot="3913800">
              <a:off x="8620920" y="6483240"/>
              <a:ext cx="293040" cy="9144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ffffff"/>
                </a:solidFill>
                <a:latin typeface="Calibri"/>
              </a:rPr>
              <a:t>Прошло вре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Calibri"/>
              </a:rPr>
              <a:t>Утврђи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748800"/>
            <a:ext cx="77184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edoka One"/>
                <a:ea typeface="Arial"/>
              </a:rPr>
              <a:t>Шта су они ради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00080" y="4932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19240" y="142884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785960" y="15717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м учио/уч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870200" y="207180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 учио/уч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071800" y="2643120"/>
            <a:ext cx="140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 уч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 уч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90520" y="40006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811520" y="4262400"/>
            <a:ext cx="27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о учили/учи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1854720" y="471492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е учили/учи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865880" y="51436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 уч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1214280" y="271476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0"/>
          <p:cNvSpPr/>
          <p:nvPr/>
        </p:nvSpPr>
        <p:spPr>
          <a:xfrm>
            <a:off x="1143000" y="3143160"/>
            <a:ext cx="78588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"/>
          <p:cNvSpPr/>
          <p:nvPr/>
        </p:nvSpPr>
        <p:spPr>
          <a:xfrm>
            <a:off x="1143000" y="357192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2"/>
          <p:cNvSpPr/>
          <p:nvPr/>
        </p:nvSpPr>
        <p:spPr>
          <a:xfrm>
            <a:off x="1285920" y="2143080"/>
            <a:ext cx="500040" cy="49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3"/>
          <p:cNvSpPr/>
          <p:nvPr/>
        </p:nvSpPr>
        <p:spPr>
          <a:xfrm>
            <a:off x="1357200" y="1571760"/>
            <a:ext cx="455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4"/>
          <p:cNvSpPr/>
          <p:nvPr/>
        </p:nvSpPr>
        <p:spPr>
          <a:xfrm>
            <a:off x="1143000" y="514368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5"/>
          <p:cNvSpPr/>
          <p:nvPr/>
        </p:nvSpPr>
        <p:spPr>
          <a:xfrm>
            <a:off x="1143000" y="5572080"/>
            <a:ext cx="71424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1200240" y="4786200"/>
            <a:ext cx="585720" cy="49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1214280" y="4286160"/>
            <a:ext cx="642960" cy="58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929120" y="1714680"/>
          <a:ext cx="4000680" cy="4144680"/>
        </p:xfrm>
        <a:graphic>
          <a:graphicData uri="http://schemas.openxmlformats.org/drawingml/2006/table">
            <a:tbl>
              <a:tblPr/>
              <a:tblGrid>
                <a:gridCol w="1357560"/>
                <a:gridCol w="2643120"/>
              </a:tblGrid>
              <a:tr h="520560">
                <a:tc gridSpan="2"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Једн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је учи</a:t>
                      </a:r>
                      <a:r>
                        <a:rPr b="0" lang="sr-RS" sz="28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је учи</a:t>
                      </a:r>
                      <a:r>
                        <a:rPr b="0" lang="sr-RS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је учи</a:t>
                      </a:r>
                      <a:r>
                        <a:rPr b="0" lang="sr-RS" sz="28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нож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 учи</a:t>
                      </a:r>
                      <a:r>
                        <a:rPr b="0" lang="sr-RS" sz="28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 учи</a:t>
                      </a:r>
                      <a:r>
                        <a:rPr b="0" lang="sr-RS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 учи</a:t>
                      </a:r>
                      <a:r>
                        <a:rPr b="0" lang="sr-RS" sz="28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Oval 15"/>
          <p:cNvSpPr/>
          <p:nvPr/>
        </p:nvSpPr>
        <p:spPr>
          <a:xfrm>
            <a:off x="2714760" y="1428840"/>
            <a:ext cx="214200" cy="214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0"/>
          <p:cNvSpPr/>
          <p:nvPr/>
        </p:nvSpPr>
        <p:spPr>
          <a:xfrm>
            <a:off x="3571920" y="1428840"/>
            <a:ext cx="214200" cy="214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1"/>
          <p:cNvSpPr/>
          <p:nvPr/>
        </p:nvSpPr>
        <p:spPr>
          <a:xfrm>
            <a:off x="3357720" y="5715000"/>
            <a:ext cx="214200" cy="214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2"/>
          <p:cNvSpPr/>
          <p:nvPr/>
        </p:nvSpPr>
        <p:spPr>
          <a:xfrm>
            <a:off x="3500280" y="3714840"/>
            <a:ext cx="214560" cy="2142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3"/>
          <p:cNvSpPr/>
          <p:nvPr/>
        </p:nvSpPr>
        <p:spPr>
          <a:xfrm>
            <a:off x="3357720" y="6159600"/>
            <a:ext cx="214200" cy="1983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3357720" y="2786040"/>
            <a:ext cx="214200" cy="214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4"/>
          <p:cNvSpPr/>
          <p:nvPr/>
        </p:nvSpPr>
        <p:spPr>
          <a:xfrm>
            <a:off x="3429000" y="3214800"/>
            <a:ext cx="214200" cy="214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5"/>
          <p:cNvSpPr/>
          <p:nvPr/>
        </p:nvSpPr>
        <p:spPr>
          <a:xfrm>
            <a:off x="2081520" y="35002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 уч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6"/>
          <p:cNvSpPr/>
          <p:nvPr/>
        </p:nvSpPr>
        <p:spPr>
          <a:xfrm>
            <a:off x="2795760" y="4143240"/>
            <a:ext cx="214200" cy="214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3857760" y="4143240"/>
            <a:ext cx="214200" cy="21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1873440" y="554832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 учи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9"/>
          <p:cNvSpPr/>
          <p:nvPr/>
        </p:nvSpPr>
        <p:spPr>
          <a:xfrm>
            <a:off x="1143000" y="6000840"/>
            <a:ext cx="78588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1895760" y="5977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 уч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1"/>
          <p:cNvSpPr/>
          <p:nvPr/>
        </p:nvSpPr>
        <p:spPr>
          <a:xfrm>
            <a:off x="3357720" y="5286240"/>
            <a:ext cx="214200" cy="214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2800" y="748800"/>
            <a:ext cx="77184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edoka One"/>
                <a:ea typeface="Arial"/>
              </a:rPr>
              <a:t>Вежбајм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00080" y="4932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42920" y="1427040"/>
            <a:ext cx="885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Допуни реченице правилним облицима речи у загради. Пази на р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00040" y="20718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а ____________   песму. (учи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28760" y="26431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и ______________ филм. (глед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28760" y="314316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и ____________ на игралиште. (ић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428760" y="3786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и _________________ у стан. (спрем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28760" y="428616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ни _______________ приче. (чит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28760" y="4786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но _______________. (плак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989640" y="2071800"/>
            <a:ext cx="15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М УЧ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928800" y="2571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И ГЛЕД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996840" y="30718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МО ИШ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082520" y="37530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ТЕ СПРЕМ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1428480" y="421488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У ЧИ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1365120" y="47530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Е ПЛАК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8"/>
          <p:cNvSpPr/>
          <p:nvPr/>
        </p:nvSpPr>
        <p:spPr>
          <a:xfrm>
            <a:off x="5214960" y="2214720"/>
            <a:ext cx="179280" cy="2109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9"/>
          <p:cNvSpPr/>
          <p:nvPr/>
        </p:nvSpPr>
        <p:spPr>
          <a:xfrm>
            <a:off x="5572080" y="271476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0"/>
          <p:cNvSpPr/>
          <p:nvPr/>
        </p:nvSpPr>
        <p:spPr>
          <a:xfrm>
            <a:off x="5000760" y="4929120"/>
            <a:ext cx="179280" cy="211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6035760" y="3929040"/>
            <a:ext cx="179280" cy="212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5643720" y="4432320"/>
            <a:ext cx="179280" cy="2109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643720" y="3287880"/>
            <a:ext cx="179280" cy="212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28760" y="528624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не ______________. одбојку. (игр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5821200" y="5430960"/>
            <a:ext cx="17964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1357200" y="52531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У ИГР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428760" y="575316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на ______________  у парку. (играти 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6000840" y="5932440"/>
            <a:ext cx="179280" cy="211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0"/>
          <p:cNvSpPr/>
          <p:nvPr/>
        </p:nvSpPr>
        <p:spPr>
          <a:xfrm>
            <a:off x="1215360" y="57531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У СЕ ИГР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840" y="748800"/>
            <a:ext cx="82170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2. Постави питање, друг/другарица нека одговори на ње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00080" y="4932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00040" y="16430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а ли ___ Мила_________   лектиру? (прочит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0040" y="20718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а, ______________ лекти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500040" y="25718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да ____Марко и Павле________ на игралиште? (доћ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00040" y="30002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Шта _____________ Маја? (ради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00040" y="34290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ја _______________ ниш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00040" y="385776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де____ дете ___________? (играти 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1357200" y="16095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е               проч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1071720" y="203832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читала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1285920" y="2500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у                                  дош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1360080" y="29289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е рад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1387440" y="33955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ије рад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1071720" y="38577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               игр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9"/>
          <p:cNvSpPr/>
          <p:nvPr/>
        </p:nvSpPr>
        <p:spPr>
          <a:xfrm>
            <a:off x="7143840" y="178596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5749920" y="4000680"/>
            <a:ext cx="179280" cy="210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500040" y="428616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те______________ на игралиш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6"/>
          <p:cNvSpPr/>
          <p:nvPr/>
        </p:nvSpPr>
        <p:spPr>
          <a:xfrm>
            <a:off x="7500960" y="478800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427040" y="42148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 игр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500040" y="46814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акле______ Ема и Вера___________? (вратити 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1651320" y="464328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у се                           врат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1"/>
          <p:cNvSpPr/>
          <p:nvPr/>
        </p:nvSpPr>
        <p:spPr>
          <a:xfrm>
            <a:off x="8072280" y="2714760"/>
            <a:ext cx="179640" cy="212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2"/>
          <p:cNvSpPr/>
          <p:nvPr/>
        </p:nvSpPr>
        <p:spPr>
          <a:xfrm>
            <a:off x="5357880" y="314316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500040" y="50720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не________________из па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1472040" y="503856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у се врат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571680" y="557208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д ____ деда__________?(стић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1239120" y="553896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е                 стига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642960" y="60390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да____________пре пола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1435320" y="6039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е  стига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8"/>
          <p:cNvSpPr/>
          <p:nvPr/>
        </p:nvSpPr>
        <p:spPr>
          <a:xfrm>
            <a:off x="5249880" y="5716440"/>
            <a:ext cx="179280" cy="212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2800" y="748800"/>
            <a:ext cx="77184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edoka One"/>
                <a:ea typeface="Arial"/>
              </a:rPr>
              <a:t>Обрати пажњ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00080" y="49320"/>
            <a:ext cx="894384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42920" y="135720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матрај примере и закључи – како постављамо питање, а како све можемо одговорити на њ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00040" y="2428920"/>
            <a:ext cx="3000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Ј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ДОШ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ја је д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угови су д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не су дош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ца су д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5082120" y="2428920"/>
            <a:ext cx="332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ШТА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Ј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Л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ла је све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ле су олов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о је фломас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ле су бој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ло је оглед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8"/>
          <p:cNvSpPr/>
          <p:nvPr/>
        </p:nvSpPr>
        <p:spPr>
          <a:xfrm>
            <a:off x="3429000" y="2643120"/>
            <a:ext cx="179280" cy="211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3214800" y="314316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0"/>
          <p:cNvSpPr/>
          <p:nvPr/>
        </p:nvSpPr>
        <p:spPr>
          <a:xfrm>
            <a:off x="3429000" y="5072040"/>
            <a:ext cx="179280" cy="211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2714760" y="3786120"/>
            <a:ext cx="179280" cy="212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8358120" y="4071960"/>
            <a:ext cx="179280" cy="2109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4"/>
          <p:cNvSpPr/>
          <p:nvPr/>
        </p:nvSpPr>
        <p:spPr>
          <a:xfrm>
            <a:off x="3214800" y="457200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6"/>
          <p:cNvSpPr/>
          <p:nvPr/>
        </p:nvSpPr>
        <p:spPr>
          <a:xfrm>
            <a:off x="7929720" y="457200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7929720" y="2571840"/>
            <a:ext cx="179280" cy="210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7786800" y="314316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2"/>
          <p:cNvSpPr/>
          <p:nvPr/>
        </p:nvSpPr>
        <p:spPr>
          <a:xfrm>
            <a:off x="7929720" y="3643200"/>
            <a:ext cx="17928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3"/>
          <p:cNvSpPr/>
          <p:nvPr/>
        </p:nvSpPr>
        <p:spPr>
          <a:xfrm>
            <a:off x="8321760" y="5072040"/>
            <a:ext cx="179280" cy="211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2800" y="748800"/>
            <a:ext cx="77184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edoka One"/>
                <a:ea typeface="Arial"/>
              </a:rPr>
              <a:t>Обрати пажњ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28520" y="49320"/>
            <a:ext cx="8944200" cy="664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14200" y="1474920"/>
            <a:ext cx="88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матрај примере и закључи – како се мења ред речи ако изоставимо особу која је вршила радњ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Rectangle 6" descr=""/>
          <p:cNvPicPr/>
          <p:nvPr/>
        </p:nvPicPr>
        <p:blipFill>
          <a:blip r:embed="rId1"/>
          <a:stretch/>
        </p:blipFill>
        <p:spPr>
          <a:xfrm>
            <a:off x="341280" y="2816280"/>
            <a:ext cx="4164120" cy="268920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12" descr=""/>
          <p:cNvPicPr/>
          <p:nvPr/>
        </p:nvPicPr>
        <p:blipFill>
          <a:blip r:embed="rId2"/>
          <a:stretch/>
        </p:blipFill>
        <p:spPr>
          <a:xfrm>
            <a:off x="4273560" y="2828880"/>
            <a:ext cx="4589280" cy="2322720"/>
          </a:xfrm>
          <a:prstGeom prst="rect">
            <a:avLst/>
          </a:prstGeom>
          <a:ln w="0">
            <a:noFill/>
          </a:ln>
        </p:spPr>
      </p:pic>
      <p:sp>
        <p:nvSpPr>
          <p:cNvPr id="202" name="Curved Down Arrow 17"/>
          <p:cNvSpPr/>
          <p:nvPr/>
        </p:nvSpPr>
        <p:spPr>
          <a:xfrm>
            <a:off x="1500120" y="2786040"/>
            <a:ext cx="714600" cy="285840"/>
          </a:xfrm>
          <a:custGeom>
            <a:avLst/>
            <a:gdLst>
              <a:gd name="textAreaLeft" fmla="*/ 151920 w 714600"/>
              <a:gd name="textAreaRight" fmla="*/ 527040 w 71460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rved Down Arrow 25"/>
          <p:cNvSpPr/>
          <p:nvPr/>
        </p:nvSpPr>
        <p:spPr>
          <a:xfrm flipH="1">
            <a:off x="1714680" y="2786040"/>
            <a:ext cx="714240" cy="285840"/>
          </a:xfrm>
          <a:custGeom>
            <a:avLst/>
            <a:gdLst>
              <a:gd name="textAreaLeft" fmla="*/ 151560 w 714240"/>
              <a:gd name="textAreaRight" fmla="*/ 526680 w 714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urved Down Arrow 28"/>
          <p:cNvSpPr/>
          <p:nvPr/>
        </p:nvSpPr>
        <p:spPr>
          <a:xfrm>
            <a:off x="5572080" y="2857680"/>
            <a:ext cx="714600" cy="285480"/>
          </a:xfrm>
          <a:custGeom>
            <a:avLst/>
            <a:gdLst>
              <a:gd name="textAreaLeft" fmla="*/ 151920 w 714600"/>
              <a:gd name="textAreaRight" fmla="*/ 527040 w 71460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urved Down Arrow 30"/>
          <p:cNvSpPr/>
          <p:nvPr/>
        </p:nvSpPr>
        <p:spPr>
          <a:xfrm flipH="1">
            <a:off x="5785560" y="2857680"/>
            <a:ext cx="714600" cy="285480"/>
          </a:xfrm>
          <a:custGeom>
            <a:avLst/>
            <a:gdLst>
              <a:gd name="textAreaLeft" fmla="*/ 151560 w 714600"/>
              <a:gd name="textAreaRight" fmla="*/ 526680 w 71460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0" hR="21600" stAng="10800000" swAng="5400000"/>
                <a:lnTo>
                  <a:pt x="11340" y="0"/>
                </a:lnTo>
                <a:arcTo wR="9180" hR="21600" stAng="-5400000" swAng="3523212"/>
                <a:lnTo>
                  <a:pt x="21308" y="16200"/>
                </a:lnTo>
                <a:lnTo>
                  <a:pt x="19440" y="21600"/>
                </a:lnTo>
                <a:lnTo>
                  <a:pt x="16988" y="16200"/>
                </a:lnTo>
                <a:lnTo>
                  <a:pt x="18068" y="16200"/>
                </a:lnTo>
                <a:arcTo wR="9180" hR="21600" stAng="-1876788" swAng="-3350269"/>
                <a:lnTo>
                  <a:pt x="10260" y="150"/>
                </a:lnTo>
                <a:arcTo wR="9180" hR="21600" stAng="-5572943" swAng="-5227057"/>
                <a:close/>
              </a:path>
              <a:path fill="darkenLess" w="21600" h="21600">
                <a:moveTo>
                  <a:pt x="0" y="21600"/>
                </a:moveTo>
                <a:arcTo wR="9180" hR="21600" stAng="10800000" swAng="5400000"/>
                <a:lnTo>
                  <a:pt x="9180" y="0"/>
                </a:lnTo>
                <a:arcTo wR="9180" hR="21600" stAng="-5400000" swAng="172943"/>
                <a:lnTo>
                  <a:pt x="10260" y="150"/>
                </a:lnTo>
                <a:arcTo wR="9180" hR="21600" stAng="-5572943" swAng="-5227057"/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9T09:25:45Z</dcterms:created>
  <dc:creator>Natasa</dc:creator>
  <dc:description/>
  <dc:language>en-US</dc:language>
  <cp:lastModifiedBy>Natasa</cp:lastModifiedBy>
  <dcterms:modified xsi:type="dcterms:W3CDTF">2022-03-05T17:47:39Z</dcterms:modified>
  <cp:revision>17</cp:revision>
  <dc:subject/>
  <dc:title>Прошло време</dc:title>
</cp:coreProperties>
</file>