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7AE-89ED-4E77-BC9D-577A7338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E8A-5D77-4CFF-A353-BCB0FFA9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8C5-200E-4E76-AE36-FFE9D7CE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539-6B11-418D-89B4-577F72C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A2D-47A5-42EC-AB5A-959C95E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E43-7AA8-4A1A-9430-6F02E2B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DEA-0D31-4C24-8AD2-FA4D5F8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EA8-19F8-400C-8232-DBA8343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DBF-59FF-4ED0-A0B8-169491B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7AA-B4AD-47C4-AD6D-7B653CC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B24-6192-4213-8DA1-7F2E0CF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A52-C43E-4363-BEDF-0619596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110-71A2-4E92-83B8-9704CCBC85F6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упо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Цене, плаћ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1438200" y="50976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95560" y="2786040"/>
            <a:ext cx="506556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ular Callout 5"/>
          <p:cNvSpPr/>
          <p:nvPr/>
        </p:nvSpPr>
        <p:spPr>
          <a:xfrm>
            <a:off x="1714680" y="1000080"/>
            <a:ext cx="2857320" cy="1143000"/>
          </a:xfrm>
          <a:prstGeom prst="wedgeRoundRectCallout">
            <a:avLst>
              <a:gd name="adj1" fmla="val 62365"/>
              <a:gd name="adj2" fmla="val 94500"/>
              <a:gd name="adj3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Пошто је...? Пошто су..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ular Callout 7"/>
          <p:cNvSpPr/>
          <p:nvPr/>
        </p:nvSpPr>
        <p:spPr>
          <a:xfrm>
            <a:off x="5143680" y="928800"/>
            <a:ext cx="3214440" cy="1143000"/>
          </a:xfrm>
          <a:prstGeom prst="wedgeRoundRectCallout">
            <a:avLst>
              <a:gd name="adj1" fmla="val -37791"/>
              <a:gd name="adj2" fmla="val 100652"/>
              <a:gd name="adj3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Колико кошта...? Колико коштају..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438200" y="50976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143000" y="500040"/>
            <a:ext cx="6848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Пошто је...? Пошто су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Колико кошта...? Колико коштају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4075200" cy="297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6082200" y="200016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цена, -е ж.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1"/>
          <p:cNvCxnSpPr>
            <a:stCxn id="53" idx="1"/>
          </p:cNvCxnSpPr>
          <p:nvPr/>
        </p:nvCxnSpPr>
        <p:spPr>
          <a:xfrm flipH="1">
            <a:off x="5429160" y="2261160"/>
            <a:ext cx="643320" cy="167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71720" y="5500440"/>
            <a:ext cx="6757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Колико кошта...? Колико коштају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1438200" y="50976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Пошто је...? Пошто су.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1160" y="1420920"/>
            <a:ext cx="2011320" cy="153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138560" y="3425760"/>
            <a:ext cx="193824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0840" y="3492360"/>
            <a:ext cx="1584000" cy="142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780080" y="1420920"/>
            <a:ext cx="245592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1994040" y="3413160"/>
            <a:ext cx="2157120" cy="154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6162840" y="3322800"/>
            <a:ext cx="2560320" cy="16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7"/>
          <a:stretch/>
        </p:blipFill>
        <p:spPr>
          <a:xfrm>
            <a:off x="7351560" y="113364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8"/>
          <a:stretch/>
        </p:blipFill>
        <p:spPr>
          <a:xfrm>
            <a:off x="2206800" y="1352520"/>
            <a:ext cx="273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3920" y="5500440"/>
            <a:ext cx="6758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итан но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Имате ли нешто сит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ubtitle 2"/>
          <p:cNvSpPr/>
          <p:nvPr/>
        </p:nvSpPr>
        <p:spPr>
          <a:xfrm>
            <a:off x="428760" y="214200"/>
            <a:ext cx="3000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крупан но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ioka Kasa Za Novac Sa Više Pregrada | Ugostiteljska I Trgovinska Oprema |  Sasomange oglasnik"/>
          <p:cNvPicPr/>
          <p:nvPr/>
        </p:nvPicPr>
        <p:blipFill>
          <a:blip r:embed="rId1"/>
          <a:stretch/>
        </p:blipFill>
        <p:spPr>
          <a:xfrm>
            <a:off x="1785960" y="1143000"/>
            <a:ext cx="5643720" cy="42321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7"/>
          <p:cNvCxnSpPr/>
          <p:nvPr/>
        </p:nvCxnSpPr>
        <p:spPr>
          <a:xfrm>
            <a:off x="2214720" y="785520"/>
            <a:ext cx="64332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>
            <a:off x="3714480" y="4857840"/>
            <a:ext cx="121500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Straight Arrow Connector 12"/>
          <p:cNvCxnSpPr/>
          <p:nvPr/>
        </p:nvCxnSpPr>
        <p:spPr>
          <a:xfrm flipH="1">
            <a:off x="4928760" y="4929120"/>
            <a:ext cx="92952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714760" y="5143320"/>
            <a:ext cx="39290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јефтин, -а,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куп, -а, -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ubtitle 2"/>
          <p:cNvSpPr/>
          <p:nvPr/>
        </p:nvSpPr>
        <p:spPr>
          <a:xfrm>
            <a:off x="1438200" y="50976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Изабери сладол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41280" y="1438200"/>
            <a:ext cx="85885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99680" y="4857480"/>
            <a:ext cx="4357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Плаћамо на ка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500040" y="571680"/>
            <a:ext cx="4000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каса, -е ж. 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3816360" cy="289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Ne)izdavanje računa &amp;#39;pod lupom&amp;#39; inspektora | Herceg Televizija Trebinje"/>
          <p:cNvPicPr/>
          <p:nvPr/>
        </p:nvPicPr>
        <p:blipFill>
          <a:blip r:embed="rId2"/>
          <a:stretch/>
        </p:blipFill>
        <p:spPr>
          <a:xfrm>
            <a:off x="5357880" y="1643040"/>
            <a:ext cx="3330360" cy="2500200"/>
          </a:xfrm>
          <a:prstGeom prst="rect">
            <a:avLst/>
          </a:prstGeom>
          <a:ln w="0">
            <a:noFill/>
          </a:ln>
        </p:spPr>
      </p:pic>
      <p:sp>
        <p:nvSpPr>
          <p:cNvPr id="83" name="Subtitle 2"/>
          <p:cNvSpPr/>
          <p:nvPr/>
        </p:nvSpPr>
        <p:spPr>
          <a:xfrm>
            <a:off x="4857840" y="64296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рачун, -а м. 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4857840" y="4572000"/>
            <a:ext cx="392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Добијемо рачу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Узми рачу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00080" y="2142720"/>
            <a:ext cx="64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Вам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су ‒ јагоде ‒ Пошто ‒ свеж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ubtitle 2"/>
          <p:cNvSpPr/>
          <p:nvPr/>
        </p:nvSpPr>
        <p:spPr>
          <a:xfrm>
            <a:off x="714240" y="428760"/>
            <a:ext cx="7715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астави реченице од датих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428840"/>
            <a:ext cx="6429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ова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Колико ‒ мајица ‒ кошта? </a:t>
            </a:r>
            <a:r>
              <a:rPr b="1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714240" y="2857680"/>
            <a:ext cx="6357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добити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ли ‒ рачун ‒ Могу</a:t>
            </a:r>
            <a:r>
              <a:rPr b="1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143000" y="3571920"/>
            <a:ext cx="7072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нису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Ове ‒ скупе ‒ уопше ‒ јагоде.</a:t>
            </a:r>
            <a:r>
              <a:rPr b="1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642960" y="4429080"/>
            <a:ext cx="7072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нешто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ли ‒ ситно ‒ Има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214280" y="5143680"/>
            <a:ext cx="707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вој </a:t>
            </a:r>
            <a:r>
              <a:rPr b="1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Изволите ‒ рачун ‒ узм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5T13:15:32Z</dcterms:created>
  <dc:creator>Natasa</dc:creator>
  <dc:description/>
  <dc:language>en-US</dc:language>
  <cp:lastModifiedBy>Natasa</cp:lastModifiedBy>
  <dcterms:modified xsi:type="dcterms:W3CDTF">2022-02-15T16:39:23Z</dcterms:modified>
  <cp:revision>18</cp:revision>
  <dc:subject/>
  <dc:title>Куповина</dc:title>
</cp:coreProperties>
</file>