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7C2-6146-484E-B224-9320A8B0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D67-BBBB-4650-A11B-849853EC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BB8-C223-40A9-B0B8-64F90D8E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D53-0F9B-4980-8193-43BC57BF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343-D6E0-44DF-B5D2-F98C99EE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F4F-9E9B-410A-8C46-36CFD254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0AF-A4A2-4741-8BBA-21EF2AC8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869-29FA-4E4C-90B2-F10ACBA9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6DE-DC35-448D-8C26-BB73AE2D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5B8-0531-4E99-A5B0-D539D83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DD7-F465-4F58-A559-8844EF1B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DEF-F8D2-4EC8-B856-C7F88389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A1CF-D332-4CFD-B512-F353273BB3AC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и и спортистки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5000760" y="3643200"/>
            <a:ext cx="2009520" cy="182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5357880" y="1000080"/>
            <a:ext cx="173196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1571760" y="121428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1500120" y="3786120"/>
            <a:ext cx="1643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357280" y="3571920"/>
            <a:ext cx="2214720" cy="2611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835200" y="571680"/>
            <a:ext cx="2127240" cy="230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3643200" y="1071720"/>
            <a:ext cx="1962360" cy="21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6143760" y="1000080"/>
            <a:ext cx="2071440" cy="201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5"/>
          <a:stretch/>
        </p:blipFill>
        <p:spPr>
          <a:xfrm>
            <a:off x="5429160" y="3857760"/>
            <a:ext cx="103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1" descr=""/>
          <p:cNvPicPr/>
          <p:nvPr/>
        </p:nvPicPr>
        <p:blipFill>
          <a:blip r:embed="rId1"/>
          <a:stretch/>
        </p:blipFill>
        <p:spPr>
          <a:xfrm>
            <a:off x="669960" y="1066680"/>
            <a:ext cx="7407360" cy="5162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1458720" y="285840"/>
            <a:ext cx="68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 изводимо називе спорти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857760" y="1143000"/>
            <a:ext cx="1288800" cy="1789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4954680" y="4071960"/>
            <a:ext cx="1515960" cy="1571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633240" y="3882960"/>
            <a:ext cx="1619280" cy="197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1143000" y="1214280"/>
            <a:ext cx="1622520" cy="178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5"/>
          <a:stretch/>
        </p:blipFill>
        <p:spPr>
          <a:xfrm>
            <a:off x="6572160" y="1143000"/>
            <a:ext cx="1382760" cy="1500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2347560" y="357120"/>
            <a:ext cx="38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нуј спортист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063440" y="307188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дбал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3463560" y="3143160"/>
            <a:ext cx="19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арк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6118200" y="3130560"/>
            <a:ext cx="21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мет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438120" y="584532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ис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4935240" y="5702400"/>
            <a:ext cx="13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ј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6"/>
          <a:stretch/>
        </p:blipFill>
        <p:spPr>
          <a:xfrm>
            <a:off x="2705040" y="4449600"/>
            <a:ext cx="1785960" cy="111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9"/>
          <p:cNvSpPr/>
          <p:nvPr/>
        </p:nvSpPr>
        <p:spPr>
          <a:xfrm>
            <a:off x="2711880" y="578628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ив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7"/>
          <a:stretch/>
        </p:blipFill>
        <p:spPr>
          <a:xfrm>
            <a:off x="7429680" y="3786120"/>
            <a:ext cx="857160" cy="1866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2"/>
          <p:cNvSpPr/>
          <p:nvPr/>
        </p:nvSpPr>
        <p:spPr>
          <a:xfrm>
            <a:off x="7105680" y="57024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с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857160" y="1158120"/>
            <a:ext cx="72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меташ + </a:t>
            </a:r>
            <a:r>
              <a:rPr b="0" lang="sr-R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-ица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˃ рукометаш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бојкаш + </a:t>
            </a:r>
            <a:r>
              <a:rPr b="0" lang="sr-R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-ица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˃ одбојкаш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ивач + </a:t>
            </a:r>
            <a:r>
              <a:rPr b="0" lang="sr-R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-ица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˃ пливач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исер + </a:t>
            </a:r>
            <a:r>
              <a:rPr b="0" lang="sr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ка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˃ тенисер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ксер + </a:t>
            </a:r>
            <a:r>
              <a:rPr b="0" lang="sr-R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-ка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˃ боксер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65080" y="28584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 изводимо називе спортисткињ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85880" y="1635120"/>
            <a:ext cx="180504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3714840" y="1420920"/>
            <a:ext cx="135720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6351480" y="1357200"/>
            <a:ext cx="1078200" cy="16239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2353680" y="357120"/>
            <a:ext cx="46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нуј спортисткињ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928800" y="3201840"/>
            <a:ext cx="24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ојкаш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620160" y="3130560"/>
            <a:ext cx="19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ис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6112800" y="30718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кач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1214280" y="4143240"/>
            <a:ext cx="1805040" cy="1214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1073160" y="53578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зач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5"/>
          <a:stretch/>
        </p:blipFill>
        <p:spPr>
          <a:xfrm>
            <a:off x="3857760" y="3929040"/>
            <a:ext cx="1576080" cy="1357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3615480" y="535788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јаш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6"/>
          <a:stretch/>
        </p:blipFill>
        <p:spPr>
          <a:xfrm>
            <a:off x="6357960" y="3929040"/>
            <a:ext cx="200016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7"/>
          <p:cNvSpPr/>
          <p:nvPr/>
        </p:nvSpPr>
        <p:spPr>
          <a:xfrm>
            <a:off x="6194520" y="5357880"/>
            <a:ext cx="20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ивач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13T15:24:52Z</dcterms:created>
  <dc:creator>Natasa</dc:creator>
  <dc:description/>
  <dc:language>en-US</dc:language>
  <cp:lastModifiedBy>Natasa</cp:lastModifiedBy>
  <dcterms:modified xsi:type="dcterms:W3CDTF">2022-01-13T17:49:07Z</dcterms:modified>
  <cp:revision>16</cp:revision>
  <dc:subject/>
  <dc:title>Slide 1</dc:title>
</cp:coreProperties>
</file>