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1E1FC-521B-4B1E-A51B-741A9B6AF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762012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37720" y="4037040"/>
            <a:ext cx="762012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6C570-15B2-44B8-97BF-64A55F356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42640" y="170172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37720" y="403704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42640" y="403704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70359-8FC1-4323-BBE2-E2B1DA471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245340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14240" y="1701720"/>
            <a:ext cx="245340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90760" y="1701720"/>
            <a:ext cx="245340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837720" y="4037040"/>
            <a:ext cx="245340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414240" y="4037040"/>
            <a:ext cx="245340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90760" y="4037040"/>
            <a:ext cx="245340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3489C-BE7A-40BF-8212-F716DA2E7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F18B9-3B40-4A43-9DA7-53E444F27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837720" y="1701720"/>
            <a:ext cx="762012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862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CA468-4338-47A9-B9A9-6D1A24C86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762012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EB9DA-1DFB-437A-BB73-252203B20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37184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42640" y="1701720"/>
            <a:ext cx="37184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809FD-C3F8-491A-AD43-3971F0C54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52FC0-F2E5-485D-A7F6-203771121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837720" y="76320"/>
            <a:ext cx="762012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487EC-5D18-4E67-B38D-4331320F3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42640" y="1701720"/>
            <a:ext cx="37184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7720" y="403704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5A742-8EB2-4A29-AF26-6A3379313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837720" y="1701720"/>
            <a:ext cx="762012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862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14DD8-4C5A-41C7-B7AB-64121380C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37184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42640" y="170172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742640" y="403704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D6D0D-5866-4967-9125-9683494C3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42640" y="170172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37720" y="4037040"/>
            <a:ext cx="762012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C72A9-36CE-4000-A404-7BA095DBF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762012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837720" y="4037040"/>
            <a:ext cx="762012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C9DC9-3781-47DF-AD55-51645FA1C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42640" y="170172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837720" y="403704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742640" y="403704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D3387-2037-4AEA-8E8D-AA06CEB98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245340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414240" y="1701720"/>
            <a:ext cx="245340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5990760" y="1701720"/>
            <a:ext cx="245340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837720" y="4037040"/>
            <a:ext cx="245340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414240" y="4037040"/>
            <a:ext cx="245340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5990760" y="4037040"/>
            <a:ext cx="245340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7D5E2-1018-4349-9B44-89C2DE6B9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58B099-D964-47F3-A414-E3BA2E08D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837720" y="1701720"/>
            <a:ext cx="762012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862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AF75A3-B1F9-4A33-9C35-5979F1A6E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762012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0C038B-1C48-4851-B677-FCF318883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37184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742640" y="1701720"/>
            <a:ext cx="37184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BFC102-3469-4F3C-9B67-911D1B65F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E5710D-0CB2-4927-9ADB-B09158738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762012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5D521-5677-4D06-941A-C26064750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837720" y="76320"/>
            <a:ext cx="762012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A8FDC4-1FE2-4AB1-B8B3-18EB20680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42640" y="1701720"/>
            <a:ext cx="37184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837720" y="403704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EF21F3-A212-4388-ACB1-3485B38E9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37184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742640" y="170172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742640" y="403704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DF5066-2B99-4740-9206-43C073872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42640" y="170172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837720" y="4037040"/>
            <a:ext cx="762012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5DEAB9-771A-4451-B7FE-9BA8C559B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762012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837720" y="4037040"/>
            <a:ext cx="762012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A000AC-B0EC-4B26-9504-AF90C31B8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742640" y="170172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837720" y="403704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742640" y="403704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A6641B-AE1F-4AA9-96F9-4AA9F8764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245340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414240" y="1701720"/>
            <a:ext cx="245340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5990760" y="1701720"/>
            <a:ext cx="245340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837720" y="4037040"/>
            <a:ext cx="245340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414240" y="4037040"/>
            <a:ext cx="245340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5990760" y="4037040"/>
            <a:ext cx="245340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1519A0-0383-444E-868F-8219403A5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7F28A8-A542-4D88-8CDF-7898FFD64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837720" y="1701720"/>
            <a:ext cx="762012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862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9FE867-E0B2-4A2D-8F6A-0291AED07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762012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67185C-CE97-436A-AD5D-9065BA286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37184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42640" y="1701720"/>
            <a:ext cx="37184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B1509-034A-4E20-B770-1A3E42630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37184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742640" y="1701720"/>
            <a:ext cx="37184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4E650F-7196-4D57-8269-C45D98BDF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FE2371-6FB0-4CD4-8E9F-02C8C1135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837720" y="76320"/>
            <a:ext cx="762012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668CA8-72FB-412B-9820-6021615B6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42640" y="1701720"/>
            <a:ext cx="37184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837720" y="403704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04252C-C634-464A-AA8A-C12B85A7A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37184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42640" y="170172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742640" y="403704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252EE2-856D-417A-95E3-EA1E787F8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42640" y="170172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837720" y="4037040"/>
            <a:ext cx="762012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1D15C9-9867-4E62-BBD0-4333AF916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762012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837720" y="4037040"/>
            <a:ext cx="762012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2581A6-3677-482B-AAB8-F775C2350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742640" y="170172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37720" y="403704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742640" y="403704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7D63E3-54FD-47A1-A653-D6C7B229E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245340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414240" y="1701720"/>
            <a:ext cx="245340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5990760" y="1701720"/>
            <a:ext cx="245340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837720" y="4037040"/>
            <a:ext cx="245340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414240" y="4037040"/>
            <a:ext cx="245340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5990760" y="4037040"/>
            <a:ext cx="245340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1BBB28-F23C-42BE-AED1-9C592F4AD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DB311A-C465-466D-A144-0B596B5F7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2E9C5-94DC-4C98-A21F-56EB985FF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837720" y="1701720"/>
            <a:ext cx="762012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862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2C136C-3E05-4EAC-896C-8CFD3BF22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762012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FFBBFB-BB45-4230-8AB4-83A1D973D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37184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42640" y="1701720"/>
            <a:ext cx="37184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F404F4-F359-4C74-B9B4-7CCC4B1FD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CA2C51-2F15-40B1-92EB-3F6F0CDD1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837720" y="76320"/>
            <a:ext cx="762012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502286-469C-4C29-8CB4-929EC0476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742640" y="1701720"/>
            <a:ext cx="37184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837720" y="403704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A68E51-CC29-4EDF-A1AC-E82D66F86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37184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742640" y="170172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742640" y="403704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33A0D5-CD63-4480-9D2A-BD9674A8D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742640" y="170172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837720" y="4037040"/>
            <a:ext cx="762012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956695-758F-4A0C-91F9-80B63E51C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762012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837720" y="4037040"/>
            <a:ext cx="762012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A247F4-A3AA-4C72-A4C1-DE29F118B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742640" y="170172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837720" y="403704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742640" y="403704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55BBB3-FD89-4F46-B315-9E14CB17E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837720" y="76320"/>
            <a:ext cx="762012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22104-D21F-4118-A096-639689CED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245340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414240" y="1701720"/>
            <a:ext cx="245340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5990760" y="1701720"/>
            <a:ext cx="245340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837720" y="4037040"/>
            <a:ext cx="245340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414240" y="4037040"/>
            <a:ext cx="245340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5990760" y="4037040"/>
            <a:ext cx="245340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DF9683-D7D4-4CD0-B48A-997920436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42640" y="1701720"/>
            <a:ext cx="37184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837720" y="403704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DD340-9695-4FAA-837B-D2E59EB4F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37184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2640" y="170172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42640" y="403704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2F3B4-21E6-4C04-9C15-C332E9DEC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2640" y="170172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837720" y="4037040"/>
            <a:ext cx="762012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03680-362D-4CD5-8AAD-9F653509B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"/>
          <p:cNvGrpSpPr/>
          <p:nvPr/>
        </p:nvGrpSpPr>
        <p:grpSpPr>
          <a:xfrm>
            <a:off x="1440" y="0"/>
            <a:ext cx="9144000" cy="6858000"/>
            <a:chOff x="1440" y="0"/>
            <a:chExt cx="9144000" cy="6858000"/>
          </a:xfrm>
        </p:grpSpPr>
        <p:sp>
          <p:nvSpPr>
            <p:cNvPr id="1" name="Rectangle 9"/>
            <p:cNvSpPr/>
            <p:nvPr/>
          </p:nvSpPr>
          <p:spPr>
            <a:xfrm>
              <a:off x="1440" y="0"/>
              <a:ext cx="9144000" cy="6858000"/>
            </a:xfrm>
            <a:prstGeom prst="rect">
              <a:avLst/>
            </a:prstGeom>
            <a:gradFill rotWithShape="0">
              <a:gsLst>
                <a:gs pos="0">
                  <a:srgbClr val="4d671b"/>
                </a:gs>
                <a:gs pos="50000">
                  <a:srgbClr val="d6eaaf"/>
                </a:gs>
                <a:gs pos="100000">
                  <a:srgbClr val="4d671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60840" bIns="60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" name="Rectangle 7"/>
            <p:cNvSpPr/>
            <p:nvPr/>
          </p:nvSpPr>
          <p:spPr>
            <a:xfrm>
              <a:off x="228600" y="0"/>
              <a:ext cx="8686800" cy="6858000"/>
            </a:xfrm>
            <a:prstGeom prst="rect">
              <a:avLst/>
            </a:prstGeom>
            <a:solidFill>
              <a:srgbClr val="ebf5d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60840" bIns="60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dt" idx="1"/>
          </p:nvPr>
        </p:nvSpPr>
        <p:spPr>
          <a:xfrm>
            <a:off x="837720" y="6400440"/>
            <a:ext cx="205740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3302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3302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ftr" idx="2"/>
          </p:nvPr>
        </p:nvSpPr>
        <p:spPr>
          <a:xfrm>
            <a:off x="2931840" y="6400440"/>
            <a:ext cx="466236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7628040" y="6400440"/>
            <a:ext cx="83016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RS" sz="1200" spc="-1" strike="noStrike">
                <a:solidFill>
                  <a:srgbClr val="23302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BAB36-48E4-4DDB-8BBC-6860336B2442}" type="slidenum">
              <a:rPr b="0" lang="sr-RS" sz="1200" spc="-1" strike="noStrike">
                <a:solidFill>
                  <a:srgbClr val="23302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837720" y="1701720"/>
            <a:ext cx="762012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730080" indent="-30312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2" marL="1157400" indent="-30348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3" marL="1584360" indent="-30312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4" marL="2009880" indent="-30348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5" marL="2009880" indent="-303480">
              <a:lnSpc>
                <a:spcPct val="95000"/>
              </a:lnSpc>
              <a:spcBef>
                <a:spcPts val="1862"/>
              </a:spcBef>
              <a:buClr>
                <a:srgbClr val="000000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6" marL="2009880" indent="-303480">
              <a:lnSpc>
                <a:spcPct val="95000"/>
              </a:lnSpc>
              <a:spcBef>
                <a:spcPts val="1862"/>
              </a:spcBef>
              <a:buClr>
                <a:srgbClr val="000000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400" spc="-1" strike="noStrike">
                <a:solidFill>
                  <a:srgbClr val="31521b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6"/>
          <p:cNvGrpSpPr/>
          <p:nvPr/>
        </p:nvGrpSpPr>
        <p:grpSpPr>
          <a:xfrm>
            <a:off x="1440" y="0"/>
            <a:ext cx="9144000" cy="6858000"/>
            <a:chOff x="1440" y="0"/>
            <a:chExt cx="9144000" cy="6858000"/>
          </a:xfrm>
        </p:grpSpPr>
        <p:sp>
          <p:nvSpPr>
            <p:cNvPr id="45" name="Rectangle 9"/>
            <p:cNvSpPr/>
            <p:nvPr/>
          </p:nvSpPr>
          <p:spPr>
            <a:xfrm>
              <a:off x="1440" y="0"/>
              <a:ext cx="9144000" cy="6858000"/>
            </a:xfrm>
            <a:prstGeom prst="rect">
              <a:avLst/>
            </a:prstGeom>
            <a:gradFill rotWithShape="0">
              <a:gsLst>
                <a:gs pos="0">
                  <a:srgbClr val="4d671b"/>
                </a:gs>
                <a:gs pos="50000">
                  <a:srgbClr val="d6eaaf"/>
                </a:gs>
                <a:gs pos="100000">
                  <a:srgbClr val="4d671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60840" bIns="60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6" name="Rectangle 7"/>
            <p:cNvSpPr/>
            <p:nvPr/>
          </p:nvSpPr>
          <p:spPr>
            <a:xfrm>
              <a:off x="228600" y="0"/>
              <a:ext cx="8686800" cy="6858000"/>
            </a:xfrm>
            <a:prstGeom prst="rect">
              <a:avLst/>
            </a:prstGeom>
            <a:solidFill>
              <a:srgbClr val="ebf5d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60840" bIns="60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47" name="Group 13"/>
          <p:cNvGrpSpPr/>
          <p:nvPr/>
        </p:nvGrpSpPr>
        <p:grpSpPr>
          <a:xfrm>
            <a:off x="0" y="0"/>
            <a:ext cx="9145440" cy="6858000"/>
            <a:chOff x="0" y="0"/>
            <a:chExt cx="9145440" cy="6858000"/>
          </a:xfrm>
        </p:grpSpPr>
        <p:sp>
          <p:nvSpPr>
            <p:cNvPr id="48" name="Rectangle 11"/>
            <p:cNvSpPr/>
            <p:nvPr/>
          </p:nvSpPr>
          <p:spPr>
            <a:xfrm>
              <a:off x="1080" y="0"/>
              <a:ext cx="9144360" cy="6858000"/>
            </a:xfrm>
            <a:prstGeom prst="rect">
              <a:avLst/>
            </a:prstGeom>
            <a:gradFill rotWithShape="0">
              <a:gsLst>
                <a:gs pos="0">
                  <a:srgbClr val="4d671b"/>
                </a:gs>
                <a:gs pos="50000">
                  <a:srgbClr val="d6eaaf"/>
                </a:gs>
                <a:gs pos="100000">
                  <a:srgbClr val="4d671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60840" bIns="60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grpSp>
          <p:nvGrpSpPr>
            <p:cNvPr id="49" name="Group 11"/>
            <p:cNvGrpSpPr/>
            <p:nvPr/>
          </p:nvGrpSpPr>
          <p:grpSpPr>
            <a:xfrm>
              <a:off x="0" y="0"/>
              <a:ext cx="3545640" cy="6858000"/>
              <a:chOff x="0" y="0"/>
              <a:chExt cx="3545640" cy="6858000"/>
            </a:xfrm>
          </p:grpSpPr>
          <p:pic>
            <p:nvPicPr>
              <p:cNvPr id="50" name="Picture 13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0"/>
                <a:ext cx="344484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" name="Rectangle 14"/>
              <p:cNvSpPr/>
              <p:nvPr/>
            </p:nvSpPr>
            <p:spPr>
              <a:xfrm>
                <a:off x="3443040" y="0"/>
                <a:ext cx="102600" cy="6858000"/>
              </a:xfrm>
              <a:prstGeom prst="rect">
                <a:avLst/>
              </a:prstGeom>
              <a:solidFill>
                <a:srgbClr val="455f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</p:grp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837720" y="1701720"/>
            <a:ext cx="762012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730080" indent="-30312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2" marL="1157400" indent="-30348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3" marL="1584360" indent="-30312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4" marL="2009880" indent="-30348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5" marL="2009880" indent="-303480">
              <a:lnSpc>
                <a:spcPct val="95000"/>
              </a:lnSpc>
              <a:spcBef>
                <a:spcPts val="1862"/>
              </a:spcBef>
              <a:buClr>
                <a:srgbClr val="000000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6" marL="2009880" indent="-303480">
              <a:lnSpc>
                <a:spcPct val="95000"/>
              </a:lnSpc>
              <a:spcBef>
                <a:spcPts val="1862"/>
              </a:spcBef>
              <a:buClr>
                <a:srgbClr val="000000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400" spc="-1" strike="noStrike">
                <a:solidFill>
                  <a:srgbClr val="31521b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837720" y="6400440"/>
            <a:ext cx="205740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3302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3302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2931840" y="6400440"/>
            <a:ext cx="466236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7628040" y="6400440"/>
            <a:ext cx="83016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RS" sz="1200" spc="-1" strike="noStrike">
                <a:solidFill>
                  <a:srgbClr val="23302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FD07A-2EF5-4B12-A365-391592180E49}" type="slidenum">
              <a:rPr b="0" lang="sr-RS" sz="1200" spc="-1" strike="noStrike">
                <a:solidFill>
                  <a:srgbClr val="23302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11"/>
          <p:cNvGrpSpPr/>
          <p:nvPr/>
        </p:nvGrpSpPr>
        <p:grpSpPr>
          <a:xfrm>
            <a:off x="1440" y="0"/>
            <a:ext cx="9144000" cy="6858000"/>
            <a:chOff x="1440" y="0"/>
            <a:chExt cx="9144000" cy="6858000"/>
          </a:xfrm>
        </p:grpSpPr>
        <p:sp>
          <p:nvSpPr>
            <p:cNvPr id="94" name="Rectangle 11"/>
            <p:cNvSpPr/>
            <p:nvPr/>
          </p:nvSpPr>
          <p:spPr>
            <a:xfrm>
              <a:off x="1440" y="0"/>
              <a:ext cx="9144000" cy="6858000"/>
            </a:xfrm>
            <a:prstGeom prst="rect">
              <a:avLst/>
            </a:prstGeom>
            <a:gradFill rotWithShape="0">
              <a:gsLst>
                <a:gs pos="0">
                  <a:srgbClr val="4d671b"/>
                </a:gs>
                <a:gs pos="50000">
                  <a:srgbClr val="d6eaaf"/>
                </a:gs>
                <a:gs pos="100000">
                  <a:srgbClr val="4d671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60840" bIns="60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pic>
          <p:nvPicPr>
            <p:cNvPr id="95" name="Picture 12" descr=""/>
            <p:cNvPicPr/>
            <p:nvPr/>
          </p:nvPicPr>
          <p:blipFill>
            <a:blip r:embed="rId3"/>
            <a:stretch/>
          </p:blipFill>
          <p:spPr>
            <a:xfrm>
              <a:off x="5700960" y="0"/>
              <a:ext cx="344448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Rectangle 13"/>
            <p:cNvSpPr/>
            <p:nvPr/>
          </p:nvSpPr>
          <p:spPr>
            <a:xfrm>
              <a:off x="5612760" y="0"/>
              <a:ext cx="102600" cy="6858000"/>
            </a:xfrm>
            <a:prstGeom prst="rect">
              <a:avLst/>
            </a:pr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pic>
        <p:nvPicPr>
          <p:cNvPr id="97" name="Picture 14" descr=""/>
          <p:cNvPicPr/>
          <p:nvPr/>
        </p:nvPicPr>
        <p:blipFill>
          <a:blip r:embed="rId4"/>
          <a:stretch/>
        </p:blipFill>
        <p:spPr>
          <a:xfrm>
            <a:off x="5700600" y="0"/>
            <a:ext cx="344484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body"/>
          </p:nvPr>
        </p:nvSpPr>
        <p:spPr>
          <a:xfrm>
            <a:off x="837720" y="1701720"/>
            <a:ext cx="762012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730080" indent="-30312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2" marL="1157400" indent="-30348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3" marL="1584360" indent="-30312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4" marL="2009880" indent="-30348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5" marL="2009880" indent="-303480">
              <a:lnSpc>
                <a:spcPct val="95000"/>
              </a:lnSpc>
              <a:spcBef>
                <a:spcPts val="1862"/>
              </a:spcBef>
              <a:buClr>
                <a:srgbClr val="000000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6" marL="2009880" indent="-303480">
              <a:lnSpc>
                <a:spcPct val="95000"/>
              </a:lnSpc>
              <a:spcBef>
                <a:spcPts val="1862"/>
              </a:spcBef>
              <a:buClr>
                <a:srgbClr val="000000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400" spc="-1" strike="noStrike">
                <a:solidFill>
                  <a:srgbClr val="31521b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837720" y="6400440"/>
            <a:ext cx="205740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3302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3302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2931840" y="6400440"/>
            <a:ext cx="466236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7628040" y="6400440"/>
            <a:ext cx="83016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RS" sz="1200" spc="-1" strike="noStrike">
                <a:solidFill>
                  <a:srgbClr val="23302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9A9B7-AFEC-4F4D-A1A8-0FC6590BBFB5}" type="slidenum">
              <a:rPr b="0" lang="sr-RS" sz="1200" spc="-1" strike="noStrike">
                <a:solidFill>
                  <a:srgbClr val="23302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Group 6"/>
          <p:cNvGrpSpPr/>
          <p:nvPr/>
        </p:nvGrpSpPr>
        <p:grpSpPr>
          <a:xfrm>
            <a:off x="1440" y="0"/>
            <a:ext cx="9144000" cy="6858000"/>
            <a:chOff x="1440" y="0"/>
            <a:chExt cx="9144000" cy="6858000"/>
          </a:xfrm>
        </p:grpSpPr>
        <p:sp>
          <p:nvSpPr>
            <p:cNvPr id="140" name="Rectangle 9"/>
            <p:cNvSpPr/>
            <p:nvPr/>
          </p:nvSpPr>
          <p:spPr>
            <a:xfrm>
              <a:off x="1440" y="0"/>
              <a:ext cx="9144000" cy="6858000"/>
            </a:xfrm>
            <a:prstGeom prst="rect">
              <a:avLst/>
            </a:prstGeom>
            <a:gradFill rotWithShape="0">
              <a:gsLst>
                <a:gs pos="0">
                  <a:srgbClr val="4d671b"/>
                </a:gs>
                <a:gs pos="50000">
                  <a:srgbClr val="d6eaaf"/>
                </a:gs>
                <a:gs pos="100000">
                  <a:srgbClr val="4d671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60840" bIns="60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1" name="Rectangle 7"/>
            <p:cNvSpPr/>
            <p:nvPr/>
          </p:nvSpPr>
          <p:spPr>
            <a:xfrm>
              <a:off x="228600" y="0"/>
              <a:ext cx="8686800" cy="6858000"/>
            </a:xfrm>
            <a:prstGeom prst="rect">
              <a:avLst/>
            </a:prstGeom>
            <a:solidFill>
              <a:srgbClr val="ebf5d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60840" bIns="60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42" name="Rectangle 10"/>
          <p:cNvSpPr/>
          <p:nvPr/>
        </p:nvSpPr>
        <p:spPr>
          <a:xfrm>
            <a:off x="2971800" y="0"/>
            <a:ext cx="5943600" cy="6858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55294"/>
                </a:srgbClr>
              </a:gs>
            </a:gsLst>
            <a:lin ang="7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body"/>
          </p:nvPr>
        </p:nvSpPr>
        <p:spPr>
          <a:xfrm>
            <a:off x="837720" y="1701720"/>
            <a:ext cx="762012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730080" indent="-30312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2" marL="1157400" indent="-30348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3" marL="1584360" indent="-30312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4" marL="2009880" indent="-30348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5" marL="2009880" indent="-303480">
              <a:lnSpc>
                <a:spcPct val="95000"/>
              </a:lnSpc>
              <a:spcBef>
                <a:spcPts val="1862"/>
              </a:spcBef>
              <a:buClr>
                <a:srgbClr val="000000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6" marL="2009880" indent="-303480">
              <a:lnSpc>
                <a:spcPct val="95000"/>
              </a:lnSpc>
              <a:spcBef>
                <a:spcPts val="1862"/>
              </a:spcBef>
              <a:buClr>
                <a:srgbClr val="000000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400" spc="-1" strike="noStrike">
                <a:solidFill>
                  <a:srgbClr val="31521b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dt" idx="10"/>
          </p:nvPr>
        </p:nvSpPr>
        <p:spPr>
          <a:xfrm>
            <a:off x="837720" y="6400440"/>
            <a:ext cx="205740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3302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3302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ftr" idx="11"/>
          </p:nvPr>
        </p:nvSpPr>
        <p:spPr>
          <a:xfrm>
            <a:off x="2931840" y="6400440"/>
            <a:ext cx="466236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sldNum" idx="12"/>
          </p:nvPr>
        </p:nvSpPr>
        <p:spPr>
          <a:xfrm>
            <a:off x="7628040" y="6400440"/>
            <a:ext cx="83016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RS" sz="1200" spc="-1" strike="noStrike">
                <a:solidFill>
                  <a:srgbClr val="23302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08F80-BB37-4F3E-A194-BEA6A293CAB5}" type="slidenum">
              <a:rPr b="0" lang="sr-RS" sz="1200" spc="-1" strike="noStrike">
                <a:solidFill>
                  <a:srgbClr val="23302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4" name="Group 6"/>
          <p:cNvGrpSpPr/>
          <p:nvPr/>
        </p:nvGrpSpPr>
        <p:grpSpPr>
          <a:xfrm>
            <a:off x="1440" y="0"/>
            <a:ext cx="9144000" cy="6858000"/>
            <a:chOff x="1440" y="0"/>
            <a:chExt cx="9144000" cy="6858000"/>
          </a:xfrm>
        </p:grpSpPr>
        <p:sp>
          <p:nvSpPr>
            <p:cNvPr id="185" name="Rectangle 9"/>
            <p:cNvSpPr/>
            <p:nvPr/>
          </p:nvSpPr>
          <p:spPr>
            <a:xfrm>
              <a:off x="1440" y="0"/>
              <a:ext cx="9144000" cy="6858000"/>
            </a:xfrm>
            <a:prstGeom prst="rect">
              <a:avLst/>
            </a:prstGeom>
            <a:gradFill rotWithShape="0">
              <a:gsLst>
                <a:gs pos="0">
                  <a:srgbClr val="4d671b"/>
                </a:gs>
                <a:gs pos="50000">
                  <a:srgbClr val="d6eaaf"/>
                </a:gs>
                <a:gs pos="100000">
                  <a:srgbClr val="4d671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60840" bIns="60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6" name="Rectangle 7"/>
            <p:cNvSpPr/>
            <p:nvPr/>
          </p:nvSpPr>
          <p:spPr>
            <a:xfrm>
              <a:off x="228600" y="0"/>
              <a:ext cx="8686800" cy="6858000"/>
            </a:xfrm>
            <a:prstGeom prst="rect">
              <a:avLst/>
            </a:prstGeom>
            <a:solidFill>
              <a:srgbClr val="ebf5d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60840" bIns="60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87" name="Rectangle 10"/>
          <p:cNvSpPr/>
          <p:nvPr/>
        </p:nvSpPr>
        <p:spPr>
          <a:xfrm>
            <a:off x="1562040" y="0"/>
            <a:ext cx="6019920" cy="6858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55294"/>
                </a:srgbClr>
              </a:gs>
            </a:gsLst>
            <a:lin ang="7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837720" y="1701720"/>
            <a:ext cx="762012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730080" indent="-30312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2" marL="1157400" indent="-30348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3" marL="1584360" indent="-30312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4" marL="2009880" indent="-30348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5" marL="2009880" indent="-303480">
              <a:lnSpc>
                <a:spcPct val="95000"/>
              </a:lnSpc>
              <a:spcBef>
                <a:spcPts val="1862"/>
              </a:spcBef>
              <a:buClr>
                <a:srgbClr val="000000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6" marL="2009880" indent="-303480">
              <a:lnSpc>
                <a:spcPct val="95000"/>
              </a:lnSpc>
              <a:spcBef>
                <a:spcPts val="1862"/>
              </a:spcBef>
              <a:buClr>
                <a:srgbClr val="000000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400" spc="-1" strike="noStrike">
                <a:solidFill>
                  <a:srgbClr val="31521b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3"/>
          </p:nvPr>
        </p:nvSpPr>
        <p:spPr>
          <a:xfrm>
            <a:off x="837720" y="6400440"/>
            <a:ext cx="205740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3302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3302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4"/>
          </p:nvPr>
        </p:nvSpPr>
        <p:spPr>
          <a:xfrm>
            <a:off x="2931840" y="6400440"/>
            <a:ext cx="466236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5"/>
          </p:nvPr>
        </p:nvSpPr>
        <p:spPr>
          <a:xfrm>
            <a:off x="7628040" y="6400440"/>
            <a:ext cx="83016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RS" sz="1200" spc="-1" strike="noStrike">
                <a:solidFill>
                  <a:srgbClr val="23302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5A3A4-AB9B-44AF-A2FD-748CBCD324D1}" type="slidenum">
              <a:rPr b="0" lang="sr-RS" sz="1200" spc="-1" strike="noStrike">
                <a:solidFill>
                  <a:srgbClr val="23302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3660480" y="4927320"/>
            <a:ext cx="525780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sr-RS" sz="28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title"/>
          </p:nvPr>
        </p:nvSpPr>
        <p:spPr>
          <a:xfrm>
            <a:off x="3660480" y="1498320"/>
            <a:ext cx="5257800" cy="32986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sr-RS" sz="5400" spc="-1" strike="noStrike">
                <a:solidFill>
                  <a:srgbClr val="455f51"/>
                </a:solidFill>
                <a:latin typeface="Times New Roman"/>
                <a:ea typeface="Times New Roman"/>
              </a:rPr>
              <a:t>Гледај, учи, испричај</a:t>
            </a:r>
            <a:endParaRPr b="0" lang="en-US" sz="5400" spc="-1" strike="noStrike">
              <a:solidFill>
                <a:srgbClr val="31521b"/>
              </a:solidFill>
              <a:latin typeface="Century Gothic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2" descr="The girl with drawing — Stock Photo, Image"/>
          <p:cNvPicPr/>
          <p:nvPr/>
        </p:nvPicPr>
        <p:blipFill>
          <a:blip r:embed="rId1"/>
          <a:srcRect l="12731" t="2469" r="14546" b="3921"/>
          <a:stretch/>
        </p:blipFill>
        <p:spPr>
          <a:xfrm>
            <a:off x="5643720" y="3357720"/>
            <a:ext cx="2857320" cy="2714400"/>
          </a:xfrm>
          <a:prstGeom prst="rect">
            <a:avLst/>
          </a:prstGeom>
          <a:ln w="0">
            <a:noFill/>
          </a:ln>
        </p:spPr>
      </p:pic>
      <p:sp>
        <p:nvSpPr>
          <p:cNvPr id="232" name="Rounded Rectangular Callout 3"/>
          <p:cNvSpPr/>
          <p:nvPr/>
        </p:nvSpPr>
        <p:spPr>
          <a:xfrm>
            <a:off x="6215040" y="1785960"/>
            <a:ext cx="2214720" cy="1285920"/>
          </a:xfrm>
          <a:prstGeom prst="wedgeRoundRectCallout">
            <a:avLst>
              <a:gd name="adj1" fmla="val 763"/>
              <a:gd name="adj2" fmla="val 71249"/>
              <a:gd name="adj3" fmla="val 16667"/>
            </a:avLst>
          </a:prstGeom>
          <a:solidFill>
            <a:srgbClr val="99cb38"/>
          </a:solidFill>
          <a:ln w="12600">
            <a:solidFill>
              <a:srgbClr val="6f95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гледајте</a:t>
            </a:r>
            <a:r>
              <a:rPr b="0" lang="sr-R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мој цртеж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233" name="Picture 4" descr="Kids in beginner school — Stock Photo, Image"/>
          <p:cNvPicPr/>
          <p:nvPr/>
        </p:nvPicPr>
        <p:blipFill>
          <a:blip r:embed="rId2"/>
          <a:stretch/>
        </p:blipFill>
        <p:spPr>
          <a:xfrm>
            <a:off x="500040" y="2143080"/>
            <a:ext cx="4710240" cy="3532320"/>
          </a:xfrm>
          <a:prstGeom prst="rect">
            <a:avLst/>
          </a:prstGeom>
          <a:ln w="0">
            <a:noFill/>
          </a:ln>
        </p:spPr>
      </p:pic>
      <p:sp>
        <p:nvSpPr>
          <p:cNvPr id="234" name="Rounded Rectangular Callout 5"/>
          <p:cNvSpPr/>
          <p:nvPr/>
        </p:nvSpPr>
        <p:spPr>
          <a:xfrm>
            <a:off x="1285920" y="500040"/>
            <a:ext cx="2214360" cy="1285920"/>
          </a:xfrm>
          <a:prstGeom prst="wedgeRoundRectCallout">
            <a:avLst>
              <a:gd name="adj1" fmla="val 54125"/>
              <a:gd name="adj2" fmla="val 73439"/>
              <a:gd name="adj3" fmla="val 16667"/>
            </a:avLst>
          </a:prstGeom>
          <a:solidFill>
            <a:srgbClr val="99cb38"/>
          </a:solidFill>
          <a:ln w="12600">
            <a:solidFill>
              <a:srgbClr val="6f95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змите</a:t>
            </a:r>
            <a:r>
              <a:rPr b="0" lang="sr-R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папир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5" name="Rounded Rectangular Callout 6"/>
          <p:cNvSpPr/>
          <p:nvPr/>
        </p:nvSpPr>
        <p:spPr>
          <a:xfrm>
            <a:off x="4214880" y="357120"/>
            <a:ext cx="2214360" cy="1285920"/>
          </a:xfrm>
          <a:prstGeom prst="wedgeRoundRectCallout">
            <a:avLst>
              <a:gd name="adj1" fmla="val -36712"/>
              <a:gd name="adj2" fmla="val 136893"/>
              <a:gd name="adj3" fmla="val 16667"/>
            </a:avLst>
          </a:prstGeom>
          <a:solidFill>
            <a:srgbClr val="99cb38"/>
          </a:solidFill>
          <a:ln w="12600">
            <a:solidFill>
              <a:srgbClr val="6f95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ај</a:t>
            </a:r>
            <a:r>
              <a:rPr b="0" lang="sr-R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ми маказе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6" name=""/>
          <p:cNvGraphicFramePr/>
          <p:nvPr/>
        </p:nvGraphicFramePr>
        <p:xfrm>
          <a:off x="928800" y="2000160"/>
          <a:ext cx="7000920" cy="2460600"/>
        </p:xfrm>
        <a:graphic>
          <a:graphicData uri="http://schemas.openxmlformats.org/drawingml/2006/table">
            <a:tbl>
              <a:tblPr/>
              <a:tblGrid>
                <a:gridCol w="2333520"/>
                <a:gridCol w="2333520"/>
                <a:gridCol w="2333880"/>
              </a:tblGrid>
              <a:tr h="82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b3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1" lang="sr-R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И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b3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1" lang="sr-R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И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b38"/>
                    </a:solidFill>
                  </a:tcPr>
                </a:tc>
              </a:tr>
              <a:tr h="81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sr-R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сити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sr-R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с</a:t>
                      </a:r>
                      <a:r>
                        <a:rPr b="1" lang="sr-RS" sz="3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sr-R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с</a:t>
                      </a:r>
                      <a:r>
                        <a:rPr b="1" lang="sr-RS" sz="3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ите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ce"/>
                    </a:solidFill>
                  </a:tcPr>
                </a:tc>
              </a:tr>
              <a:tr h="82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sr-R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ртати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sr-R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рта</a:t>
                      </a:r>
                      <a:r>
                        <a:rPr b="1" lang="sr-RS" sz="3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ј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sr-R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рта</a:t>
                      </a:r>
                      <a:r>
                        <a:rPr b="1" lang="sr-RS" sz="3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јте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e8"/>
                    </a:solidFill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85840" y="76320"/>
            <a:ext cx="8501040" cy="923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sr-RS" sz="3600" spc="-1" strike="noStrike">
                <a:solidFill>
                  <a:srgbClr val="31521b"/>
                </a:solidFill>
                <a:latin typeface="Times New Roman"/>
                <a:ea typeface="Times New Roman"/>
              </a:rPr>
              <a:t>Пази на глаголе који се завршавају на -ћи.</a:t>
            </a:r>
            <a:endParaRPr b="0" lang="en-US" sz="3600" spc="-1" strike="noStrike">
              <a:solidFill>
                <a:srgbClr val="31521b"/>
              </a:solidFill>
              <a:latin typeface="Century Gothic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857160" y="1428840"/>
          <a:ext cx="7000920" cy="4921200"/>
        </p:xfrm>
        <a:graphic>
          <a:graphicData uri="http://schemas.openxmlformats.org/drawingml/2006/table">
            <a:tbl>
              <a:tblPr/>
              <a:tblGrid>
                <a:gridCol w="2333880"/>
                <a:gridCol w="2333520"/>
                <a:gridCol w="2333520"/>
              </a:tblGrid>
              <a:tr h="82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b3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1" lang="sr-R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И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b3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1" lang="sr-R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И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b38"/>
                    </a:solidFill>
                  </a:tcPr>
                </a:tc>
              </a:tr>
              <a:tr h="81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ћи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sr-R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r>
                        <a:rPr b="1" lang="sr-R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</a:t>
                      </a:r>
                      <a:r>
                        <a:rPr b="1" lang="sr-RS" sz="3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sr-R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r>
                        <a:rPr b="1" lang="sr-R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</a:t>
                      </a:r>
                      <a:r>
                        <a:rPr b="1" lang="sr-RS" sz="3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ите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ce"/>
                    </a:solidFill>
                  </a:tcPr>
                </a:tc>
              </a:tr>
              <a:tr h="82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sr-R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ћи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sr-R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</a:t>
                      </a:r>
                      <a:r>
                        <a:rPr b="1" lang="sr-R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</a:t>
                      </a:r>
                      <a:r>
                        <a:rPr b="1" lang="sr-RS" sz="3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sr-R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</a:t>
                      </a:r>
                      <a:r>
                        <a:rPr b="1" lang="sr-R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</a:t>
                      </a:r>
                      <a:r>
                        <a:rPr b="1" lang="sr-RS" sz="3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ите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e8"/>
                    </a:solidFill>
                  </a:tcPr>
                </a:tc>
              </a:tr>
              <a:tr h="82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sr-R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ћи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sr-R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</a:t>
                      </a:r>
                      <a:r>
                        <a:rPr b="1" lang="sr-R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ђ</a:t>
                      </a:r>
                      <a:r>
                        <a:rPr b="1" lang="sr-RS" sz="3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sr-R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</a:t>
                      </a:r>
                      <a:r>
                        <a:rPr b="1" lang="sr-R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ђ</a:t>
                      </a:r>
                      <a:r>
                        <a:rPr b="1" lang="sr-RS" sz="3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ите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ce"/>
                    </a:solidFill>
                  </a:tcPr>
                </a:tc>
              </a:tr>
              <a:tr h="81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sr-R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моћи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sr-R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мо</a:t>
                      </a:r>
                      <a:r>
                        <a:rPr b="1" lang="sr-R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</a:t>
                      </a:r>
                      <a:r>
                        <a:rPr b="1" lang="sr-RS" sz="3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sr-R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мо</a:t>
                      </a:r>
                      <a:r>
                        <a:rPr b="1" lang="sr-R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</a:t>
                      </a:r>
                      <a:r>
                        <a:rPr b="1" lang="sr-RS" sz="3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ите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e8"/>
                    </a:solidFill>
                  </a:tcPr>
                </a:tc>
              </a:tr>
              <a:tr h="82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sr-R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ећи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sr-R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е</a:t>
                      </a:r>
                      <a:r>
                        <a:rPr b="1" lang="sr-R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</a:t>
                      </a:r>
                      <a:r>
                        <a:rPr b="1" lang="sr-RS" sz="3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sr-R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е</a:t>
                      </a:r>
                      <a:r>
                        <a:rPr b="1" lang="sr-R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</a:t>
                      </a:r>
                      <a:r>
                        <a:rPr b="1" lang="sr-RS" sz="3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ите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ce"/>
                    </a:solidFill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85480" y="76320"/>
            <a:ext cx="8643960" cy="923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sr-RS" sz="3600" spc="-1" strike="noStrike">
                <a:solidFill>
                  <a:srgbClr val="31521b"/>
                </a:solidFill>
                <a:latin typeface="Times New Roman"/>
                <a:ea typeface="Times New Roman"/>
              </a:rPr>
              <a:t>Пази на глаголе који се завршавају на -сти.</a:t>
            </a:r>
            <a:endParaRPr b="0" lang="en-US" sz="3600" spc="-1" strike="noStrike">
              <a:solidFill>
                <a:srgbClr val="31521b"/>
              </a:solidFill>
              <a:latin typeface="Century Gothic"/>
            </a:endParaRPr>
          </a:p>
        </p:txBody>
      </p:sp>
      <p:graphicFrame>
        <p:nvGraphicFramePr>
          <p:cNvPr id="240" name=""/>
          <p:cNvGraphicFramePr/>
          <p:nvPr/>
        </p:nvGraphicFramePr>
        <p:xfrm>
          <a:off x="1071720" y="2214720"/>
          <a:ext cx="7000560" cy="2460600"/>
        </p:xfrm>
        <a:graphic>
          <a:graphicData uri="http://schemas.openxmlformats.org/drawingml/2006/table">
            <a:tbl>
              <a:tblPr/>
              <a:tblGrid>
                <a:gridCol w="2333520"/>
                <a:gridCol w="2333520"/>
                <a:gridCol w="2333520"/>
              </a:tblGrid>
              <a:tr h="82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b3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1" lang="sr-R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И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b3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1" lang="sr-R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И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b38"/>
                    </a:solidFill>
                  </a:tcPr>
                </a:tc>
              </a:tr>
              <a:tr h="81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јести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sr-R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је</a:t>
                      </a:r>
                      <a:r>
                        <a:rPr b="1" lang="sr-R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</a:t>
                      </a:r>
                      <a:r>
                        <a:rPr b="1" lang="sr-RS" sz="3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sr-R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је</a:t>
                      </a:r>
                      <a:r>
                        <a:rPr b="1" lang="sr-R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</a:t>
                      </a:r>
                      <a:r>
                        <a:rPr b="1" lang="sr-RS" sz="3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ите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ce"/>
                    </a:solidFill>
                  </a:tcPr>
                </a:tc>
              </a:tr>
              <a:tr h="82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sr-R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сти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sr-R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</a:t>
                      </a:r>
                      <a:r>
                        <a:rPr b="1" lang="sr-R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</a:t>
                      </a:r>
                      <a:r>
                        <a:rPr b="1" lang="sr-RS" sz="3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sr-R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</a:t>
                      </a:r>
                      <a:r>
                        <a:rPr b="1" lang="sr-R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</a:t>
                      </a:r>
                      <a:r>
                        <a:rPr b="1" lang="sr-RS" sz="3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ите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e8"/>
                    </a:solidFill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713880" y="356760"/>
            <a:ext cx="7620120" cy="13971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sr-RS" sz="4400" spc="-1" strike="noStrike">
                <a:solidFill>
                  <a:srgbClr val="31521b"/>
                </a:solidFill>
                <a:latin typeface="Times New Roman"/>
                <a:ea typeface="Times New Roman"/>
              </a:rPr>
              <a:t>Обрати пажњу. Када пишемо запету?</a:t>
            </a: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242" name="Rectangle 1"/>
          <p:cNvSpPr/>
          <p:nvPr/>
        </p:nvSpPr>
        <p:spPr>
          <a:xfrm>
            <a:off x="571680" y="2078640"/>
            <a:ext cx="8143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Милане</a:t>
            </a:r>
            <a:r>
              <a:rPr b="1" lang="sr-RS" sz="3600" spc="-1" strike="noStrike">
                <a:solidFill>
                  <a:srgbClr val="ff0000"/>
                </a:solidFill>
                <a:latin typeface="Times New Roman"/>
                <a:ea typeface="Calibri"/>
              </a:rPr>
              <a:t>,</a:t>
            </a:r>
            <a:r>
              <a:rPr b="0" lang="sr-RS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 обриши таблу.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Пазите</a:t>
            </a:r>
            <a:r>
              <a:rPr b="1" lang="sr-RS" sz="3600" spc="-1" strike="noStrike">
                <a:solidFill>
                  <a:srgbClr val="ff0000"/>
                </a:solidFill>
                <a:latin typeface="Times New Roman"/>
                <a:ea typeface="Calibri"/>
              </a:rPr>
              <a:t>,</a:t>
            </a:r>
            <a:r>
              <a:rPr b="0" lang="sr-RS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 децо</a:t>
            </a:r>
            <a:r>
              <a:rPr b="1" lang="sr-RS" sz="3600" spc="-1" strike="noStrike">
                <a:solidFill>
                  <a:srgbClr val="ff0000"/>
                </a:solidFill>
                <a:latin typeface="Times New Roman"/>
                <a:ea typeface="Calibri"/>
              </a:rPr>
              <a:t>,</a:t>
            </a:r>
            <a:r>
              <a:rPr b="0" lang="sr-RS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 данас учимо нову лекцију.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Не причај</a:t>
            </a:r>
            <a:r>
              <a:rPr b="1" lang="sr-RS" sz="3600" spc="-1" strike="noStrike">
                <a:solidFill>
                  <a:srgbClr val="ff0000"/>
                </a:solidFill>
                <a:latin typeface="Times New Roman"/>
                <a:ea typeface="Calibri"/>
              </a:rPr>
              <a:t>,</a:t>
            </a:r>
            <a:r>
              <a:rPr b="0" lang="sr-RS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 Мајо.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09T11:29:17Z</dcterms:created>
  <dc:creator>Natasa</dc:creator>
  <dc:description/>
  <dc:language>en-US</dc:language>
  <cp:lastModifiedBy>Natasa</cp:lastModifiedBy>
  <dcterms:modified xsi:type="dcterms:W3CDTF">2021-11-09T12:37:20Z</dcterms:modified>
  <cp:revision>7</cp:revision>
  <dc:subject/>
  <dc:title>Гледај, учи, испричај</dc:title>
</cp:coreProperties>
</file>