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8852-59BA-426F-A237-6CAB129397E9}" type="slidenum">
              <a:rPr b="0" lang="sr-R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A2DD-553E-457E-A80D-370CBB091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441C-A656-42AE-92A3-71D59FE9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2E0F-21C5-41A5-906D-6BD711D2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394D-95CE-4E6C-B41F-8A66AFFA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27C-1794-4977-9D06-C1D8C7EF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E9A4-9BE4-45E9-9A72-668C6A3E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F6D3-2AAC-41BA-8BA4-ED1AEFDF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34AB-8BED-4B67-A77F-1BFC8271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0B57-BBBA-4491-B87E-A30AD660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8B71-3567-4D2D-9EDA-FAFF0FE8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7CBC-5674-4D1E-B14A-86F848E7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A268-65C5-44E1-BC1E-90B5789B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46B8-E2AA-4AD4-97EE-F94A5C0E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21C3-C942-4E3F-90FB-BF430507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B06F-4A57-4FDE-AFD6-383E4379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EC5A-1CB4-4CB9-A812-1FE0C6D3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0A70-9E85-4193-8C89-47FC519C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6323-49F7-4C9E-A713-3B1C9EF2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059BE-65C4-4C45-811B-E660A8047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6FFB2-21D7-4A06-9412-4A452AE8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C2ED3-4385-412C-8C1E-3F6AF101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A4A64-C6FB-42BE-B2C6-D17149C0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ECDC1-CD74-4A91-B189-E5C1F20E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70E0-7C95-4F2A-8244-D0151916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E84EB-1A14-4657-A377-BC0FE404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85248-EF61-454C-ADD5-4E3DFB80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E762E-7425-4088-94C2-B7230DFB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A99C1-0707-48A6-A546-EC0720A3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969F1-B016-4236-8092-5361C045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F09DE-B14D-4306-94FA-6CA7B1328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D8A3C-892E-4865-A9A1-73657846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7AAD9-077D-400C-9AE5-5265DA94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E039C-06A5-493D-85E2-A2D715B0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97A37-72F3-4630-9CC5-2B235F17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D0EC-0C58-4BFE-90DC-2D53188F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8A7BF-333C-4A4F-83B8-2DBB5F40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32E24-E190-45A1-9540-116A8218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094EF-78DB-4F0D-8016-24A70914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46963-3A8A-4FD0-BBA2-815D6AF6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F294E-1B15-48CA-AFA7-071AE831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F35CA-A9F0-4BA8-B327-4943F6CA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0FA20-077A-4483-834A-01E48C9B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A194B-6C90-4136-A408-BDAC35D1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071DE-5870-43F7-AC3C-CC293A4E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8757E-40B0-42C7-AB22-8BCC4770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D2D0-3D78-4DBA-A580-7A79D91E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B402E-6668-4F74-BC14-07466B6A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5F1E5-28A9-4F11-B305-BC16A89B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EBA12-ED03-4099-AF33-855A1476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12FBE-6EA5-4370-A446-69E2875C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D8680-438E-42FD-B9DF-3A7AE4CE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079F6-08F2-4016-BACF-02237F25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A8EAE-FC5E-444C-BA0F-4B1AB7C5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A3273-9F71-4547-AB5E-F0520548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C0A18-0253-40CA-AE9F-69FD2F16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5B4D8-A52C-4D4B-AD75-C4190CF2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9447-8465-4819-82CA-23303BB1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46C0F-DF5A-4D9A-BA49-7C4B77D7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F0E09-CD16-4580-90FD-AE24D44E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8CB8F-8051-4067-AC72-2204CA4B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0A98E-E901-49F5-960E-852C5BE2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74BEC-DFEC-48AF-A2B1-659A2BCF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4AAE3-8F36-400E-8AF3-9855F2E2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48750-64A7-4BC2-81C9-AFBF2901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9E4BB-B679-463C-9A51-1D201875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D617E-15DC-4255-971E-BD952CF7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FF391-D8A2-46A1-9B60-D6BD154D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E89F-0E64-4C7A-8F68-5E5AA787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221F5-F82E-4114-975A-9CB79698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C6D24-2A3C-4CA3-A8CB-F2AD8754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2553F-38E8-4BF5-88A4-2DBA1885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62714-2D57-47AC-918C-151019F2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09F76-1C9C-450F-B017-E6C68BD6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CAACA-992A-4396-AF7B-8C248CFA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22DD3-C96B-4AF7-88D9-2EB02A64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26A5A-9E1D-4671-A889-7A3E875A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AD103-FB66-4FD7-8B07-55FCA3C2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90947-648B-4D17-B3B5-6CEC06BB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23E7-696A-4086-BA48-2CD67C35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B60EA-2024-4D71-86C7-69AABE2A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6B866-E3FF-4423-9038-A8ED7FC1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7AC18-FDB8-4EC0-BA75-EEB1C413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07E9F-B8B8-4B82-8AAA-21424030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3B618-9B53-4D1D-A144-35C5F37C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5C03-C038-41BF-93F4-1D7D815C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9ADB-1035-4B27-8B3D-F475C6D300BA}" type="slidenum">
              <a:rPr b="0" lang="sr-R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FCD5-5814-42FA-8EC1-A6C2BEBB7C3C}" type="slidenum">
              <a:rPr b="0" lang="sr-R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F253-F927-42D0-A68E-495C9E20365A}" type="slidenum">
              <a:rPr b="0" lang="sr-R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3F07-9B4B-48F1-A06A-7E9058765BD2}" type="slidenum">
              <a:rPr b="0" lang="sr-R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587E-9106-48D8-BCEE-ED1A6F84FE3C}" type="slidenum">
              <a:rPr b="0" lang="sr-R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10FA-1535-4C8A-8DE2-543932F97D65}" type="slidenum">
              <a:rPr b="0" lang="sr-R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4DD7-2CD8-43E8-AC38-48C24354C492}" type="slidenum">
              <a:rPr b="0" lang="sr-R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682560" y="4230720"/>
            <a:ext cx="8010720" cy="20970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ра Алечковић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кућни љубимц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8" name="Picture 2" descr="Group of pets: dog, cat, bird, rabbit — Stock Photo, Image"/>
          <p:cNvPicPr/>
          <p:nvPr/>
        </p:nvPicPr>
        <p:blipFill>
          <a:blip r:embed="rId1"/>
          <a:stretch/>
        </p:blipFill>
        <p:spPr>
          <a:xfrm>
            <a:off x="890640" y="1720800"/>
            <a:ext cx="761040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85840"/>
            <a:ext cx="7772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лињати се, лињам се (пас, мачка...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0" name="Picture 2" descr="FURRY JACK RUSSELL DOG, SHEDDING HAIR DURING MOLT SEASON RELAXIN — Stock Photo, Image"/>
          <p:cNvPicPr/>
          <p:nvPr/>
        </p:nvPicPr>
        <p:blipFill>
          <a:blip r:embed="rId1"/>
          <a:srcRect l="915" t="5732" r="992" b="8801"/>
          <a:stretch/>
        </p:blipFill>
        <p:spPr>
          <a:xfrm>
            <a:off x="928800" y="1714680"/>
            <a:ext cx="7643880" cy="4857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Pet Brush Black Dog Hair White Background Special Comb Combing — Stock Photo, Image"/>
          <p:cNvPicPr/>
          <p:nvPr/>
        </p:nvPicPr>
        <p:blipFill>
          <a:blip r:embed="rId2"/>
          <a:srcRect l="1639" t="6161" r="2459" b="11306"/>
          <a:stretch/>
        </p:blipFill>
        <p:spPr>
          <a:xfrm>
            <a:off x="571680" y="1500120"/>
            <a:ext cx="83581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Нове речи и израз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сти, тресем (тепих, крпару; главом...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ужити се, растужим се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ао ми је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ло ми је жао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oogle Shape;1077;p52"/>
          <p:cNvGrpSpPr/>
          <p:nvPr/>
        </p:nvGrpSpPr>
        <p:grpSpPr>
          <a:xfrm>
            <a:off x="428760" y="1521000"/>
            <a:ext cx="8501040" cy="2681280"/>
            <a:chOff x="428760" y="1521000"/>
            <a:chExt cx="8501040" cy="2681280"/>
          </a:xfrm>
        </p:grpSpPr>
        <p:sp>
          <p:nvSpPr>
            <p:cNvPr id="385" name="Google Shape;1078;p52"/>
            <p:cNvSpPr/>
            <p:nvPr/>
          </p:nvSpPr>
          <p:spPr>
            <a:xfrm>
              <a:off x="434520" y="1536480"/>
              <a:ext cx="8495280" cy="2665440"/>
            </a:xfrm>
            <a:prstGeom prst="pie">
              <a:avLst/>
            </a:prstGeom>
            <a:noFill/>
            <a:ln w="114480">
              <a:solidFill>
                <a:srgbClr val="7fd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86" name="Google Shape;1079;p52"/>
            <p:cNvSpPr/>
            <p:nvPr/>
          </p:nvSpPr>
          <p:spPr>
            <a:xfrm>
              <a:off x="428760" y="1521000"/>
              <a:ext cx="8492760" cy="26812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87" name="Google Shape;1088;p52"/>
          <p:cNvGrpSpPr/>
          <p:nvPr/>
        </p:nvGrpSpPr>
        <p:grpSpPr>
          <a:xfrm>
            <a:off x="1000080" y="3214800"/>
            <a:ext cx="534960" cy="514080"/>
            <a:chOff x="1000080" y="3214800"/>
            <a:chExt cx="534960" cy="514080"/>
          </a:xfrm>
        </p:grpSpPr>
        <p:sp>
          <p:nvSpPr>
            <p:cNvPr id="388" name="Google Shape;1089;p52"/>
            <p:cNvSpPr/>
            <p:nvPr/>
          </p:nvSpPr>
          <p:spPr>
            <a:xfrm>
              <a:off x="1047600" y="3252600"/>
              <a:ext cx="450720" cy="436320"/>
            </a:xfrm>
            <a:prstGeom prst="pie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89" name="Google Shape;1090;p52"/>
            <p:cNvSpPr/>
            <p:nvPr/>
          </p:nvSpPr>
          <p:spPr>
            <a:xfrm>
              <a:off x="1000080" y="3214800"/>
              <a:ext cx="534960" cy="51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cxnSp>
        <p:nvCxnSpPr>
          <p:cNvPr id="390" name="Straight Arrow Connector 9"/>
          <p:cNvCxnSpPr>
            <a:endCxn id="391" idx="0"/>
          </p:cNvCxnSpPr>
          <p:nvPr/>
        </p:nvCxnSpPr>
        <p:spPr>
          <a:xfrm>
            <a:off x="1285920" y="3714480"/>
            <a:ext cx="186480" cy="1130760"/>
          </a:xfrm>
          <a:prstGeom prst="straightConnector1">
            <a:avLst/>
          </a:prstGeom>
          <a:ln w="38160">
            <a:solidFill>
              <a:srgbClr val="7fd13b"/>
            </a:solidFill>
            <a:miter/>
            <a:tailEnd len="med" type="arrow" w="med"/>
          </a:ln>
        </p:spPr>
      </p:cxnSp>
      <p:sp>
        <p:nvSpPr>
          <p:cNvPr id="391" name="Rectangle 11"/>
          <p:cNvSpPr/>
          <p:nvPr/>
        </p:nvSpPr>
        <p:spPr>
          <a:xfrm>
            <a:off x="228600" y="4844880"/>
            <a:ext cx="24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лињати се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, -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ам с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92" name="Google Shape;1088;p52"/>
          <p:cNvGrpSpPr/>
          <p:nvPr/>
        </p:nvGrpSpPr>
        <p:grpSpPr>
          <a:xfrm>
            <a:off x="3214800" y="1411200"/>
            <a:ext cx="573120" cy="514440"/>
            <a:chOff x="3214800" y="1411200"/>
            <a:chExt cx="573120" cy="514440"/>
          </a:xfrm>
        </p:grpSpPr>
        <p:sp>
          <p:nvSpPr>
            <p:cNvPr id="393" name="Google Shape;1089;p52"/>
            <p:cNvSpPr/>
            <p:nvPr/>
          </p:nvSpPr>
          <p:spPr>
            <a:xfrm>
              <a:off x="3261240" y="1449000"/>
              <a:ext cx="484200" cy="436680"/>
            </a:xfrm>
            <a:prstGeom prst="pie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94" name="Google Shape;1090;p52"/>
            <p:cNvSpPr/>
            <p:nvPr/>
          </p:nvSpPr>
          <p:spPr>
            <a:xfrm>
              <a:off x="3214800" y="1411200"/>
              <a:ext cx="573120" cy="51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cxnSp>
        <p:nvCxnSpPr>
          <p:cNvPr id="395" name="Straight Arrow Connector 15"/>
          <p:cNvCxnSpPr/>
          <p:nvPr/>
        </p:nvCxnSpPr>
        <p:spPr>
          <a:xfrm>
            <a:off x="3597120" y="1909440"/>
            <a:ext cx="224640" cy="810360"/>
          </a:xfrm>
          <a:prstGeom prst="straightConnector1">
            <a:avLst/>
          </a:prstGeom>
          <a:ln w="38160">
            <a:solidFill>
              <a:srgbClr val="7fd13b"/>
            </a:solidFill>
            <a:miter/>
            <a:tailEnd len="med" type="arrow" w="med"/>
          </a:ln>
        </p:spPr>
      </p:cxnSp>
      <p:sp>
        <p:nvSpPr>
          <p:cNvPr id="396" name="Rectangle 16"/>
          <p:cNvSpPr/>
          <p:nvPr/>
        </p:nvSpPr>
        <p:spPr>
          <a:xfrm>
            <a:off x="3786840" y="785880"/>
            <a:ext cx="18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Жао ми је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97" name="Google Shape;1088;p52"/>
          <p:cNvGrpSpPr/>
          <p:nvPr/>
        </p:nvGrpSpPr>
        <p:grpSpPr>
          <a:xfrm>
            <a:off x="2500200" y="3500280"/>
            <a:ext cx="571680" cy="514440"/>
            <a:chOff x="2500200" y="3500280"/>
            <a:chExt cx="571680" cy="514440"/>
          </a:xfrm>
        </p:grpSpPr>
        <p:sp>
          <p:nvSpPr>
            <p:cNvPr id="398" name="Google Shape;1089;p52"/>
            <p:cNvSpPr/>
            <p:nvPr/>
          </p:nvSpPr>
          <p:spPr>
            <a:xfrm>
              <a:off x="2541240" y="3538080"/>
              <a:ext cx="484560" cy="436680"/>
            </a:xfrm>
            <a:prstGeom prst="pie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99" name="Google Shape;1090;p52"/>
            <p:cNvSpPr/>
            <p:nvPr/>
          </p:nvSpPr>
          <p:spPr>
            <a:xfrm>
              <a:off x="2500200" y="3500280"/>
              <a:ext cx="571680" cy="51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cxnSp>
        <p:nvCxnSpPr>
          <p:cNvPr id="400" name="Straight Arrow Connector 24"/>
          <p:cNvCxnSpPr>
            <a:endCxn id="401" idx="0"/>
          </p:cNvCxnSpPr>
          <p:nvPr/>
        </p:nvCxnSpPr>
        <p:spPr>
          <a:xfrm>
            <a:off x="2971800" y="3885840"/>
            <a:ext cx="651600" cy="686520"/>
          </a:xfrm>
          <a:prstGeom prst="straightConnector1">
            <a:avLst/>
          </a:prstGeom>
          <a:ln w="38160">
            <a:solidFill>
              <a:srgbClr val="7fd13b"/>
            </a:solidFill>
            <a:miter/>
            <a:tailEnd len="med" type="arrow" w="med"/>
          </a:ln>
        </p:spPr>
      </p:cxnSp>
      <p:sp>
        <p:nvSpPr>
          <p:cNvPr id="401" name="Rectangle 25"/>
          <p:cNvSpPr/>
          <p:nvPr/>
        </p:nvSpPr>
        <p:spPr>
          <a:xfrm>
            <a:off x="2637000" y="45720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трести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, -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е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Rectangle 27"/>
          <p:cNvSpPr/>
          <p:nvPr/>
        </p:nvSpPr>
        <p:spPr>
          <a:xfrm>
            <a:off x="2897640" y="2741760"/>
            <a:ext cx="251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растужити се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им с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403" name="Google Shape;1088;p52"/>
          <p:cNvGrpSpPr/>
          <p:nvPr/>
        </p:nvGrpSpPr>
        <p:grpSpPr>
          <a:xfrm>
            <a:off x="4643280" y="1730520"/>
            <a:ext cx="541440" cy="514080"/>
            <a:chOff x="4643280" y="1730520"/>
            <a:chExt cx="541440" cy="514080"/>
          </a:xfrm>
        </p:grpSpPr>
        <p:sp>
          <p:nvSpPr>
            <p:cNvPr id="404" name="Google Shape;1089;p52"/>
            <p:cNvSpPr/>
            <p:nvPr/>
          </p:nvSpPr>
          <p:spPr>
            <a:xfrm>
              <a:off x="4689720" y="1768320"/>
              <a:ext cx="457560" cy="436320"/>
            </a:xfrm>
            <a:prstGeom prst="pie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05" name="Google Shape;1090;p52"/>
            <p:cNvSpPr/>
            <p:nvPr/>
          </p:nvSpPr>
          <p:spPr>
            <a:xfrm>
              <a:off x="4643280" y="1730520"/>
              <a:ext cx="541440" cy="51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cxnSp>
        <p:nvCxnSpPr>
          <p:cNvPr id="406" name="Straight Arrow Connector 31"/>
          <p:cNvCxnSpPr>
            <a:endCxn id="396" idx="2"/>
          </p:cNvCxnSpPr>
          <p:nvPr/>
        </p:nvCxnSpPr>
        <p:spPr>
          <a:xfrm flipH="1" flipV="1">
            <a:off x="4704480" y="1247400"/>
            <a:ext cx="172440" cy="505440"/>
          </a:xfrm>
          <a:prstGeom prst="straightConnector1">
            <a:avLst/>
          </a:prstGeom>
          <a:ln w="38160">
            <a:solidFill>
              <a:srgbClr val="7fd13b"/>
            </a:solidFill>
            <a:miter/>
            <a:tailEnd len="med" type="arrow" w="med"/>
          </a:ln>
        </p:spPr>
      </p:cxnSp>
      <p:grpSp>
        <p:nvGrpSpPr>
          <p:cNvPr id="407" name="Google Shape;1088;p52"/>
          <p:cNvGrpSpPr/>
          <p:nvPr/>
        </p:nvGrpSpPr>
        <p:grpSpPr>
          <a:xfrm>
            <a:off x="6500880" y="3000240"/>
            <a:ext cx="534960" cy="514440"/>
            <a:chOff x="6500880" y="3000240"/>
            <a:chExt cx="534960" cy="514440"/>
          </a:xfrm>
        </p:grpSpPr>
        <p:sp>
          <p:nvSpPr>
            <p:cNvPr id="408" name="Google Shape;1089;p52"/>
            <p:cNvSpPr/>
            <p:nvPr/>
          </p:nvSpPr>
          <p:spPr>
            <a:xfrm>
              <a:off x="6547320" y="3038040"/>
              <a:ext cx="451080" cy="436680"/>
            </a:xfrm>
            <a:prstGeom prst="pie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09" name="Google Shape;1090;p52"/>
            <p:cNvSpPr/>
            <p:nvPr/>
          </p:nvSpPr>
          <p:spPr>
            <a:xfrm>
              <a:off x="6500880" y="3000240"/>
              <a:ext cx="534960" cy="51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cxnSp>
        <p:nvCxnSpPr>
          <p:cNvPr id="410" name="Straight Arrow Connector 42"/>
          <p:cNvCxnSpPr/>
          <p:nvPr/>
        </p:nvCxnSpPr>
        <p:spPr>
          <a:xfrm flipV="1">
            <a:off x="6785640" y="2214360"/>
            <a:ext cx="726120" cy="786240"/>
          </a:xfrm>
          <a:prstGeom prst="straightConnector1">
            <a:avLst/>
          </a:prstGeom>
          <a:ln w="38160">
            <a:solidFill>
              <a:srgbClr val="7fd13b"/>
            </a:solidFill>
            <a:miter/>
            <a:tailEnd len="med" type="arrow" w="med"/>
          </a:ln>
        </p:spPr>
      </p:cxnSp>
      <p:sp>
        <p:nvSpPr>
          <p:cNvPr id="411" name="Rectangle 44"/>
          <p:cNvSpPr/>
          <p:nvPr/>
        </p:nvSpPr>
        <p:spPr>
          <a:xfrm>
            <a:off x="6174720" y="16430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Било ми је жао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Rectangle 70"/>
          <p:cNvSpPr/>
          <p:nvPr/>
        </p:nvSpPr>
        <p:spPr>
          <a:xfrm>
            <a:off x="356040" y="152280"/>
            <a:ext cx="411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Поновимо нове речи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3" name="Picture 43" descr="FURRY JACK RUSSELL DOG, SHEDDING HAIR DURING MOLT SEASON RELAXIN — Stock Photo, Image"/>
          <p:cNvPicPr/>
          <p:nvPr/>
        </p:nvPicPr>
        <p:blipFill>
          <a:blip r:embed="rId1"/>
          <a:srcRect l="926" t="5723" r="987" b="8812"/>
          <a:stretch/>
        </p:blipFill>
        <p:spPr>
          <a:xfrm>
            <a:off x="500040" y="1714680"/>
            <a:ext cx="1714680" cy="121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7T09:56:57Z</dcterms:created>
  <dc:creator>Natasa</dc:creator>
  <dc:description/>
  <dc:language>en-US</dc:language>
  <cp:lastModifiedBy>Natasa</cp:lastModifiedBy>
  <dcterms:modified xsi:type="dcterms:W3CDTF">2021-10-27T10:49:47Z</dcterms:modified>
  <cp:revision>6</cp:revision>
  <dc:subject/>
  <dc:title>„Пас на тринаестом спрату”</dc:title>
</cp:coreProperties>
</file>