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8CA7-8756-4BFF-B841-9AE9E79F6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D1A2-596C-4E3B-8AAB-CE384101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2509-FE1A-44D8-9F86-34FB5F39E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FB77-8B57-4B3B-8657-A608F2F31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0668-8E73-4044-887F-D9BFCFB6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139D-46AD-4C5D-80A9-4656082A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9E4C-430E-4893-A0E5-7E65EC8D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5555-8B0F-4CC0-8D66-58E6CC65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B33E-A347-4D49-8B29-FE68D4B5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66EE-BE84-4AAC-A985-422AE9DD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C9BD-9214-4CBD-B729-11575600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407F-3594-4438-952B-C3E72A9A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E50E-26C9-4697-AF1F-01E3E5058870}" type="slidenum">
              <a:rPr b="0" lang="sr-R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Храбар дечак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898989"/>
                </a:solidFill>
                <a:latin typeface="Calibri"/>
              </a:rPr>
              <a:t>Алекса Мики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Где је девојчиц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2066760" y="1706400"/>
            <a:ext cx="488808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714240" y="1357200"/>
            <a:ext cx="3187800" cy="2071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4786200" y="2928960"/>
            <a:ext cx="3448080" cy="2357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439600" y="292896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зубарска клеш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ако чувамо своје зуб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4638600" y="2639880"/>
            <a:ext cx="3279960" cy="2151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853920" y="1779480"/>
            <a:ext cx="3102120" cy="2298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853920" y="4352760"/>
            <a:ext cx="301644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Учимо нове ре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ије храбар / храб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кукавица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, -е м. и ж. р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н није кукавица. Она није кукавиц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е треба бити кукавиц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учимо и ове ре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Узалу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говориш, он те не слуш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ве је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узалу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званред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н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званред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у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учимо и ово. Каже с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дем лекар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н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иду зубар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н се плаши да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д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___________. (зубар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реба да иде _____________. (зубар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учимо и ово. Каже с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ене боли зуб. Боли ме зу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илана не боли зуб. Не боли га зу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евојчицу не боли зуб. Њу не боли зуб. Не боли је зу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 (Драган) боли зуб. ________ боли зуб. Боли _____ зу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 (Весна) боли зуб. ________ боли зуб. Боли _____ зу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1-09T16:16:06Z</dcterms:created>
  <dc:creator>Natasa</dc:creator>
  <dc:description/>
  <dc:language>en-US</dc:language>
  <cp:lastModifiedBy>Natasa</cp:lastModifiedBy>
  <dcterms:modified xsi:type="dcterms:W3CDTF">2022-03-06T17:30:13Z</dcterms:modified>
  <cp:revision>9</cp:revision>
  <dc:subject/>
  <dc:title>„Храбар дечак”</dc:title>
</cp:coreProperties>
</file>