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79DB-60C1-4B73-AC74-DC660F4D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DDD3-77EC-43D8-99E3-286D30F4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4739-B8A7-4EDC-81C2-20025DF3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44C5-D027-473F-8A78-175A55F1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0E3C-E5BC-4622-B73E-482F27ED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536-5DC4-4DD9-A918-A68FE430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F93B-334B-4644-A066-45572D05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80E8-8CF2-4BCC-88CD-879B7B92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92A-3AB9-482C-B96A-526DF94A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5255-CAD4-43D0-86F8-16EB3DE8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341E-5A46-40B1-9CFB-0F45BD3F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B2BA-34CF-427B-ADE6-6DE828F8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D0F3-E6CC-4D07-907A-B38DFDCC30A9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Живот у кућ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Calibri"/>
              </a:rPr>
              <a:t>Покућ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Man Using Vacuum Cleaner While Cleaning Carpet Living Room — Stock Photo, Image"/>
          <p:cNvPicPr/>
          <p:nvPr/>
        </p:nvPicPr>
        <p:blipFill>
          <a:blip r:embed="rId1"/>
          <a:srcRect l="2633" t="8256" r="2782" b="9213"/>
          <a:stretch/>
        </p:blipFill>
        <p:spPr>
          <a:xfrm>
            <a:off x="357120" y="357120"/>
            <a:ext cx="2057400" cy="2857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Active fit adult woman in bright outfit meticulously washing floor — Stock Photo, Image"/>
          <p:cNvPicPr/>
          <p:nvPr/>
        </p:nvPicPr>
        <p:blipFill>
          <a:blip r:embed="rId2"/>
          <a:srcRect l="2310" t="2241" r="9811" b="8979"/>
          <a:stretch/>
        </p:blipFill>
        <p:spPr>
          <a:xfrm>
            <a:off x="2928960" y="928800"/>
            <a:ext cx="3000240" cy="2211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Mother and little daughter with clean laundry in bathroom — Stock Photo, Image"/>
          <p:cNvPicPr/>
          <p:nvPr/>
        </p:nvPicPr>
        <p:blipFill>
          <a:blip r:embed="rId3"/>
          <a:srcRect l="11292" t="0" r="8052" b="11150"/>
          <a:stretch/>
        </p:blipFill>
        <p:spPr>
          <a:xfrm>
            <a:off x="4929120" y="3786120"/>
            <a:ext cx="2714760" cy="2171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Attractive Woman Overalls Cleaning Handsome Cleaner Living Room — Stock Photo, Image"/>
          <p:cNvPicPr/>
          <p:nvPr/>
        </p:nvPicPr>
        <p:blipFill>
          <a:blip r:embed="rId4"/>
          <a:srcRect l="40747" t="0" r="9574" b="12185"/>
          <a:stretch/>
        </p:blipFill>
        <p:spPr>
          <a:xfrm>
            <a:off x="6429240" y="285840"/>
            <a:ext cx="2214720" cy="2857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Woman doing chores cleaning bathroom at home — Stock Photo, Image"/>
          <p:cNvPicPr/>
          <p:nvPr/>
        </p:nvPicPr>
        <p:blipFill>
          <a:blip r:embed="rId5"/>
          <a:stretch/>
        </p:blipFill>
        <p:spPr>
          <a:xfrm>
            <a:off x="928800" y="4071960"/>
            <a:ext cx="3000240" cy="2003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71280" y="32860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сисати теп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500200" y="3214800"/>
            <a:ext cx="35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прати/орибати п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6072120" y="321480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брисати праш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000080" y="607212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рибати купат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5214960" y="600084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прати ве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ипрема хра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Young Couple Cooking Together Kitchen — Stock Photo, Image"/>
          <p:cNvPicPr/>
          <p:nvPr/>
        </p:nvPicPr>
        <p:blipFill>
          <a:blip r:embed="rId1"/>
          <a:srcRect l="0" t="0" r="1981" b="9194"/>
          <a:stretch/>
        </p:blipFill>
        <p:spPr>
          <a:xfrm>
            <a:off x="1000080" y="1365120"/>
            <a:ext cx="707220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tainless steel pots — Stock Photo, Image"/>
          <p:cNvPicPr/>
          <p:nvPr/>
        </p:nvPicPr>
        <p:blipFill>
          <a:blip r:embed="rId1"/>
          <a:stretch/>
        </p:blipFill>
        <p:spPr>
          <a:xfrm>
            <a:off x="357120" y="1000080"/>
            <a:ext cx="4214880" cy="26686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1155960" y="8571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онац и шер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Frying Pan — Stock Photo, Image"/>
          <p:cNvPicPr/>
          <p:nvPr/>
        </p:nvPicPr>
        <p:blipFill>
          <a:blip r:embed="rId2"/>
          <a:stretch/>
        </p:blipFill>
        <p:spPr>
          <a:xfrm>
            <a:off x="5146560" y="1265400"/>
            <a:ext cx="3068640" cy="20206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5077440" y="714240"/>
            <a:ext cx="10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ига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TEPSIJA 36245 | DM trgovina"/>
          <p:cNvPicPr/>
          <p:nvPr/>
        </p:nvPicPr>
        <p:blipFill>
          <a:blip r:embed="rId3"/>
          <a:stretch/>
        </p:blipFill>
        <p:spPr>
          <a:xfrm>
            <a:off x="642960" y="4000680"/>
            <a:ext cx="3719520" cy="2266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3506760" y="592920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епс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Bosch mikser MFQ2210PS – TEHNOSTAR d.o.o. Posušje"/>
          <p:cNvPicPr/>
          <p:nvPr/>
        </p:nvPicPr>
        <p:blipFill>
          <a:blip r:embed="rId4"/>
          <a:stretch/>
        </p:blipFill>
        <p:spPr>
          <a:xfrm>
            <a:off x="5500800" y="36432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1"/>
          <p:cNvSpPr/>
          <p:nvPr/>
        </p:nvSpPr>
        <p:spPr>
          <a:xfrm>
            <a:off x="7506720" y="600084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икс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суђ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Kitchen tools on table in kitchen — Stock Photo, Image"/>
          <p:cNvPicPr/>
          <p:nvPr/>
        </p:nvPicPr>
        <p:blipFill>
          <a:blip r:embed="rId1"/>
          <a:stretch/>
        </p:blipFill>
        <p:spPr>
          <a:xfrm>
            <a:off x="928800" y="1428840"/>
            <a:ext cx="72864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Допуни реченице називима посуђ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alibri"/>
              </a:rPr>
              <a:t>Супу кувамо у 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alibri"/>
              </a:rPr>
              <a:t>Узми ____________ и скувај поврћ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alibri"/>
              </a:rPr>
              <a:t>Пита је у ___________. Исеци свима по једно парче и стави их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alibri"/>
              </a:rPr>
              <a:t>Додај ми _____________, хоћу да печем палачин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alibri"/>
              </a:rPr>
              <a:t>Прљаво ____________ стави у судопер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Шта она рад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Young Cute Dark Haired Woman Pink Pajamas Makes Bed Pillows — Stock Photo, Image"/>
          <p:cNvPicPr/>
          <p:nvPr/>
        </p:nvPicPr>
        <p:blipFill>
          <a:blip r:embed="rId1"/>
          <a:srcRect l="0" t="0" r="2392" b="10292"/>
          <a:stretch/>
        </p:blipFill>
        <p:spPr>
          <a:xfrm>
            <a:off x="1285920" y="1285920"/>
            <a:ext cx="6643800" cy="4452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4807800" y="5929200"/>
            <a:ext cx="384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на намешта кре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515520" y="5715000"/>
            <a:ext cx="34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мештати кре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местити кре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стељ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Wrinkle Messy White Blanket Bedroom Waking Morning Messy Bedding Sleeping — Stock Photo, Image"/>
          <p:cNvPicPr/>
          <p:nvPr/>
        </p:nvPicPr>
        <p:blipFill>
          <a:blip r:embed="rId1"/>
          <a:srcRect l="0" t="0" r="1580" b="9913"/>
          <a:stretch/>
        </p:blipFill>
        <p:spPr>
          <a:xfrm>
            <a:off x="1285920" y="1387440"/>
            <a:ext cx="6786360" cy="45417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83160" y="928800"/>
            <a:ext cx="38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јастук, јастуци м. 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5"/>
          <p:cNvCxnSpPr>
            <a:stCxn id="65" idx="2"/>
          </p:cNvCxnSpPr>
          <p:nvPr/>
        </p:nvCxnSpPr>
        <p:spPr>
          <a:xfrm>
            <a:off x="1999080" y="1512360"/>
            <a:ext cx="715320" cy="1274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7" name="Straight Arrow Connector 6"/>
          <p:cNvCxnSpPr>
            <a:stCxn id="65" idx="2"/>
          </p:cNvCxnSpPr>
          <p:nvPr/>
        </p:nvCxnSpPr>
        <p:spPr>
          <a:xfrm>
            <a:off x="1999080" y="1512360"/>
            <a:ext cx="1358280" cy="1274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8" name="Rectangle 9"/>
          <p:cNvSpPr/>
          <p:nvPr/>
        </p:nvSpPr>
        <p:spPr>
          <a:xfrm>
            <a:off x="642960" y="5916600"/>
            <a:ext cx="38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јорган, -а м. 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10"/>
          <p:cNvCxnSpPr>
            <a:stCxn id="68" idx="0"/>
          </p:cNvCxnSpPr>
          <p:nvPr/>
        </p:nvCxnSpPr>
        <p:spPr>
          <a:xfrm flipV="1">
            <a:off x="2570760" y="4857120"/>
            <a:ext cx="1429560" cy="1059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0" name="Rectangle 14"/>
          <p:cNvSpPr/>
          <p:nvPr/>
        </p:nvSpPr>
        <p:spPr>
          <a:xfrm>
            <a:off x="4643280" y="6059520"/>
            <a:ext cx="38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аршав, -а м. 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15"/>
          <p:cNvCxnSpPr>
            <a:stCxn id="70" idx="0"/>
          </p:cNvCxnSpPr>
          <p:nvPr/>
        </p:nvCxnSpPr>
        <p:spPr>
          <a:xfrm flipV="1">
            <a:off x="6572160" y="4357080"/>
            <a:ext cx="286560" cy="1702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есвући постељин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loseup Young Caucasian Man Putting White Bed Linen Washing Machine — Stock Photo, Image"/>
          <p:cNvPicPr/>
          <p:nvPr/>
        </p:nvPicPr>
        <p:blipFill>
          <a:blip r:embed="rId1"/>
          <a:srcRect l="0" t="0" r="251" b="7913"/>
          <a:stretch/>
        </p:blipFill>
        <p:spPr>
          <a:xfrm>
            <a:off x="642960" y="164304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Man ironing bed sheets — Stock Photo, Image"/>
          <p:cNvPicPr/>
          <p:nvPr/>
        </p:nvPicPr>
        <p:blipFill>
          <a:blip r:embed="rId2"/>
          <a:srcRect l="21215" t="14531" r="3034" b="10749"/>
          <a:stretch/>
        </p:blipFill>
        <p:spPr>
          <a:xfrm>
            <a:off x="4786200" y="1571760"/>
            <a:ext cx="3143520" cy="2263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Baby Bed Sheets — Stock Photo, Image"/>
          <p:cNvPicPr/>
          <p:nvPr/>
        </p:nvPicPr>
        <p:blipFill>
          <a:blip r:embed="rId3"/>
          <a:srcRect l="2469" t="14819" r="0" b="0"/>
          <a:stretch/>
        </p:blipFill>
        <p:spPr>
          <a:xfrm>
            <a:off x="928800" y="4071960"/>
            <a:ext cx="2820960" cy="2463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Young Female Housekeeper Changing Bedding In Hotel Room — Stock Photo, Image"/>
          <p:cNvPicPr/>
          <p:nvPr/>
        </p:nvPicPr>
        <p:blipFill>
          <a:blip r:embed="rId4"/>
          <a:srcRect l="22595" t="20656" r="4237" b="15909"/>
          <a:stretch/>
        </p:blipFill>
        <p:spPr>
          <a:xfrm>
            <a:off x="4857840" y="4206960"/>
            <a:ext cx="3429000" cy="21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премање куће/ст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Smiling Kid Rubber Gloves Holding Detergent Rag Parents Blurred Background — Stock Photo, Image"/>
          <p:cNvPicPr/>
          <p:nvPr/>
        </p:nvPicPr>
        <p:blipFill>
          <a:blip r:embed="rId1"/>
          <a:srcRect l="0" t="0" r="1860" b="9131"/>
          <a:stretch/>
        </p:blipFill>
        <p:spPr>
          <a:xfrm>
            <a:off x="1143000" y="1571760"/>
            <a:ext cx="70722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1T12:15:52Z</dcterms:created>
  <dc:creator>Natasa</dc:creator>
  <dc:description/>
  <dc:language>en-US</dc:language>
  <cp:lastModifiedBy>Natasa</cp:lastModifiedBy>
  <dcterms:modified xsi:type="dcterms:W3CDTF">2022-03-05T20:11:38Z</dcterms:modified>
  <cp:revision>19</cp:revision>
  <dc:subject/>
  <dc:title>Живот у кући</dc:title>
</cp:coreProperties>
</file>