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3AC-A47B-4B98-8569-E6F31D8A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617-513D-44CB-BF98-B1F7EF26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151-4AEE-429A-A7CA-D8529C5B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FCC-0371-4EEB-9F33-FFF04AA0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32A-3C47-4731-9310-0C1A0BE1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D59-FD3F-435D-A8B9-0A947F18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346-5339-499B-A8B4-2EF2E76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D8C-8876-4213-8574-80B9D051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01F-C1E7-4B28-A647-22CFC2D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F05-28D8-48A0-A082-F6FDC62C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CDB-98D7-42E7-8BD7-3E1B334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51A-FCFD-4541-8EDE-32D9369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384-2067-45EB-9541-14EB8624AD7A}" type="slidenum">
              <a:rPr b="0" lang="sr-R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Разговори о тексту </a:t>
            </a:r>
            <a:r>
              <a:rPr b="0" i="1" lang="sr-RS" sz="4400" spc="-1" strike="noStrike">
                <a:solidFill>
                  <a:srgbClr val="ffffff"/>
                </a:solidFill>
                <a:latin typeface="Calibri"/>
              </a:rPr>
              <a:t>Ценовн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Говорна вежб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Подсетимо се текста. Одговори на питањ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Ко су главни ликови у тексту </a:t>
            </a:r>
            <a:r>
              <a:rPr b="0" i="1" lang="sr-RS" sz="3600" spc="-1" strike="noStrike">
                <a:solidFill>
                  <a:srgbClr val="ffffff"/>
                </a:solidFill>
                <a:latin typeface="Calibri"/>
              </a:rPr>
              <a:t>Ценовник</a:t>
            </a: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О чему они разговарају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Зашто се текст зове </a:t>
            </a:r>
            <a:r>
              <a:rPr b="0" i="1" lang="sr-RS" sz="3600" spc="-1" strike="noStrike">
                <a:solidFill>
                  <a:srgbClr val="ffffff"/>
                </a:solidFill>
                <a:latin typeface="Calibri"/>
              </a:rPr>
              <a:t>Ценовник</a:t>
            </a: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Која занимања се спомињу у тексту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Ко је муштерија, а ко је службеник у тексту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Испред сваке реченице упиши одговарајући број тако да редослед догађаја одговара оном у текст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____ За два месеца! Па не могу толико да чекам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____ Да ли желите за тројку, четворку или петиц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____ Нека, хвала лепо. Сам ћу све да напишем и научи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____ Јесте. Изволите, шта сте желел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____ Па, може за двојку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848160" y="521496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59320" y="30718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59320" y="57862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59320" y="19288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alibri"/>
              </a:rPr>
              <a:t>4.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88040" y="407196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alibri"/>
              </a:rPr>
              <a:t>5.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ffffff"/>
                </a:solidFill>
                <a:latin typeface="Calibri"/>
              </a:rPr>
              <a:t>Допуни реченице речима: </a:t>
            </a:r>
            <a:r>
              <a:rPr b="1" lang="sr-RS" sz="2900" spc="-1" strike="noStrike">
                <a:solidFill>
                  <a:srgbClr val="ffffff"/>
                </a:solidFill>
                <a:latin typeface="Calibri"/>
              </a:rPr>
              <a:t>прелазан, мрзети, муштерија, сервис, службеник, обућар, орибати</a:t>
            </a:r>
            <a:r>
              <a:rPr b="0" lang="sr-RS" sz="29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окварио се фрижидер. Позваћемо __________ да пошаље мајсто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Треба да уради домаћи, али га ________ да ради са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Двојка је ___________ оце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Треба да _________ кухињу и однесе ципеле код ___________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Овај сервис има много ______________, рекао је ______________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</a:rPr>
              <a:t>Како треба прочитати текст ‒ равнодушно, љубазно, зачуђено, срећно, 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357200"/>
            <a:ext cx="8400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Јесте. Изволите, молим вас шта сте желел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За два месеца! Па не могу толико да чекам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есму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Нека, хвала лепо. Сам ћу све да напишем и научи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а, може за двојку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Моли, како хоћете. Ми увек имамо довољно муштерија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8T11:44:05Z</dcterms:created>
  <dc:creator>Natasa</dc:creator>
  <dc:description/>
  <dc:language>en-US</dc:language>
  <cp:lastModifiedBy>Natasa</cp:lastModifiedBy>
  <dcterms:modified xsi:type="dcterms:W3CDTF">2021-11-08T12:43:26Z</dcterms:modified>
  <cp:revision>7</cp:revision>
  <dc:subject/>
  <dc:title>Разговори о тексту Ценовник</dc:title>
</cp:coreProperties>
</file>