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6FB-9B8A-453A-B272-3C181DE6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281-102C-4D56-B42B-8D99884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859-EA0E-4D58-B5F1-C609E042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931-F670-457C-9DF4-6495F874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8E0-67B7-4E76-BF08-4897A7B9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010-67CD-4303-BF8B-70FD0CE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A64-E4D0-41E3-96A8-1012E348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EE8-0C20-45EB-B6F5-4B9E5569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873-6C66-4764-9AFD-EEA23A40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6E8-21FA-4855-92CE-429EEFA4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9BF-FBEA-4D5D-9CA0-B51A7659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F65-4250-495D-9D22-EF829E2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838-9F28-432C-BB58-D9457D9EA5A9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73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ги и Ема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892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Игор Кол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Agi i Ema -- Mali oglasi i prodavnice # Goglasi.com"/>
          <p:cNvPicPr/>
          <p:nvPr/>
        </p:nvPicPr>
        <p:blipFill>
          <a:blip r:embed="rId1"/>
          <a:stretch/>
        </p:blipFill>
        <p:spPr>
          <a:xfrm>
            <a:off x="2143080" y="642960"/>
            <a:ext cx="3786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165760" y="28584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Calibri"/>
              </a:rPr>
              <a:t>Игор Коларов (1973</a:t>
            </a:r>
            <a:r>
              <a:rPr b="1" lang="sr-R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‒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524880" y="1285920"/>
            <a:ext cx="67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Савремени српски писац за де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gor Kolarov"/>
          <p:cNvPicPr/>
          <p:nvPr/>
        </p:nvPicPr>
        <p:blipFill>
          <a:blip r:embed="rId1"/>
          <a:stretch/>
        </p:blipFill>
        <p:spPr>
          <a:xfrm>
            <a:off x="3000240" y="2143080"/>
            <a:ext cx="307188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ART &amp;amp; POPCORN – AGI I EMA / Milutin Petrović / 2007"/>
          <p:cNvPicPr/>
          <p:nvPr/>
        </p:nvPicPr>
        <p:blipFill>
          <a:blip r:embed="rId1"/>
          <a:stretch/>
        </p:blipFill>
        <p:spPr>
          <a:xfrm>
            <a:off x="493560" y="566640"/>
            <a:ext cx="3949920" cy="222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ART &amp;amp; POPCORN – AGI I EMA / Milutin Petrović / 2007"/>
          <p:cNvPicPr/>
          <p:nvPr/>
        </p:nvPicPr>
        <p:blipFill>
          <a:blip r:embed="rId2"/>
          <a:stretch/>
        </p:blipFill>
        <p:spPr>
          <a:xfrm>
            <a:off x="566640" y="3279600"/>
            <a:ext cx="3651480" cy="252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Аги и Ема (филм).jpg"/>
          <p:cNvPicPr/>
          <p:nvPr/>
        </p:nvPicPr>
        <p:blipFill>
          <a:blip r:embed="rId3"/>
          <a:stretch/>
        </p:blipFill>
        <p:spPr>
          <a:xfrm>
            <a:off x="5214960" y="1000080"/>
            <a:ext cx="314316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487440" y="781200"/>
            <a:ext cx="3414600" cy="22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267080" y="1352520"/>
            <a:ext cx="4322880" cy="27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93560" y="3706920"/>
            <a:ext cx="3700440" cy="223020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>
            <a:off x="5928120" y="3571560"/>
            <a:ext cx="786600" cy="15008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59" name="Rectangle 7"/>
          <p:cNvSpPr/>
          <p:nvPr/>
        </p:nvSpPr>
        <p:spPr>
          <a:xfrm>
            <a:off x="4941000" y="500076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иртина, -е ж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932400" y="300024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Arial"/>
              </a:rPr>
              <a:t>музеј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, -а, м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853920" y="1279440"/>
            <a:ext cx="2797200" cy="349416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3"/>
          <p:cNvCxnSpPr/>
          <p:nvPr/>
        </p:nvCxnSpPr>
        <p:spPr>
          <a:xfrm flipV="1">
            <a:off x="2928960" y="2428200"/>
            <a:ext cx="1357920" cy="1143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64" name="Rectangle 4"/>
          <p:cNvSpPr/>
          <p:nvPr/>
        </p:nvSpPr>
        <p:spPr>
          <a:xfrm>
            <a:off x="4357800" y="2143080"/>
            <a:ext cx="33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стоље, -а с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85880" y="50004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ttps://www.youtube.com/watch?v=lDbPGtkB-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3911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0040" y="5000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ла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209680" y="214200"/>
            <a:ext cx="47912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ravougaonik 3"/>
          <p:cNvSpPr/>
          <p:nvPr/>
        </p:nvSpPr>
        <p:spPr>
          <a:xfrm>
            <a:off x="246240" y="142920"/>
            <a:ext cx="8611920" cy="638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00040" y="50004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Трејлер за филм „Аги и Ема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ttps://www.youtube.com/watch?v=vaPhh7480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9T16:49:37Z</dcterms:created>
  <dc:creator>Natasa</dc:creator>
  <dc:description/>
  <dc:language>en-US</dc:language>
  <cp:lastModifiedBy>Natasa</cp:lastModifiedBy>
  <dcterms:modified xsi:type="dcterms:W3CDTF">2022-03-11T12:43:43Z</dcterms:modified>
  <cp:revision>14</cp:revision>
  <dc:subject/>
  <dc:title>„Аги и Ема”</dc:title>
</cp:coreProperties>
</file>