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489-E5A7-4139-AA85-CA2CCA14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F38-5FE2-4D1B-9A5B-3E9F038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1AD-D7D8-4B68-8DFE-379048A3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CEB-FE68-42E6-A042-88F60A43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64D-2BF2-4A0F-938F-047A11AF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1AF8-3BC8-4F36-A7C5-D6A67C9F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503-7C2F-4E9E-9C1F-A61C0716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A05-40C9-4BB0-AD82-4957643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DFFC-F1BD-4460-AAAA-BF429938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CAB4-4433-413E-8EF8-E945F65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6D7-6F1F-4A28-A53C-6422175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DE6-8289-4936-A168-01553E1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CF10-68FF-452A-B763-224C63D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E18B-E13B-4FE3-B805-4E7ECBD2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CE18-F247-4E32-A8F5-8B7F4B01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A479-8F17-4081-83FB-4B2951A1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A83-3387-4C06-B4F0-FA255692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0B93-E6C0-4FB9-B07E-6F49CCED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741E-8EA5-43DF-92AC-EDEAE9B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F819-B3EB-4637-A32A-5C37E9D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9857-43BC-477B-8171-288D7ACA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98F4-1BBA-49FE-A40E-25A1216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58E-B747-40EF-8DF1-2BA904E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0394-CD27-4B94-82EC-41A9D8D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44E9-3322-4846-BAB2-7EED0CD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A783-373E-458B-8F27-600EAF8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5E12-81C3-4A4D-B490-585DE88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9B22-9CFD-45BA-A459-8322946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ACA2-7EE2-406F-B0F8-6A741973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7CD8-1A72-4A8E-A2A4-6D803732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C01D0-F522-4E6C-BD59-4B09F9A2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80CF-0BA6-49EB-877B-40B6D122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0220-BD0F-45BE-8059-57022191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7CA-EEB3-4225-BF06-978BBC8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5C09-CBE4-4D30-8C1E-DD4C9EB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FDB1-B6DC-4805-992A-5536BC3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30C5-A713-4D95-BDCE-082246A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AF3B-7AFB-4ECA-8238-FBA6C561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362F-E47E-4DEE-875D-DBD6196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DCE0-8B4C-407A-8C64-67F61D4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AA74-02F0-4BAD-B728-94481BD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B0B3-098D-4F2B-87A1-175F4E1C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AAD8-FBEC-4D99-9254-103455A4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5CA5-5B4C-4C85-AE1C-98B16E6E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B51-C766-4754-89CB-64CE55E7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A02C-732C-4F66-BBA4-D99676A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F1B99-61A3-40AC-92EC-8D10246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2E33-4D32-4671-A6EE-F0274925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0BBC-4790-4F9A-810A-1D53F783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52B3-FE67-435F-BFB8-D1D01F3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61B6-3BCE-4B53-9CF9-57FA518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863A-D12E-4B10-BC1D-E65C1AD7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355B8-073A-4228-BBCB-60691A2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425E-0680-4198-B740-212CC1F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C3722-0A77-4EA1-96C0-13A52887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AE2-41AD-4281-A557-59883FF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CDC3-DB00-419E-AF77-4DCFA5A4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E7FA-D16A-4251-92B7-E9C70FD9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B4D1-DD7F-4ADE-8CF0-2BFE949E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874D4-5B57-42F4-9013-FDBB1284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F47E-2E85-4036-B580-78D32705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E8ABD-6072-45CB-B2B4-297E16E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846C-F017-4A21-A2D7-51797BA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8E35D-29A3-4CB4-A2BE-A850847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F328-5EE2-4FEA-9F58-9638383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D615-7506-4838-B95A-A926846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40C-9D10-4D01-AF8F-1491522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8CF7E-0947-481B-8BEC-1A66192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3273-04A2-4EE4-BD35-ED83A273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7F4B-E8C1-4801-AE95-2BA0DFFD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2643A-A6E8-43D8-8BEA-A4667BEE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295C-0FDF-4E92-872A-C86377B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39BA9-C8AB-4030-9713-59B5CA9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8A78-2BAC-48F4-8FB5-68CE64F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FE54-49A5-4006-933E-8F06D26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9E6B-7C00-4916-81EC-B749F5A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5F1C-3188-4C12-8EBB-65502C59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F5A-BA07-4AD5-BF91-C40179C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C36B5-9BB2-4151-9E5A-94AC1CB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34543-89BA-4ACE-9F0D-2F4B6D4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9EA41-EC67-446F-9876-FFFD88CA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C9A5-E275-4AFC-9532-235CFEB1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9D42-187A-4611-93DB-7724AC55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EE2-1832-41F4-9C2E-838B406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A50-87ED-4611-9AC8-C7EC679D1CEC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84E-F0AE-4F73-80BD-C0E1208E860C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ECCD-E860-4FF0-8EA2-CB3FD01EC7AA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D25-E9CB-4328-B529-A021CE4DF69A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9059-1D0F-4A84-A272-9058E0D73912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0C9-827B-44D9-A669-EDC7908E2E08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56F-785D-43CC-B6C4-F6A2490A5DE3}" type="slidenum">
              <a:rPr b="0" lang="sr-R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Google Shape;134;p4"/>
          <p:cNvSpPr/>
          <p:nvPr/>
        </p:nvSpPr>
        <p:spPr>
          <a:xfrm rot="10906800">
            <a:off x="7985880" y="645480"/>
            <a:ext cx="520920" cy="515880"/>
          </a:xfrm>
          <a:prstGeom prst="pie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Google Shape;135;p4"/>
          <p:cNvSpPr/>
          <p:nvPr/>
        </p:nvSpPr>
        <p:spPr>
          <a:xfrm>
            <a:off x="0" y="719280"/>
            <a:ext cx="8431200" cy="696600"/>
          </a:xfrm>
          <a:prstGeom prst="pie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Google Shape;136;p4"/>
          <p:cNvSpPr/>
          <p:nvPr/>
        </p:nvSpPr>
        <p:spPr>
          <a:xfrm>
            <a:off x="96840" y="800280"/>
            <a:ext cx="79200" cy="534960"/>
          </a:xfrm>
          <a:prstGeom prst="pie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Google Shape;139;p4"/>
          <p:cNvSpPr/>
          <p:nvPr/>
        </p:nvSpPr>
        <p:spPr>
          <a:xfrm rot="10906800">
            <a:off x="8151840" y="789840"/>
            <a:ext cx="357120" cy="351000"/>
          </a:xfrm>
          <a:prstGeom prst="pie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Google Shape;140;p4"/>
          <p:cNvSpPr/>
          <p:nvPr/>
        </p:nvSpPr>
        <p:spPr>
          <a:xfrm>
            <a:off x="8510760" y="5983200"/>
            <a:ext cx="217440" cy="298440"/>
          </a:xfrm>
          <a:prstGeom prst="pie">
            <a:avLst/>
          </a:prstGeom>
          <a:solidFill>
            <a:srgbClr val="1ab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oogle Shape;141;p4"/>
          <p:cNvGrpSpPr/>
          <p:nvPr/>
        </p:nvGrpSpPr>
        <p:grpSpPr>
          <a:xfrm>
            <a:off x="8664480" y="6250320"/>
            <a:ext cx="298440" cy="431280"/>
            <a:chOff x="8664480" y="6250320"/>
            <a:chExt cx="298440" cy="431280"/>
          </a:xfrm>
        </p:grpSpPr>
        <p:sp>
          <p:nvSpPr>
            <p:cNvPr id="383" name="Google Shape;142;p4"/>
            <p:cNvSpPr/>
            <p:nvPr/>
          </p:nvSpPr>
          <p:spPr>
            <a:xfrm rot="3913800">
              <a:off x="8724960" y="6277680"/>
              <a:ext cx="198000" cy="21492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Google Shape;143;p4"/>
            <p:cNvSpPr/>
            <p:nvPr/>
          </p:nvSpPr>
          <p:spPr>
            <a:xfrm rot="3913800">
              <a:off x="8620920" y="6483240"/>
              <a:ext cx="293040" cy="9144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c1eeff"/>
                </a:solidFill>
                <a:latin typeface="Consolas"/>
              </a:rPr>
              <a:t>6. Искажи заповест или молбу. Посматрај урађени пример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Кажи Маји да спреми своју соб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ea157a"/>
                </a:solidFill>
                <a:latin typeface="Corbel"/>
              </a:rPr>
              <a:t>Мајо</a:t>
            </a:r>
            <a:r>
              <a:rPr b="0" lang="en-US" sz="3000" spc="-1" strike="noStrike">
                <a:solidFill>
                  <a:srgbClr val="ea157a"/>
                </a:solidFill>
                <a:latin typeface="Corbel"/>
              </a:rPr>
              <a:t>, </a:t>
            </a:r>
            <a:r>
              <a:rPr b="0" sz="3000" spc="-1" strike="noStrike">
                <a:solidFill>
                  <a:srgbClr val="ea157a"/>
                </a:solidFill>
                <a:latin typeface="Corbel"/>
              </a:rPr>
              <a:t>спреми своју соб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ffff"/>
                </a:solidFill>
                <a:latin typeface="Corbel"/>
              </a:rPr>
              <a:t>Реци јој да залије цвећ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ea157a"/>
                </a:solidFill>
                <a:latin typeface="Corbel"/>
              </a:rPr>
              <a:t>Залиј цвећ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ffff"/>
                </a:solidFill>
                <a:latin typeface="Corbel"/>
              </a:rPr>
              <a:t>Кажи Марку да затвори прозор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ea157a"/>
                </a:solidFill>
                <a:latin typeface="Corbel"/>
              </a:rPr>
              <a:t>Марко, затвори прозор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ffff"/>
                </a:solidFill>
                <a:latin typeface="Corbel"/>
              </a:rPr>
              <a:t>Реци деци да се смир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ea157a"/>
                </a:solidFill>
                <a:latin typeface="Corbel"/>
              </a:rPr>
              <a:t>Децо, смирите се</a:t>
            </a:r>
            <a:r>
              <a:rPr b="0" lang="en-US" sz="3000" spc="-1" strike="noStrike">
                <a:solidFill>
                  <a:srgbClr val="ea157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Fredoka One"/>
                <a:ea typeface="Arial"/>
              </a:rPr>
              <a:t>Подсетимо се</a:t>
            </a: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!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28760" y="13572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Како постављамо питања која почињу речима КО и Ш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500040" y="2428920"/>
            <a:ext cx="3000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КО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ДОШ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аја је дош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ругови су дош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не су дош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еца су дош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5082120" y="2428920"/>
            <a:ext cx="332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ШТА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П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ЛО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ала је све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але су олов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ао је фломас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але су боји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ало је оглед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18"/>
          <p:cNvSpPr/>
          <p:nvPr/>
        </p:nvSpPr>
        <p:spPr>
          <a:xfrm>
            <a:off x="3429000" y="2643120"/>
            <a:ext cx="179280" cy="211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19"/>
          <p:cNvSpPr/>
          <p:nvPr/>
        </p:nvSpPr>
        <p:spPr>
          <a:xfrm>
            <a:off x="3214800" y="31431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20"/>
          <p:cNvSpPr/>
          <p:nvPr/>
        </p:nvSpPr>
        <p:spPr>
          <a:xfrm>
            <a:off x="3429000" y="5072040"/>
            <a:ext cx="179280" cy="211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22"/>
          <p:cNvSpPr/>
          <p:nvPr/>
        </p:nvSpPr>
        <p:spPr>
          <a:xfrm>
            <a:off x="2714760" y="3786120"/>
            <a:ext cx="179280" cy="21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23"/>
          <p:cNvSpPr/>
          <p:nvPr/>
        </p:nvSpPr>
        <p:spPr>
          <a:xfrm>
            <a:off x="8358120" y="4071960"/>
            <a:ext cx="179280" cy="210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24"/>
          <p:cNvSpPr/>
          <p:nvPr/>
        </p:nvSpPr>
        <p:spPr>
          <a:xfrm>
            <a:off x="3214800" y="45720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26"/>
          <p:cNvSpPr/>
          <p:nvPr/>
        </p:nvSpPr>
        <p:spPr>
          <a:xfrm>
            <a:off x="7929720" y="45720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29"/>
          <p:cNvSpPr/>
          <p:nvPr/>
        </p:nvSpPr>
        <p:spPr>
          <a:xfrm>
            <a:off x="7929720" y="2571840"/>
            <a:ext cx="179280" cy="210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31"/>
          <p:cNvSpPr/>
          <p:nvPr/>
        </p:nvSpPr>
        <p:spPr>
          <a:xfrm>
            <a:off x="7786800" y="31431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32"/>
          <p:cNvSpPr/>
          <p:nvPr/>
        </p:nvSpPr>
        <p:spPr>
          <a:xfrm>
            <a:off x="7929720" y="36432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Oval 33"/>
          <p:cNvSpPr/>
          <p:nvPr/>
        </p:nvSpPr>
        <p:spPr>
          <a:xfrm>
            <a:off x="8321760" y="5072040"/>
            <a:ext cx="179280" cy="211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c1eeff"/>
                </a:solidFill>
                <a:latin typeface="Consolas"/>
              </a:rPr>
              <a:t>7. Постави питање које ће почињати речима КО или ШТА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Душан је отишао на тренинг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Corbel"/>
              </a:rPr>
              <a:t>Ко је отишао на тренинг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Ученици су урадили домаћи задатак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Corbel"/>
              </a:rPr>
              <a:t>Ко је урадио домаћи задатак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Весна је изгубила гумиц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Corbel"/>
              </a:rPr>
              <a:t>Ко је изгубио гумиц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Ми смо добили петиц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Corbel"/>
              </a:rPr>
              <a:t>Ко је добио петице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914400" y="571320"/>
            <a:ext cx="777240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Оловка је пала са стола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157a"/>
                </a:solidFill>
                <a:latin typeface="Corbel"/>
              </a:rPr>
              <a:t>Шта је пало са стола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Десило се нешто лош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157a"/>
                </a:solidFill>
                <a:latin typeface="Corbel"/>
              </a:rPr>
              <a:t>Шта се десило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Разбио се прозор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157a"/>
                </a:solidFill>
                <a:latin typeface="Corbel"/>
              </a:rPr>
              <a:t>Шта се разбило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И врата су се покварила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157a"/>
                </a:solidFill>
                <a:latin typeface="Corbel"/>
              </a:rPr>
              <a:t>Шта се покварило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42976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c1eeff"/>
                </a:solidFill>
                <a:latin typeface="Consolas"/>
              </a:rPr>
              <a:t>1. </a:t>
            </a:r>
            <a:r>
              <a:rPr b="0" lang="sr-RS" sz="2800" spc="-1" strike="noStrike">
                <a:solidFill>
                  <a:srgbClr val="c1eeff"/>
                </a:solidFill>
                <a:latin typeface="Consolas"/>
              </a:rPr>
              <a:t>Прочитај текст. Које реченице су у прошлом, које у садашњем, а које у будућем времену? Којим речима се исказује заповест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785520" y="1784520"/>
            <a:ext cx="79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Слушај ме, сестрице! - сваког јутра плаче несрећна торба. - Докле мислиш да стављаш у мене свашта, а да не вадиш ништа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Јој, јој, шта ће бити с нама? - питале су оловке. Шта ће бити? Тата ће купити нову торбу и ставићу вас у њу - одговорила је Вес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7" name="Straight Connector 4" descr=""/>
          <p:cNvPicPr/>
          <p:nvPr/>
        </p:nvPicPr>
        <p:blipFill>
          <a:blip r:embed="rId1"/>
          <a:stretch/>
        </p:blipFill>
        <p:spPr>
          <a:xfrm>
            <a:off x="6991200" y="2200320"/>
            <a:ext cx="1092240" cy="177840"/>
          </a:xfrm>
          <a:prstGeom prst="rect">
            <a:avLst/>
          </a:prstGeom>
          <a:ln w="0">
            <a:noFill/>
          </a:ln>
        </p:spPr>
      </p:pic>
      <p:pic>
        <p:nvPicPr>
          <p:cNvPr id="428" name="Straight Connector 6" descr=""/>
          <p:cNvPicPr/>
          <p:nvPr/>
        </p:nvPicPr>
        <p:blipFill>
          <a:blip r:embed="rId2"/>
          <a:stretch/>
        </p:blipFill>
        <p:spPr>
          <a:xfrm>
            <a:off x="5278320" y="2627280"/>
            <a:ext cx="1378080" cy="176400"/>
          </a:xfrm>
          <a:prstGeom prst="rect">
            <a:avLst/>
          </a:prstGeom>
          <a:ln w="0">
            <a:noFill/>
          </a:ln>
        </p:spPr>
      </p:pic>
      <p:pic>
        <p:nvPicPr>
          <p:cNvPr id="429" name="Straight Connector 8" descr=""/>
          <p:cNvPicPr/>
          <p:nvPr/>
        </p:nvPicPr>
        <p:blipFill>
          <a:blip r:embed="rId3"/>
          <a:stretch/>
        </p:blipFill>
        <p:spPr>
          <a:xfrm>
            <a:off x="1279440" y="3127320"/>
            <a:ext cx="1444680" cy="176400"/>
          </a:xfrm>
          <a:prstGeom prst="rect">
            <a:avLst/>
          </a:prstGeom>
          <a:ln w="0">
            <a:noFill/>
          </a:ln>
        </p:spPr>
      </p:pic>
      <p:pic>
        <p:nvPicPr>
          <p:cNvPr id="430" name="Straight Connector 10" descr=""/>
          <p:cNvPicPr/>
          <p:nvPr/>
        </p:nvPicPr>
        <p:blipFill>
          <a:blip r:embed="rId4"/>
          <a:stretch/>
        </p:blipFill>
        <p:spPr>
          <a:xfrm>
            <a:off x="6351480" y="3127320"/>
            <a:ext cx="1378080" cy="176400"/>
          </a:xfrm>
          <a:prstGeom prst="rect">
            <a:avLst/>
          </a:prstGeom>
          <a:ln w="0">
            <a:noFill/>
          </a:ln>
        </p:spPr>
      </p:pic>
      <p:pic>
        <p:nvPicPr>
          <p:cNvPr id="431" name="Straight Connector 12" descr=""/>
          <p:cNvPicPr/>
          <p:nvPr/>
        </p:nvPicPr>
        <p:blipFill>
          <a:blip r:embed="rId5"/>
          <a:stretch/>
        </p:blipFill>
        <p:spPr>
          <a:xfrm>
            <a:off x="5919840" y="4127400"/>
            <a:ext cx="1663560" cy="176400"/>
          </a:xfrm>
          <a:prstGeom prst="rect">
            <a:avLst/>
          </a:prstGeom>
          <a:ln w="0">
            <a:noFill/>
          </a:ln>
        </p:spPr>
      </p:pic>
      <p:pic>
        <p:nvPicPr>
          <p:cNvPr id="432" name="Straight Connector 14" descr=""/>
          <p:cNvPicPr/>
          <p:nvPr/>
        </p:nvPicPr>
        <p:blipFill>
          <a:blip r:embed="rId6"/>
          <a:stretch/>
        </p:blipFill>
        <p:spPr>
          <a:xfrm>
            <a:off x="5565600" y="5059440"/>
            <a:ext cx="2378160" cy="177840"/>
          </a:xfrm>
          <a:prstGeom prst="rect">
            <a:avLst/>
          </a:prstGeom>
          <a:ln w="0">
            <a:noFill/>
          </a:ln>
        </p:spPr>
      </p:pic>
      <p:pic>
        <p:nvPicPr>
          <p:cNvPr id="433" name="Straight Connector 16" descr=""/>
          <p:cNvPicPr/>
          <p:nvPr/>
        </p:nvPicPr>
        <p:blipFill>
          <a:blip r:embed="rId7"/>
          <a:stretch/>
        </p:blipFill>
        <p:spPr>
          <a:xfrm>
            <a:off x="3067200" y="4127400"/>
            <a:ext cx="1663560" cy="176400"/>
          </a:xfrm>
          <a:prstGeom prst="rect">
            <a:avLst/>
          </a:prstGeom>
          <a:ln w="0">
            <a:noFill/>
          </a:ln>
        </p:spPr>
      </p:pic>
      <p:pic>
        <p:nvPicPr>
          <p:cNvPr id="434" name="Straight Connector 17" descr=""/>
          <p:cNvPicPr/>
          <p:nvPr/>
        </p:nvPicPr>
        <p:blipFill>
          <a:blip r:embed="rId8"/>
          <a:stretch/>
        </p:blipFill>
        <p:spPr>
          <a:xfrm>
            <a:off x="3279600" y="4559400"/>
            <a:ext cx="1663920" cy="177840"/>
          </a:xfrm>
          <a:prstGeom prst="rect">
            <a:avLst/>
          </a:prstGeom>
          <a:ln w="0">
            <a:noFill/>
          </a:ln>
        </p:spPr>
      </p:pic>
      <p:pic>
        <p:nvPicPr>
          <p:cNvPr id="435" name="Straight Connector 18" descr=""/>
          <p:cNvPicPr/>
          <p:nvPr/>
        </p:nvPicPr>
        <p:blipFill>
          <a:blip r:embed="rId9"/>
          <a:stretch/>
        </p:blipFill>
        <p:spPr>
          <a:xfrm>
            <a:off x="5638680" y="4559400"/>
            <a:ext cx="1663920" cy="177840"/>
          </a:xfrm>
          <a:prstGeom prst="rect">
            <a:avLst/>
          </a:prstGeom>
          <a:ln w="0">
            <a:noFill/>
          </a:ln>
        </p:spPr>
      </p:pic>
      <p:pic>
        <p:nvPicPr>
          <p:cNvPr id="436" name="Straight Connector 19" descr=""/>
          <p:cNvPicPr/>
          <p:nvPr/>
        </p:nvPicPr>
        <p:blipFill>
          <a:blip r:embed="rId10"/>
          <a:stretch/>
        </p:blipFill>
        <p:spPr>
          <a:xfrm>
            <a:off x="2567160" y="4986360"/>
            <a:ext cx="1376280" cy="176040"/>
          </a:xfrm>
          <a:prstGeom prst="rect">
            <a:avLst/>
          </a:prstGeom>
          <a:ln w="0">
            <a:noFill/>
          </a:ln>
        </p:spPr>
      </p:pic>
      <p:pic>
        <p:nvPicPr>
          <p:cNvPr id="437" name="Straight Connector 21" descr=""/>
          <p:cNvPicPr/>
          <p:nvPr/>
        </p:nvPicPr>
        <p:blipFill>
          <a:blip r:embed="rId11"/>
          <a:stretch/>
        </p:blipFill>
        <p:spPr>
          <a:xfrm>
            <a:off x="1206360" y="2200320"/>
            <a:ext cx="1305000" cy="1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Шта су они радили?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279720" y="14288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1785960" y="15717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ам учио/уч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1870200" y="207180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и учио/уч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2071800" y="2643120"/>
            <a:ext cx="140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је учи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је уч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290520" y="40006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ж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1811520" y="426240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мо учили/учи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1854720" y="471492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те учили/учи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1865880" y="5143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у уч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1214280" y="2714760"/>
            <a:ext cx="64296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  <a:ea typeface="Times New Roman"/>
              </a:rPr>
              <a:t>О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20"/>
          <p:cNvSpPr/>
          <p:nvPr/>
        </p:nvSpPr>
        <p:spPr>
          <a:xfrm>
            <a:off x="1000080" y="3143160"/>
            <a:ext cx="92880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О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21"/>
          <p:cNvSpPr/>
          <p:nvPr/>
        </p:nvSpPr>
        <p:spPr>
          <a:xfrm>
            <a:off x="1071720" y="3571920"/>
            <a:ext cx="9284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  <a:ea typeface="Times New Roman"/>
              </a:rPr>
              <a:t>О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22"/>
          <p:cNvSpPr/>
          <p:nvPr/>
        </p:nvSpPr>
        <p:spPr>
          <a:xfrm>
            <a:off x="1285920" y="2143080"/>
            <a:ext cx="500040" cy="493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23"/>
          <p:cNvSpPr/>
          <p:nvPr/>
        </p:nvSpPr>
        <p:spPr>
          <a:xfrm>
            <a:off x="1357200" y="1571760"/>
            <a:ext cx="45576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24"/>
          <p:cNvSpPr/>
          <p:nvPr/>
        </p:nvSpPr>
        <p:spPr>
          <a:xfrm>
            <a:off x="928800" y="5143680"/>
            <a:ext cx="1000080" cy="57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О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25"/>
          <p:cNvSpPr/>
          <p:nvPr/>
        </p:nvSpPr>
        <p:spPr>
          <a:xfrm>
            <a:off x="1000080" y="5572080"/>
            <a:ext cx="857160" cy="428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О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27"/>
          <p:cNvSpPr/>
          <p:nvPr/>
        </p:nvSpPr>
        <p:spPr>
          <a:xfrm>
            <a:off x="1071720" y="4786200"/>
            <a:ext cx="714240" cy="49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В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8"/>
          <p:cNvSpPr/>
          <p:nvPr/>
        </p:nvSpPr>
        <p:spPr>
          <a:xfrm>
            <a:off x="1071720" y="4286160"/>
            <a:ext cx="785520" cy="587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929120" y="1714680"/>
          <a:ext cx="4000680" cy="4144680"/>
        </p:xfrm>
        <a:graphic>
          <a:graphicData uri="http://schemas.openxmlformats.org/drawingml/2006/table">
            <a:tbl>
              <a:tblPr/>
              <a:tblGrid>
                <a:gridCol w="1357560"/>
                <a:gridCol w="2643120"/>
              </a:tblGrid>
              <a:tr h="520560">
                <a:tc gridSpan="2"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Једнин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је учи</a:t>
                      </a:r>
                      <a:r>
                        <a:rPr b="0" lang="sr-RS" sz="2800" spc="-1" strike="noStrike">
                          <a:solidFill>
                            <a:srgbClr val="0070c0"/>
                          </a:solidFill>
                          <a:latin typeface="Corbe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је учи</a:t>
                      </a:r>
                      <a:r>
                        <a:rPr b="0" lang="sr-RS" sz="28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је учи</a:t>
                      </a:r>
                      <a:r>
                        <a:rPr b="0" lang="sr-RS" sz="2800" spc="-1" strike="noStrike">
                          <a:solidFill>
                            <a:srgbClr val="00b050"/>
                          </a:solidFill>
                          <a:latin typeface="Corbel"/>
                          <a:ea typeface="Times New Roman"/>
                        </a:rPr>
                        <a:t>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Множ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су учи</a:t>
                      </a:r>
                      <a:r>
                        <a:rPr b="0" lang="sr-RS" sz="2800" spc="-1" strike="noStrike">
                          <a:solidFill>
                            <a:srgbClr val="0070c0"/>
                          </a:solidFill>
                          <a:latin typeface="Corbel"/>
                          <a:ea typeface="Times New Roman"/>
                        </a:rPr>
                        <a:t>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О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су учи</a:t>
                      </a:r>
                      <a:r>
                        <a:rPr b="0" lang="sr-RS" sz="28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Он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су учи</a:t>
                      </a:r>
                      <a:r>
                        <a:rPr b="0" lang="sr-RS" sz="2800" spc="-1" strike="noStrike">
                          <a:solidFill>
                            <a:srgbClr val="00b050"/>
                          </a:solidFill>
                          <a:latin typeface="Corbel"/>
                          <a:ea typeface="Times New Roman"/>
                        </a:rPr>
                        <a:t>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Oval 15"/>
          <p:cNvSpPr/>
          <p:nvPr/>
        </p:nvSpPr>
        <p:spPr>
          <a:xfrm>
            <a:off x="2714760" y="1428840"/>
            <a:ext cx="214200" cy="214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3571920" y="1428840"/>
            <a:ext cx="21420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3357720" y="5715000"/>
            <a:ext cx="21420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32"/>
          <p:cNvSpPr/>
          <p:nvPr/>
        </p:nvSpPr>
        <p:spPr>
          <a:xfrm>
            <a:off x="3500280" y="3714840"/>
            <a:ext cx="214560" cy="2142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33"/>
          <p:cNvSpPr/>
          <p:nvPr/>
        </p:nvSpPr>
        <p:spPr>
          <a:xfrm>
            <a:off x="3357720" y="6159600"/>
            <a:ext cx="214200" cy="198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43"/>
          <p:cNvSpPr/>
          <p:nvPr/>
        </p:nvSpPr>
        <p:spPr>
          <a:xfrm>
            <a:off x="3357720" y="2786040"/>
            <a:ext cx="214200" cy="214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44"/>
          <p:cNvSpPr/>
          <p:nvPr/>
        </p:nvSpPr>
        <p:spPr>
          <a:xfrm>
            <a:off x="3429000" y="3214800"/>
            <a:ext cx="21420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45"/>
          <p:cNvSpPr/>
          <p:nvPr/>
        </p:nvSpPr>
        <p:spPr>
          <a:xfrm>
            <a:off x="2081520" y="35002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је учи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46"/>
          <p:cNvSpPr/>
          <p:nvPr/>
        </p:nvSpPr>
        <p:spPr>
          <a:xfrm>
            <a:off x="2795760" y="4143240"/>
            <a:ext cx="214200" cy="214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47"/>
          <p:cNvSpPr/>
          <p:nvPr/>
        </p:nvSpPr>
        <p:spPr>
          <a:xfrm>
            <a:off x="3857760" y="4143240"/>
            <a:ext cx="214200" cy="21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48"/>
          <p:cNvSpPr/>
          <p:nvPr/>
        </p:nvSpPr>
        <p:spPr>
          <a:xfrm>
            <a:off x="1873440" y="55483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у учи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49"/>
          <p:cNvSpPr/>
          <p:nvPr/>
        </p:nvSpPr>
        <p:spPr>
          <a:xfrm>
            <a:off x="1000080" y="6000840"/>
            <a:ext cx="92880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О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50"/>
          <p:cNvSpPr/>
          <p:nvPr/>
        </p:nvSpPr>
        <p:spPr>
          <a:xfrm>
            <a:off x="1895760" y="5977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у уч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51"/>
          <p:cNvSpPr/>
          <p:nvPr/>
        </p:nvSpPr>
        <p:spPr>
          <a:xfrm>
            <a:off x="3357720" y="5286240"/>
            <a:ext cx="214200" cy="214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4297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ea157a"/>
                </a:solidFill>
                <a:latin typeface="Consolas"/>
              </a:rPr>
              <a:t>2. </a:t>
            </a:r>
            <a:r>
              <a:rPr b="1" lang="sr-RS" sz="3200" spc="-1" strike="noStrike">
                <a:solidFill>
                  <a:srgbClr val="ea157a"/>
                </a:solidFill>
                <a:latin typeface="Consolas"/>
              </a:rPr>
              <a:t>Препиши текст. Реченице из садашњег времена напиши у прошлом времену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Сваког јутра Весна иде у школу. И као сваки ђак, носи тешку торбу на леђима. А шта се све не налази у тој торби... Она и даље, без речи, ради исто сваког дана. Торба је све већа, све шира, све дебља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0438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c1eeff"/>
                </a:solidFill>
                <a:latin typeface="Consolas"/>
              </a:rPr>
              <a:t>3.</a:t>
            </a:r>
            <a:r>
              <a:rPr b="0" lang="sr-RS" sz="3200" spc="-1" strike="noStrike">
                <a:solidFill>
                  <a:srgbClr val="c1eeff"/>
                </a:solidFill>
                <a:latin typeface="Consolas"/>
              </a:rPr>
              <a:t>Допуни дијалог речима у загради у прошлом времену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64268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Милош: Како ти се __________ (допасти) филм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Марко: ____________ (уживати) сам иако сам га већ _____________ (гледати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Милош: Зашто си опет _________ (ићи) у биоскоп ако си већ гледао филм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Марко: ________ ми ______ (свидети се) јако, а и ____________ (хтети) да ти правим друштво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2"/>
          <p:cNvSpPr/>
          <p:nvPr/>
        </p:nvSpPr>
        <p:spPr>
          <a:xfrm>
            <a:off x="1303200" y="13572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 ће они ради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itle 27"/>
          <p:cNvSpPr/>
          <p:nvPr/>
        </p:nvSpPr>
        <p:spPr>
          <a:xfrm>
            <a:off x="571680" y="428760"/>
            <a:ext cx="7716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6357960" y="857160"/>
            <a:ext cx="2074680" cy="85428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ЋЕ ВР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7"/>
          <p:cNvSpPr/>
          <p:nvPr/>
        </p:nvSpPr>
        <p:spPr>
          <a:xfrm>
            <a:off x="999720" y="2857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18"/>
          <p:cNvSpPr/>
          <p:nvPr/>
        </p:nvSpPr>
        <p:spPr>
          <a:xfrm>
            <a:off x="997200" y="32986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20"/>
          <p:cNvSpPr/>
          <p:nvPr/>
        </p:nvSpPr>
        <p:spPr>
          <a:xfrm>
            <a:off x="1003320" y="3759120"/>
            <a:ext cx="109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/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1001160" y="48657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Box 22"/>
          <p:cNvSpPr/>
          <p:nvPr/>
        </p:nvSpPr>
        <p:spPr>
          <a:xfrm>
            <a:off x="999000" y="531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23"/>
          <p:cNvSpPr/>
          <p:nvPr/>
        </p:nvSpPr>
        <p:spPr>
          <a:xfrm>
            <a:off x="929880" y="581328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/он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ounded Rectangle 10"/>
          <p:cNvSpPr/>
          <p:nvPr/>
        </p:nvSpPr>
        <p:spPr>
          <a:xfrm>
            <a:off x="243360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ounded Rectangle 11"/>
          <p:cNvSpPr/>
          <p:nvPr/>
        </p:nvSpPr>
        <p:spPr>
          <a:xfrm>
            <a:off x="243360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ш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ounded Rectangle 12"/>
          <p:cNvSpPr/>
          <p:nvPr/>
        </p:nvSpPr>
        <p:spPr>
          <a:xfrm>
            <a:off x="2433600" y="403848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ounded Rectangle 13"/>
          <p:cNvSpPr/>
          <p:nvPr/>
        </p:nvSpPr>
        <p:spPr>
          <a:xfrm>
            <a:off x="2428920" y="4908600"/>
            <a:ext cx="22334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ounded Rectangle 14"/>
          <p:cNvSpPr/>
          <p:nvPr/>
        </p:nvSpPr>
        <p:spPr>
          <a:xfrm>
            <a:off x="2430360" y="548172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ounded Rectangle 15"/>
          <p:cNvSpPr/>
          <p:nvPr/>
        </p:nvSpPr>
        <p:spPr>
          <a:xfrm>
            <a:off x="2430360" y="607536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ounded Rectangle 16"/>
          <p:cNvSpPr/>
          <p:nvPr/>
        </p:nvSpPr>
        <p:spPr>
          <a:xfrm>
            <a:off x="491508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ounded Rectangle 17"/>
          <p:cNvSpPr/>
          <p:nvPr/>
        </p:nvSpPr>
        <p:spPr>
          <a:xfrm>
            <a:off x="491508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ounded Rectangle 18"/>
          <p:cNvSpPr/>
          <p:nvPr/>
        </p:nvSpPr>
        <p:spPr>
          <a:xfrm>
            <a:off x="4915080" y="402120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ounded Rectangle 19"/>
          <p:cNvSpPr/>
          <p:nvPr/>
        </p:nvSpPr>
        <p:spPr>
          <a:xfrm>
            <a:off x="4915080" y="489096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ounded Rectangle 20"/>
          <p:cNvSpPr/>
          <p:nvPr/>
        </p:nvSpPr>
        <p:spPr>
          <a:xfrm>
            <a:off x="4915080" y="5462640"/>
            <a:ext cx="2228760" cy="4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ounded Rectangle 21"/>
          <p:cNvSpPr/>
          <p:nvPr/>
        </p:nvSpPr>
        <p:spPr>
          <a:xfrm>
            <a:off x="4915080" y="6058080"/>
            <a:ext cx="2228760" cy="47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Curved Down Arrow 22"/>
          <p:cNvSpPr/>
          <p:nvPr/>
        </p:nvSpPr>
        <p:spPr>
          <a:xfrm>
            <a:off x="2922480" y="2389320"/>
            <a:ext cx="3864240" cy="509400"/>
          </a:xfrm>
          <a:custGeom>
            <a:avLst/>
            <a:gdLst>
              <a:gd name="textAreaLeft" fmla="*/ 866880 w 3864240"/>
              <a:gd name="textAreaRight" fmla="*/ 2728800 w 3864240"/>
              <a:gd name="textAreaTop" fmla="*/ 68040 h 509400"/>
              <a:gd name="textAreaBottom" fmla="*/ 4413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4" hR="21600" stAng="10800000" swAng="5400000"/>
                <a:lnTo>
                  <a:pt x="10406" y="0"/>
                </a:lnTo>
                <a:arcTo wR="9694" hR="21600" stAng="-5400000" swAng="3605178"/>
                <a:lnTo>
                  <a:pt x="21292" y="16200"/>
                </a:lnTo>
                <a:lnTo>
                  <a:pt x="19743" y="21600"/>
                </a:lnTo>
                <a:lnTo>
                  <a:pt x="17578" y="16200"/>
                </a:lnTo>
                <a:lnTo>
                  <a:pt x="19079" y="16200"/>
                </a:lnTo>
                <a:arcTo wR="9694" hR="21600" stAng="-1794822" swAng="-3548485"/>
                <a:lnTo>
                  <a:pt x="10050" y="15"/>
                </a:lnTo>
                <a:arcTo wR="9694" hR="21600" stAng="-5456692" swAng="-5343308"/>
                <a:close/>
              </a:path>
              <a:path fill="darkenLess" w="21600" h="21600">
                <a:moveTo>
                  <a:pt x="0" y="21600"/>
                </a:moveTo>
                <a:arcTo wR="9694" hR="21600" stAng="10800000" swAng="5400000"/>
                <a:lnTo>
                  <a:pt x="9694" y="0"/>
                </a:lnTo>
                <a:arcTo wR="9694" hR="21600" stAng="-5400000" swAng="56692"/>
                <a:lnTo>
                  <a:pt x="10050" y="15"/>
                </a:lnTo>
                <a:arcTo wR="9694" hR="21600" stAng="-5456692" swAng="-5343308"/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12"/>
          <p:cNvSpPr/>
          <p:nvPr/>
        </p:nvSpPr>
        <p:spPr>
          <a:xfrm>
            <a:off x="1303200" y="13572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 ће они ради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itle 27"/>
          <p:cNvSpPr/>
          <p:nvPr/>
        </p:nvSpPr>
        <p:spPr>
          <a:xfrm>
            <a:off x="571680" y="428760"/>
            <a:ext cx="7716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6357960" y="857160"/>
            <a:ext cx="2074680" cy="85428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ЋЕ ВР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999720" y="2857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8"/>
          <p:cNvSpPr/>
          <p:nvPr/>
        </p:nvSpPr>
        <p:spPr>
          <a:xfrm>
            <a:off x="997200" y="32986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20"/>
          <p:cNvSpPr/>
          <p:nvPr/>
        </p:nvSpPr>
        <p:spPr>
          <a:xfrm>
            <a:off x="1003320" y="3759120"/>
            <a:ext cx="109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/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21"/>
          <p:cNvSpPr/>
          <p:nvPr/>
        </p:nvSpPr>
        <p:spPr>
          <a:xfrm>
            <a:off x="1001160" y="48657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22"/>
          <p:cNvSpPr/>
          <p:nvPr/>
        </p:nvSpPr>
        <p:spPr>
          <a:xfrm>
            <a:off x="999000" y="531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23"/>
          <p:cNvSpPr/>
          <p:nvPr/>
        </p:nvSpPr>
        <p:spPr>
          <a:xfrm>
            <a:off x="929880" y="581328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/он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ounded Rectangle 10"/>
          <p:cNvSpPr/>
          <p:nvPr/>
        </p:nvSpPr>
        <p:spPr>
          <a:xfrm>
            <a:off x="243360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ounded Rectangle 11"/>
          <p:cNvSpPr/>
          <p:nvPr/>
        </p:nvSpPr>
        <p:spPr>
          <a:xfrm>
            <a:off x="243360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ш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ounded Rectangle 12"/>
          <p:cNvSpPr/>
          <p:nvPr/>
        </p:nvSpPr>
        <p:spPr>
          <a:xfrm>
            <a:off x="2433600" y="403848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ounded Rectangle 13"/>
          <p:cNvSpPr/>
          <p:nvPr/>
        </p:nvSpPr>
        <p:spPr>
          <a:xfrm>
            <a:off x="2428920" y="4908600"/>
            <a:ext cx="22334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ounded Rectangle 14"/>
          <p:cNvSpPr/>
          <p:nvPr/>
        </p:nvSpPr>
        <p:spPr>
          <a:xfrm>
            <a:off x="2430360" y="548172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ounded Rectangle 15"/>
          <p:cNvSpPr/>
          <p:nvPr/>
        </p:nvSpPr>
        <p:spPr>
          <a:xfrm>
            <a:off x="2430360" y="607536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ounded Rectangle 16"/>
          <p:cNvSpPr/>
          <p:nvPr/>
        </p:nvSpPr>
        <p:spPr>
          <a:xfrm>
            <a:off x="491508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ounded Rectangle 17"/>
          <p:cNvSpPr/>
          <p:nvPr/>
        </p:nvSpPr>
        <p:spPr>
          <a:xfrm>
            <a:off x="491508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ounded Rectangle 18"/>
          <p:cNvSpPr/>
          <p:nvPr/>
        </p:nvSpPr>
        <p:spPr>
          <a:xfrm>
            <a:off x="4915080" y="402120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ounded Rectangle 19"/>
          <p:cNvSpPr/>
          <p:nvPr/>
        </p:nvSpPr>
        <p:spPr>
          <a:xfrm>
            <a:off x="4915080" y="489096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ounded Rectangle 20"/>
          <p:cNvSpPr/>
          <p:nvPr/>
        </p:nvSpPr>
        <p:spPr>
          <a:xfrm>
            <a:off x="4915080" y="5462640"/>
            <a:ext cx="2228760" cy="4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ounded Rectangle 21"/>
          <p:cNvSpPr/>
          <p:nvPr/>
        </p:nvSpPr>
        <p:spPr>
          <a:xfrm>
            <a:off x="4915080" y="6058080"/>
            <a:ext cx="2228760" cy="47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Curved Down Arrow 22"/>
          <p:cNvSpPr/>
          <p:nvPr/>
        </p:nvSpPr>
        <p:spPr>
          <a:xfrm>
            <a:off x="2922480" y="2389320"/>
            <a:ext cx="3864240" cy="509400"/>
          </a:xfrm>
          <a:custGeom>
            <a:avLst/>
            <a:gdLst>
              <a:gd name="textAreaLeft" fmla="*/ 866880 w 3864240"/>
              <a:gd name="textAreaRight" fmla="*/ 2728800 w 3864240"/>
              <a:gd name="textAreaTop" fmla="*/ 68040 h 509400"/>
              <a:gd name="textAreaBottom" fmla="*/ 4413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4" hR="21600" stAng="10800000" swAng="5400000"/>
                <a:lnTo>
                  <a:pt x="10406" y="0"/>
                </a:lnTo>
                <a:arcTo wR="9694" hR="21600" stAng="-5400000" swAng="3605178"/>
                <a:lnTo>
                  <a:pt x="21292" y="16200"/>
                </a:lnTo>
                <a:lnTo>
                  <a:pt x="19743" y="21600"/>
                </a:lnTo>
                <a:lnTo>
                  <a:pt x="17578" y="16200"/>
                </a:lnTo>
                <a:lnTo>
                  <a:pt x="19079" y="16200"/>
                </a:lnTo>
                <a:arcTo wR="9694" hR="21600" stAng="-1794822" swAng="-3548485"/>
                <a:lnTo>
                  <a:pt x="10050" y="15"/>
                </a:lnTo>
                <a:arcTo wR="9694" hR="21600" stAng="-5456692" swAng="-5343308"/>
                <a:close/>
              </a:path>
              <a:path fill="darkenLess" w="21600" h="21600">
                <a:moveTo>
                  <a:pt x="0" y="21600"/>
                </a:moveTo>
                <a:arcTo wR="9694" hR="21600" stAng="10800000" swAng="5400000"/>
                <a:lnTo>
                  <a:pt x="9694" y="0"/>
                </a:lnTo>
                <a:arcTo wR="9694" hR="21600" stAng="-5400000" swAng="56692"/>
                <a:lnTo>
                  <a:pt x="10050" y="15"/>
                </a:lnTo>
                <a:arcTo wR="9694" hR="21600" stAng="-5456692" swAng="-5343308"/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864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c1eeff"/>
                </a:solidFill>
                <a:latin typeface="Consolas"/>
              </a:rPr>
              <a:t>4.</a:t>
            </a:r>
            <a:r>
              <a:rPr b="0" lang="sr-RS" sz="3200" spc="-1" strike="noStrike">
                <a:solidFill>
                  <a:srgbClr val="c1eeff"/>
                </a:solidFill>
                <a:latin typeface="Consolas"/>
              </a:rPr>
              <a:t>Посматрај илустрације и састави реченице. Испричај</a:t>
            </a:r>
            <a:r>
              <a:rPr b="0" lang="sr-Latn-RS" sz="32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sr-RS" sz="3200" spc="-1" strike="noStrike">
                <a:solidFill>
                  <a:srgbClr val="c1eeff"/>
                </a:solidFill>
                <a:latin typeface="Consolas"/>
              </a:rPr>
              <a:t>шта ће она сутра радити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1" name="Picture 2" descr="Cartoon Little Girl Daily Routine Illustration Vector — Stock Vector"/>
          <p:cNvPicPr/>
          <p:nvPr/>
        </p:nvPicPr>
        <p:blipFill>
          <a:blip r:embed="rId1"/>
          <a:srcRect l="0" t="0" r="1125" b="7403"/>
          <a:stretch/>
        </p:blipFill>
        <p:spPr>
          <a:xfrm>
            <a:off x="2357280" y="1525680"/>
            <a:ext cx="521496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c1eeff"/>
                </a:solidFill>
                <a:latin typeface="Consolas"/>
              </a:rPr>
              <a:t>5. </a:t>
            </a:r>
            <a:r>
              <a:rPr b="0" lang="sr-RS" sz="3200" spc="-1" strike="noStrike">
                <a:solidFill>
                  <a:srgbClr val="c1eeff"/>
                </a:solidFill>
                <a:latin typeface="Consolas"/>
              </a:rPr>
              <a:t>Препиши реченице. Изостави истакнуте речи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Маја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ће устати рано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Она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ће доручковати у 8 сати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Мама и тата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ће отићи на посао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Брат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ће стићи из школе око 13 часова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Милица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 ће се вратити раниј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Породица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ће ручати заједно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Corbel"/>
              </a:rPr>
              <a:t>Сви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ће увече гледати филм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8:19:42Z</dcterms:created>
  <dc:creator>Natasa</dc:creator>
  <dc:description/>
  <dc:language>en-US</dc:language>
  <cp:lastModifiedBy>Natasa</cp:lastModifiedBy>
  <dcterms:modified xsi:type="dcterms:W3CDTF">2022-03-05T19:49:53Z</dcterms:modified>
  <cp:revision>19</cp:revision>
  <dc:subject/>
  <dc:title>Припрема за контролни задатак</dc:title>
</cp:coreProperties>
</file>