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6B7-E964-4FF4-A8A4-6932CF14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FEF-2BCA-48A8-9C56-31C96A94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1D2-1ABC-46D6-89CD-28DAEB30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3A4-52E2-487B-9C7C-F58E71FD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B93-FC1F-4BE0-AACE-184AE8D7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819-AABD-443A-90AF-A826E09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6AF-F0CD-4CB6-8007-FCD99DE1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90B-D5C1-4B80-B145-45FD0292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459-76DB-479A-B8D8-A9AFC02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EB3-8EBF-4C97-A907-C361480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DF1-3DE3-46A1-9900-5A248F9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EB5-6176-464B-9C4C-9D0D7DA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83D-F1EE-4866-B38C-7524E693113D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кав и как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кви су они? Како они трч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428920" y="1560600"/>
            <a:ext cx="4178160" cy="3154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009800" y="4857840"/>
            <a:ext cx="296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ечак је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рз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евојчица је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рз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еца су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рз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822200" y="53341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еца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зо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тр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кав?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Как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648520" y="16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р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436000" y="164304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рз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8"/>
          <p:cNvSpPr/>
          <p:nvPr/>
        </p:nvSpPr>
        <p:spPr>
          <a:xfrm>
            <a:off x="4071960" y="171468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720160" y="257184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507280" y="25718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ле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5"/>
          <p:cNvSpPr/>
          <p:nvPr/>
        </p:nvSpPr>
        <p:spPr>
          <a:xfrm>
            <a:off x="4143240" y="264312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720520" y="3497400"/>
            <a:ext cx="14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об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5506920" y="34974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8"/>
          <p:cNvSpPr/>
          <p:nvPr/>
        </p:nvSpPr>
        <p:spPr>
          <a:xfrm>
            <a:off x="4143240" y="356868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2801880" y="456876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м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5588280" y="45687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м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21"/>
          <p:cNvSpPr/>
          <p:nvPr/>
        </p:nvSpPr>
        <p:spPr>
          <a:xfrm>
            <a:off x="4224240" y="46404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2505600" y="5425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5587560" y="542592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ре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24"/>
          <p:cNvSpPr/>
          <p:nvPr/>
        </p:nvSpPr>
        <p:spPr>
          <a:xfrm>
            <a:off x="4224240" y="549756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Особина може бити изражена у различитом степен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34240" y="157176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936960" y="157176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еп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1505160" y="22860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007880" y="2286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436040" y="29289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3939120" y="292896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пор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291320" y="36432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3936600" y="371160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н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213200" y="43578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гла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3857400" y="4357800"/>
            <a:ext cx="18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гласн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8"/>
          <p:cNvSpPr/>
          <p:nvPr/>
        </p:nvSpPr>
        <p:spPr>
          <a:xfrm>
            <a:off x="6069960" y="157176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еп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6140880" y="2286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6228000" y="29289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пор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6211800" y="36432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н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6276240" y="4357800"/>
            <a:ext cx="24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гласн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Особина може бити изражена у различитом степен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32800" y="157176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т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35520" y="157176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ти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362600" y="2286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р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4013640" y="228600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р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291680" y="2928960"/>
            <a:ext cx="14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об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3944160" y="299736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ољ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292040" y="364320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м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940560" y="37116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мањ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1221480" y="4357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и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15080" y="4357800"/>
            <a:ext cx="12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и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6069960" y="157176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тип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6138000" y="228600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р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49520" y="2928960"/>
            <a:ext cx="18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ољ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6212160" y="364320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мањ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6282360" y="4357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и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Научим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58720" y="142884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пишемо заједно с речи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292400" y="22860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3370680" y="228600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р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293120" y="292896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515400" y="299736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ољ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293120" y="364320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592080" y="364320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ј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1327320" y="43578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579840" y="4357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јасн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6138000" y="228600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р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6149520" y="2928960"/>
            <a:ext cx="18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ољ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>
            <a:off x="6211080" y="3643200"/>
            <a:ext cx="15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ј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2"/>
          <p:cNvSpPr/>
          <p:nvPr/>
        </p:nvSpPr>
        <p:spPr>
          <a:xfrm>
            <a:off x="6283800" y="435780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ј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асн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21"/>
          <p:cNvSpPr/>
          <p:nvPr/>
        </p:nvSpPr>
        <p:spPr>
          <a:xfrm>
            <a:off x="4857840" y="23572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24"/>
          <p:cNvSpPr/>
          <p:nvPr/>
        </p:nvSpPr>
        <p:spPr>
          <a:xfrm>
            <a:off x="4929120" y="300024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Arrow 25"/>
          <p:cNvSpPr/>
          <p:nvPr/>
        </p:nvSpPr>
        <p:spPr>
          <a:xfrm>
            <a:off x="4929120" y="364320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Arrow 26"/>
          <p:cNvSpPr/>
          <p:nvPr/>
        </p:nvSpPr>
        <p:spPr>
          <a:xfrm>
            <a:off x="5357880" y="44290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И начин вршења радње може бити изражен у различитом степен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474640" y="157176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234320" y="157176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лак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402280" y="22860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тих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293000" y="228600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ти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2423880" y="29289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4241880" y="299736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ољ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2493360" y="36432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150080" y="364320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редн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2264760" y="435780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ла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4294440" y="435780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слаб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6069600" y="1571760"/>
            <a:ext cx="20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6139800" y="2286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ти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161760" y="292896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ољ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6212160" y="364320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н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6284160" y="43578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лаб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505080" y="157176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504000" y="22860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т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62880" y="2928960"/>
            <a:ext cx="14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об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362520" y="36432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ре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362520" y="43578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ла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33"/>
          <p:cNvSpPr/>
          <p:nvPr/>
        </p:nvSpPr>
        <p:spPr>
          <a:xfrm>
            <a:off x="1571760" y="1571760"/>
            <a:ext cx="571320" cy="5713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Arrow 34"/>
          <p:cNvSpPr/>
          <p:nvPr/>
        </p:nvSpPr>
        <p:spPr>
          <a:xfrm>
            <a:off x="1571760" y="23572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ight Arrow 35"/>
          <p:cNvSpPr/>
          <p:nvPr/>
        </p:nvSpPr>
        <p:spPr>
          <a:xfrm>
            <a:off x="1785960" y="300024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ight Arrow 36"/>
          <p:cNvSpPr/>
          <p:nvPr/>
        </p:nvSpPr>
        <p:spPr>
          <a:xfrm>
            <a:off x="2000160" y="3714840"/>
            <a:ext cx="428760" cy="5713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Arrow 37"/>
          <p:cNvSpPr/>
          <p:nvPr/>
        </p:nvSpPr>
        <p:spPr>
          <a:xfrm>
            <a:off x="1571760" y="44290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одсетимо се прави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58720" y="142884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пишемо заједно с речи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1292400" y="22860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382920" y="228600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р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293120" y="292896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527280" y="299736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бољ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1293120" y="364320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3578040" y="364320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ја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1327320" y="43578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ај-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592080" y="435780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јасн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6150240" y="2286000"/>
            <a:ext cx="18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р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6161760" y="292896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ољ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6223320" y="36432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ј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а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6296040" y="43578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јј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асн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21"/>
          <p:cNvSpPr/>
          <p:nvPr/>
        </p:nvSpPr>
        <p:spPr>
          <a:xfrm>
            <a:off x="4857840" y="23572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24"/>
          <p:cNvSpPr/>
          <p:nvPr/>
        </p:nvSpPr>
        <p:spPr>
          <a:xfrm>
            <a:off x="4929120" y="300024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25"/>
          <p:cNvSpPr/>
          <p:nvPr/>
        </p:nvSpPr>
        <p:spPr>
          <a:xfrm>
            <a:off x="4929120" y="364320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26"/>
          <p:cNvSpPr/>
          <p:nvPr/>
        </p:nvSpPr>
        <p:spPr>
          <a:xfrm>
            <a:off x="5357880" y="44290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авописни дикта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00040" y="142884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атематика ми је најтежи предме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даци које радимо код куће тежи су 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датака које имамо за домаћи. Није 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увек све најјасније. Онда тражимо да нам наставница поново објас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 њеног објашњења знам да урадим и најсложеније зада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6T12:29:11Z</dcterms:created>
  <dc:creator>Natasa</dc:creator>
  <dc:description/>
  <dc:language>en-US</dc:language>
  <cp:lastModifiedBy>Natasa</cp:lastModifiedBy>
  <dcterms:modified xsi:type="dcterms:W3CDTF">2022-03-11T14:54:17Z</dcterms:modified>
  <cp:revision>16</cp:revision>
  <dc:subject/>
  <dc:title>Какав и како?</dc:title>
</cp:coreProperties>
</file>