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4DC-C856-4C4E-AB2B-58E15FE0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6C2-7518-4DAA-92A6-9EEDE3B2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DB2-EDFB-4676-AAD5-0B568502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00A-72B4-4470-934C-7AD0E276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BDBB-1E04-423F-82F0-B1657FA1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B1FA-2279-437F-8740-73C5356B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429A-5D07-43A0-85D4-E5DBAF64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A80D-AB3E-4758-A66E-3085A83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1DF4-BB13-40B9-9C22-41FFD5AB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4E13-2241-4F8F-A0ED-FC15DF01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2FFA-1AF9-457E-B041-3EFD4F9B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1B5-EEE0-4123-B14A-C72021DA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D4DB-263B-4B19-A238-87B00A9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EBCE-C281-492C-B722-F07CAF61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6597-8114-4B9D-97BA-B0F6C8B2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ABFA-8D6F-44CB-9A63-641D4CAF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04A2-4EE1-40CA-BC86-1D611A6D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F144-8239-4444-8136-91A41E5B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68BB-51F4-4EE3-B4D4-CDC54FBC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F2C2-D4F2-4104-B076-174980AA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32D1-8738-484A-B3D0-0860D68E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3EE1-452B-4333-94CF-03308604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8E5-5611-4D32-A2CC-F7802859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32817-B9DC-42D4-A799-26AC9A85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24CE-02B8-4B3D-98C3-338ECD9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929C-5504-44FB-BFFC-A9A29CEA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0D65-65C3-48EB-8DFB-D33EEB5E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842A-4512-471A-B410-BD525481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5FFB-867D-411F-8ABD-65DE126A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D742-07D1-4BB1-ACB2-5805EFD6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89A8-0118-44CB-941F-BEDEEACF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0EE7-5007-47B9-8BEC-BE169EE4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50AD-63B9-4303-BF38-BC36DE6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8CA-1507-4DAA-989F-7E8149D7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8314D-9614-4226-8A8B-92A1BC77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A40D-44B2-4227-8831-BD7C1C37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6AA7B-D030-4E0C-9E68-85286665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F718-6D37-45C2-B157-66D51CF5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D265-792B-4EBC-A29E-CF147EE6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D9C2E-668B-4EDC-BBD2-802335F2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7A368-D144-41E6-8B52-C7FE2C6B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9A666-ECA2-43CF-9DCB-3DA5B918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F8C4-D30D-4F5F-9D8D-B01A2490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E694B-3991-4F29-8F0C-386778BB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DCC-517E-481D-953B-B9733D79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AB666-E8E7-42BB-89F0-40210B9C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63484-1FBD-45AB-8ADC-C7DA1FEC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D54C8-8A1D-42A1-9B0E-9062A83B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5B215-19A6-4F47-91AA-48C50F87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EC201-EAF5-4C22-A384-2196D697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59025-BF05-44AD-98B4-1D01632C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3FC48-576E-4C6F-AC17-D3020B5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DC245-0815-4588-B5C9-F257AF3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F2D19-5222-4ADA-9F07-8CA27F56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8F36A-1F8C-4F09-8C6F-6620EDE5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A80-E1E2-4283-AF4F-BED83754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57317-C9C0-4037-83BE-3DFF91DD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320-4D60-4E1D-815D-D556DCC8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E81-8822-46A3-95D4-E020346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77D-5E76-4AF5-8496-943B1623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8883-C0D7-4CFA-96CA-B53276F3EE77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4920" cy="6858000"/>
              <a:chOff x="0" y="0"/>
              <a:chExt cx="354492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1960" y="0"/>
                <a:ext cx="10296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145F-3898-49B9-B17F-EA5228337205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3120" y="0"/>
              <a:ext cx="10152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87D1-DC11-44BB-9EE9-857B8AB37541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7D77-DEF4-4894-8893-3064507CA4DD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F73-7FD7-4A5F-983F-7A74CB12F756}" type="slidenum">
              <a:rPr b="0" lang="sr-R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Нови школски предмети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285480"/>
            <a:ext cx="7620120" cy="928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Биологија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31" name="Picture 4" descr="Cell structure — Stock Photo, Image"/>
          <p:cNvPicPr/>
          <p:nvPr/>
        </p:nvPicPr>
        <p:blipFill>
          <a:blip r:embed="rId1"/>
          <a:stretch/>
        </p:blipFill>
        <p:spPr>
          <a:xfrm>
            <a:off x="3048120" y="4286160"/>
            <a:ext cx="3151080" cy="2362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Scientist with microscope in lab — Stock Photo, Image"/>
          <p:cNvPicPr/>
          <p:nvPr/>
        </p:nvPicPr>
        <p:blipFill>
          <a:blip r:embed="rId2"/>
          <a:srcRect l="0" t="0" r="19511" b="10252"/>
          <a:stretch/>
        </p:blipFill>
        <p:spPr>
          <a:xfrm>
            <a:off x="714240" y="157176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Biologists with with magnifying glass and leaf — Stock Photo, Image"/>
          <p:cNvPicPr/>
          <p:nvPr/>
        </p:nvPicPr>
        <p:blipFill>
          <a:blip r:embed="rId3"/>
          <a:srcRect l="41028" t="12701" r="6407" b="9959"/>
          <a:stretch/>
        </p:blipFill>
        <p:spPr>
          <a:xfrm>
            <a:off x="5715000" y="1500120"/>
            <a:ext cx="2571840" cy="276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13840"/>
            <a:ext cx="7620120" cy="1071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Историја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35" name="Picture 2" descr="Vintage Still Life — Stock Photo, Image"/>
          <p:cNvPicPr/>
          <p:nvPr/>
        </p:nvPicPr>
        <p:blipFill>
          <a:blip r:embed="rId1"/>
          <a:srcRect l="12004" t="6003" r="10000" b="12005"/>
          <a:stretch/>
        </p:blipFill>
        <p:spPr>
          <a:xfrm>
            <a:off x="785880" y="1500120"/>
            <a:ext cx="3000240" cy="2365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Great antique Rome - Coloseum , artwork in retro style — Stock Photo, Image"/>
          <p:cNvPicPr/>
          <p:nvPr/>
        </p:nvPicPr>
        <p:blipFill>
          <a:blip r:embed="rId2"/>
          <a:stretch/>
        </p:blipFill>
        <p:spPr>
          <a:xfrm>
            <a:off x="5715000" y="157176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History of Egypt — Stock Photo, Image"/>
          <p:cNvPicPr/>
          <p:nvPr/>
        </p:nvPicPr>
        <p:blipFill>
          <a:blip r:embed="rId3"/>
          <a:stretch/>
        </p:blipFill>
        <p:spPr>
          <a:xfrm>
            <a:off x="1857240" y="3929040"/>
            <a:ext cx="3500640" cy="233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9954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Географија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39" name="Picture 2" descr="Compass on the map — Stock Photo, Image"/>
          <p:cNvPicPr/>
          <p:nvPr/>
        </p:nvPicPr>
        <p:blipFill>
          <a:blip r:embed="rId1"/>
          <a:stretch/>
        </p:blipFill>
        <p:spPr>
          <a:xfrm>
            <a:off x="714240" y="1428840"/>
            <a:ext cx="3500640" cy="2735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Earth slice with landscape — Stock Vector"/>
          <p:cNvPicPr/>
          <p:nvPr/>
        </p:nvPicPr>
        <p:blipFill>
          <a:blip r:embed="rId2"/>
          <a:stretch/>
        </p:blipFill>
        <p:spPr>
          <a:xfrm>
            <a:off x="1500120" y="4352760"/>
            <a:ext cx="3571920" cy="2362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Europe sunrise — Stock Photo, Image"/>
          <p:cNvPicPr/>
          <p:nvPr/>
        </p:nvPicPr>
        <p:blipFill>
          <a:blip r:embed="rId3"/>
          <a:stretch/>
        </p:blipFill>
        <p:spPr>
          <a:xfrm>
            <a:off x="5286240" y="1306440"/>
            <a:ext cx="3551400" cy="355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2096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Информатика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43" name="Picture 2" descr="Keyboard — Stock Photo, Image"/>
          <p:cNvPicPr/>
          <p:nvPr/>
        </p:nvPicPr>
        <p:blipFill>
          <a:blip r:embed="rId1"/>
          <a:stretch/>
        </p:blipFill>
        <p:spPr>
          <a:xfrm>
            <a:off x="642960" y="1785960"/>
            <a:ext cx="374976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3d man - classroom — Stock Photo, Image"/>
          <p:cNvPicPr/>
          <p:nvPr/>
        </p:nvPicPr>
        <p:blipFill>
          <a:blip r:embed="rId2"/>
          <a:stretch/>
        </p:blipFill>
        <p:spPr>
          <a:xfrm>
            <a:off x="4643280" y="3071880"/>
            <a:ext cx="4071960" cy="2714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је ___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је из историје су _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и географије су ___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и задаци из математике су 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лекција из биологије је 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час је _____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ње је _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Допуни реченице речима </a:t>
            </a:r>
            <a:r>
              <a:rPr b="1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лак</a:t>
            </a: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, </a:t>
            </a:r>
            <a:r>
              <a:rPr b="1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тежак</a:t>
            </a: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, </a:t>
            </a:r>
            <a:r>
              <a:rPr b="1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занимљив</a:t>
            </a: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, </a:t>
            </a:r>
            <a:r>
              <a:rPr b="1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досадан</a:t>
            </a: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9000"/>
          </a:bodyPr>
          <a:p>
            <a:pPr marL="299880" indent="-299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и – учимо – о – на – ћелиј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иологији учимо о ћелиј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мо – учионици – часове – информарике – специјалној – у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е информатике имамо у специјалној учиониц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тке – на – решавамо – математици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тематици решавамо задатк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9880" indent="-2998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Састави реченице од датих речи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56760" y="713880"/>
            <a:ext cx="8572680" cy="5411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– наставница – строга – биологије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ца биологије није строга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о – оцену – из – одличну – историје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о сам одличну оцену из историје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љив – је – географија – предмет – школски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ја је занимљив школски предмет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– волим – не – учим – историју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олим да учим историју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28T14:36:25Z</dcterms:created>
  <dc:creator>Natasa</dc:creator>
  <dc:description/>
  <dc:language>en-US</dc:language>
  <cp:lastModifiedBy>Natasa</cp:lastModifiedBy>
  <dcterms:modified xsi:type="dcterms:W3CDTF">2022-03-05T17:37:35Z</dcterms:modified>
  <cp:revision>8</cp:revision>
  <dc:subject/>
  <dc:title>Нови школски предмети</dc:title>
</cp:coreProperties>
</file>