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A7D-76DA-4A4C-AB63-52921071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3E6-1E0E-4051-B158-C37F4C5B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8C3-12FC-40C3-8A66-EC2D4F70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819-2E9A-485D-8847-C49F88E2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302-1AB3-4C06-AC53-C1462DD4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B5B-D8B1-4473-AA8E-FE24DB56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949-8EF6-448B-85FC-3E7FB5C9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C67-A45B-4E4D-973E-9E517C1B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241-9B54-4232-B7ED-3E3A27C1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03A-64EB-4976-A739-55619E7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637-001C-44D3-A5B4-01DEBF2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461-C3A5-41EA-823E-0E6A321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E075-F6DF-4188-B596-DC370899D60B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solidFill>
            <a:srgbClr val="92d050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дећа и обу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повина одеће и обу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solidFill>
            <a:srgbClr val="92d050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749840" y="503280"/>
            <a:ext cx="3608280" cy="267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376704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4714920" y="3643200"/>
            <a:ext cx="3944880" cy="2428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500040" y="3571920"/>
            <a:ext cx="3870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solidFill>
            <a:srgbClr val="92d050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11800" t="0" r="0" b="0"/>
          <a:stretch/>
        </p:blipFill>
        <p:spPr>
          <a:xfrm>
            <a:off x="493560" y="3500280"/>
            <a:ext cx="396108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Тржница наставља радове на Најлон пијаци | Dnevnik"/>
          <p:cNvPicPr/>
          <p:nvPr/>
        </p:nvPicPr>
        <p:blipFill>
          <a:blip r:embed="rId2"/>
          <a:srcRect l="17191" t="2629" r="0" b="0"/>
          <a:stretch/>
        </p:blipFill>
        <p:spPr>
          <a:xfrm>
            <a:off x="4714920" y="3429000"/>
            <a:ext cx="3857760" cy="27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642960" y="714240"/>
            <a:ext cx="3749760" cy="250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aloprodaja – Nordis Trikotaža"/>
          <p:cNvPicPr/>
          <p:nvPr/>
        </p:nvPicPr>
        <p:blipFill>
          <a:blip r:embed="rId4"/>
          <a:stretch/>
        </p:blipFill>
        <p:spPr>
          <a:xfrm>
            <a:off x="4643280" y="714240"/>
            <a:ext cx="38530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solidFill>
            <a:srgbClr val="92d050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3770280" cy="2500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4572000" y="665640"/>
            <a:ext cx="4143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Добро ми сто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Не стоји ми доб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виђа ми се / не свиђа ми с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ло / велико ми ј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ба ми већи/мањи број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Ципеле су ми мале. Треба ми већи број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solidFill>
            <a:srgbClr val="92d050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3686040" cy="237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4214880" y="670320"/>
            <a:ext cx="450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Calibri"/>
              </a:rPr>
              <a:t>Ти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Calibri"/>
              </a:rPr>
              <a:t>: Ова мајица ми је добра. Молим Вас спакујте ми 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Calibri"/>
              </a:rPr>
              <a:t>Продавац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Calibri"/>
              </a:rPr>
              <a:t>: Да је спакуј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Calibri"/>
              </a:rPr>
              <a:t>Ти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Calibri"/>
              </a:rPr>
              <a:t>: Да, молим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Calibri"/>
              </a:rPr>
              <a:t>Продавац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Calibri"/>
              </a:rPr>
              <a:t>: Изволите, Ваш рачун је 480 дин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Calibri"/>
              </a:rPr>
              <a:t>Ти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Calibri"/>
              </a:rPr>
              <a:t>: Изволите нова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Calibri"/>
              </a:rPr>
              <a:t>Продавац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Calibri"/>
              </a:rPr>
              <a:t>: Хвала, узмите рачун. Довиђењ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Calibri"/>
              </a:rPr>
              <a:t>Ти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Calibri"/>
              </a:rPr>
              <a:t>: Хвала, довиђењ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7T18:06:52Z</dcterms:created>
  <dc:creator>Natasa</dc:creator>
  <dc:description/>
  <dc:language>en-US</dc:language>
  <cp:lastModifiedBy>Natasa</cp:lastModifiedBy>
  <dcterms:modified xsi:type="dcterms:W3CDTF">2022-01-29T15:17:26Z</dcterms:modified>
  <cp:revision>14</cp:revision>
  <dc:subject/>
  <dc:title>Одећа и обућа</dc:title>
</cp:coreProperties>
</file>