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E16-BBE7-4724-B52D-19DCD369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D5E-A814-4003-92D2-5191F920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335-1156-4C4F-A9B5-5AD05084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6B2-A3E0-41DB-8085-488A5D11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574-DE7C-4CF6-B7B3-A3845B5C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856-D87D-4E78-84A4-ED200996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090-F8B4-4B09-A295-CDF72AC8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2F4-1665-4ACB-A2A3-C5432898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E49-BC5C-47AF-8A11-0C276E0D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E68-B32C-4C9F-842E-5D799434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2EC-53F9-4024-B5E9-49094052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9D3-9303-49AF-AE4E-0A2F762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711C-A90E-4B97-A823-2DD1CEF71987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sz="4400" spc="-1" strike="noStrike">
                <a:solidFill>
                  <a:srgbClr val="ffffff"/>
                </a:solidFill>
                <a:latin typeface="Calibri"/>
              </a:rPr>
              <a:t>Зец на спавању</a:t>
            </a:r>
            <a:r>
              <a:rPr b="0" sz="44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Calibri"/>
              </a:rPr>
              <a:t>Шаљива народна при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ffffff"/>
                </a:solidFill>
                <a:latin typeface="Calibri"/>
              </a:rPr>
              <a:t>јаре</a:t>
            </a:r>
            <a:r>
              <a:rPr b="0" sz="4400" spc="-1" strike="noStrike">
                <a:solidFill>
                  <a:srgbClr val="ffffff"/>
                </a:solidFill>
                <a:latin typeface="Calibri"/>
              </a:rPr>
              <a:t>, јарета с. 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328840" y="1494000"/>
            <a:ext cx="4462560" cy="3943080"/>
          </a:xfrm>
          <a:prstGeom prst="rect">
            <a:avLst/>
          </a:prstGeom>
          <a:ln w="0">
            <a:noFill/>
          </a:ln>
        </p:spPr>
      </p:pic>
      <p:sp>
        <p:nvSpPr>
          <p:cNvPr id="47" name="Title 1"/>
          <p:cNvSpPr/>
          <p:nvPr/>
        </p:nvSpPr>
        <p:spPr>
          <a:xfrm>
            <a:off x="58104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Calibri"/>
              </a:rPr>
              <a:t>коза, козе ж. 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ffffff"/>
                </a:solidFill>
                <a:latin typeface="Calibri"/>
              </a:rPr>
              <a:t>јагње</a:t>
            </a:r>
            <a:r>
              <a:rPr b="0" sz="4400" spc="-1" strike="noStrike">
                <a:solidFill>
                  <a:srgbClr val="ffffff"/>
                </a:solidFill>
                <a:latin typeface="Calibri"/>
              </a:rPr>
              <a:t>, јагњета с. 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58104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Calibri"/>
              </a:rPr>
              <a:t>овца, овце ж. 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243160" y="1652760"/>
            <a:ext cx="45482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ffffff"/>
                </a:solidFill>
                <a:latin typeface="Calibri"/>
              </a:rPr>
              <a:t>ждребе</a:t>
            </a:r>
            <a:r>
              <a:rPr b="0" sz="4400" spc="-1" strike="noStrike">
                <a:solidFill>
                  <a:srgbClr val="ffffff"/>
                </a:solidFill>
                <a:latin typeface="Calibri"/>
              </a:rPr>
              <a:t>, ждребета с. 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58104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Calibri"/>
              </a:rPr>
              <a:t>кобила, кобиле ж. 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011320" y="1920960"/>
            <a:ext cx="4633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58104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100" spc="-1" strike="noStrike">
                <a:solidFill>
                  <a:srgbClr val="ffffff"/>
                </a:solidFill>
                <a:latin typeface="Calibri"/>
              </a:rPr>
              <a:t>Препричај причу „Зец на спавању” на основу илустрациј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66640" y="1420920"/>
            <a:ext cx="1298520" cy="1938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066760" y="2120760"/>
            <a:ext cx="1535400" cy="120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3852720" y="1639800"/>
            <a:ext cx="1932120" cy="170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5924520" y="1779480"/>
            <a:ext cx="2822760" cy="158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566640" y="3425760"/>
            <a:ext cx="2603520" cy="1706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6"/>
          <a:stretch/>
        </p:blipFill>
        <p:spPr>
          <a:xfrm>
            <a:off x="3419640" y="3492360"/>
            <a:ext cx="2584440" cy="16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7"/>
          <a:stretch/>
        </p:blipFill>
        <p:spPr>
          <a:xfrm>
            <a:off x="6351480" y="3565440"/>
            <a:ext cx="2073240" cy="194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8"/>
          <a:stretch/>
        </p:blipFill>
        <p:spPr>
          <a:xfrm>
            <a:off x="3670200" y="5353200"/>
            <a:ext cx="19814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3T17:21:54Z</dcterms:created>
  <dc:creator>Natasa</dc:creator>
  <dc:description/>
  <dc:language>en-US</dc:language>
  <cp:lastModifiedBy>Natasa</cp:lastModifiedBy>
  <dcterms:modified xsi:type="dcterms:W3CDTF">2022-03-03T18:24:39Z</dcterms:modified>
  <cp:revision>7</cp:revision>
  <dc:subject/>
  <dc:title>Зец на спавању</dc:title>
</cp:coreProperties>
</file>