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F4E-F953-4281-8E80-BEF7E8250DF7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F79F-830E-4C28-8B39-2CF71C112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9B9-6F07-4979-A664-EE11359B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EA6-458D-478B-B669-1131B406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982-CC3A-48E0-80BF-B239252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C5D-910A-468D-A88C-2D68CFFD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178-7315-4BC1-84A1-35835DCB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456-7549-4312-8692-CB6A7AE9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7AA-CD0C-4699-9205-54027D7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5D4-5823-4C0D-BD0B-34EDDD7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3A3-6554-45F5-BC69-FCAF5B8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258-FBFC-4748-BAE4-709E5DA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1DB-0C0D-4178-8F6D-18C4BBD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6AC-FE2C-43F9-BAE6-5AC0177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D3CC-5486-4774-89C2-B8525193E069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време за трен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на и писмена ве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Počinje upis u OK &amp;quot;Banat&amp;quot;"/>
          <p:cNvPicPr/>
          <p:nvPr/>
        </p:nvPicPr>
        <p:blipFill>
          <a:blip r:embed="rId1"/>
          <a:stretch/>
        </p:blipFill>
        <p:spPr>
          <a:xfrm>
            <a:off x="714240" y="428760"/>
            <a:ext cx="764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Postanite član šampionskog kluba | Judo Klub Crvena Zvezda | Judo Club Red  Star"/>
          <p:cNvPicPr/>
          <p:nvPr/>
        </p:nvPicPr>
        <p:blipFill>
          <a:blip r:embed="rId1"/>
          <a:stretch/>
        </p:blipFill>
        <p:spPr>
          <a:xfrm>
            <a:off x="642960" y="500040"/>
            <a:ext cx="792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71800" y="428760"/>
            <a:ext cx="4929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OK Apatin: Igrajte odbojku!"/>
          <p:cNvPicPr/>
          <p:nvPr/>
        </p:nvPicPr>
        <p:blipFill>
          <a:blip r:embed="rId1"/>
          <a:stretch/>
        </p:blipFill>
        <p:spPr>
          <a:xfrm>
            <a:off x="2143080" y="285840"/>
            <a:ext cx="4572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75000" y="214200"/>
            <a:ext cx="4194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1T17:41:52Z</dcterms:created>
  <dc:creator>Natasa</dc:creator>
  <dc:description/>
  <dc:language>en-US</dc:language>
  <cp:lastModifiedBy>Natasa</cp:lastModifiedBy>
  <dcterms:modified xsi:type="dcterms:W3CDTF">2022-01-21T20:00:27Z</dcterms:modified>
  <cp:revision>15</cp:revision>
  <dc:subject/>
  <dc:title>Право време за тренирање</dc:title>
</cp:coreProperties>
</file>