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4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09B-6D5B-4F38-89CA-8DFAB802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501-D714-4D57-AE6E-E9B2DCA3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900-71DD-43DD-A843-DD462D33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C78-405B-4588-BDCE-A2E81CD4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98A-4658-48F4-8AA4-475E1337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018-3806-4B3F-A8E6-E4E10F8F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928-0411-4DE2-B3E7-3DE45D32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8C1-71B1-43B1-BF5C-8E4A8C52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2BB-9267-4A19-A1F4-1F29B450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A88-CA13-4ED8-9E93-2D672E02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FB5-F498-4BF9-BDA7-F4A89E45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6F7-4BB0-4791-B459-32C1B621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0532-CCFB-4710-8D3B-A14DBBFBFF66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нализа домаћих задатака </a:t>
            </a: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Кишна при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есна Видојевић Гај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4"/>
          <p:cNvSpPr/>
          <p:nvPr/>
        </p:nvSpPr>
        <p:spPr>
          <a:xfrm>
            <a:off x="500040" y="498600"/>
            <a:ext cx="8169120" cy="13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189000" y="272880"/>
            <a:ext cx="1025280" cy="10130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Calibri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7072200" y="3286080"/>
            <a:ext cx="16034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7072200" y="328608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7072200" y="338292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7072200" y="3382920"/>
            <a:ext cx="171000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7143840" y="3429000"/>
            <a:ext cx="1643040" cy="176040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7072200" y="3357720"/>
            <a:ext cx="1714680" cy="17859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Google Shape;1483;p60"/>
          <p:cNvSpPr/>
          <p:nvPr/>
        </p:nvSpPr>
        <p:spPr>
          <a:xfrm>
            <a:off x="1212840" y="571680"/>
            <a:ext cx="685944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ако се зове лимени канал око крова и цев која служи да се киша слива с крова на земљ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206800" y="3565440"/>
            <a:ext cx="3584520" cy="2890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0"/>
          <p:cNvSpPr/>
          <p:nvPr/>
        </p:nvSpPr>
        <p:spPr>
          <a:xfrm>
            <a:off x="928800" y="2214720"/>
            <a:ext cx="6141960" cy="927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Ол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Именуј предмет или појаву на слиц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39840" y="2206800"/>
            <a:ext cx="4321440" cy="279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2643120" y="1571760"/>
            <a:ext cx="3522600" cy="478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1857240" y="214308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2786040" y="1857240"/>
            <a:ext cx="3328920" cy="353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1928880" y="2000160"/>
            <a:ext cx="5073480" cy="400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6"/>
          <a:stretch/>
        </p:blipFill>
        <p:spPr>
          <a:xfrm>
            <a:off x="1928880" y="2000160"/>
            <a:ext cx="5129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Calibri"/>
              </a:rPr>
              <a:t>Шта је стрип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714240" y="992160"/>
            <a:ext cx="77155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грајмо квиз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711840" y="781200"/>
            <a:ext cx="1919520" cy="186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853920" y="4065480"/>
            <a:ext cx="17733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"/>
          <p:cNvSpPr/>
          <p:nvPr/>
        </p:nvSpPr>
        <p:spPr>
          <a:xfrm>
            <a:off x="500040" y="498600"/>
            <a:ext cx="8169120" cy="13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189000" y="272880"/>
            <a:ext cx="1025280" cy="10130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1"/>
          <p:cNvSpPr/>
          <p:nvPr/>
        </p:nvSpPr>
        <p:spPr>
          <a:xfrm>
            <a:off x="716040" y="3021120"/>
            <a:ext cx="6141960" cy="9874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Кишоб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716040" y="2000160"/>
            <a:ext cx="6141960" cy="9288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Киш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704880" y="4102200"/>
            <a:ext cx="6141960" cy="927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Кишноб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072200" y="3286080"/>
            <a:ext cx="16034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7072200" y="328608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7072200" y="338292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7072200" y="3382920"/>
            <a:ext cx="171000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7143840" y="3429000"/>
            <a:ext cx="1643040" cy="176040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072200" y="3357720"/>
            <a:ext cx="1714680" cy="17859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oogle Shape;1483;p60"/>
          <p:cNvSpPr/>
          <p:nvPr/>
        </p:nvSpPr>
        <p:spPr>
          <a:xfrm>
            <a:off x="1212840" y="571680"/>
            <a:ext cx="55738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ада пада киша, треба понет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428920" y="5072040"/>
            <a:ext cx="228600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114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4"/>
          <p:cNvSpPr/>
          <p:nvPr/>
        </p:nvSpPr>
        <p:spPr>
          <a:xfrm>
            <a:off x="500040" y="498600"/>
            <a:ext cx="8169120" cy="13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189000" y="272880"/>
            <a:ext cx="1025280" cy="10130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Calibri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1"/>
          <p:cNvSpPr/>
          <p:nvPr/>
        </p:nvSpPr>
        <p:spPr>
          <a:xfrm>
            <a:off x="714240" y="5156280"/>
            <a:ext cx="6142320" cy="9874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Лепт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716040" y="2000160"/>
            <a:ext cx="6141960" cy="9288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Кишна гл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704880" y="4102200"/>
            <a:ext cx="6141960" cy="927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Пу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7072200" y="3286080"/>
            <a:ext cx="16034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7072200" y="328608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7072200" y="338292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7072200" y="3382920"/>
            <a:ext cx="171000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7143840" y="3429000"/>
            <a:ext cx="1643040" cy="176040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7072200" y="3357720"/>
            <a:ext cx="1714680" cy="17859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Google Shape;1483;p60"/>
          <p:cNvSpPr/>
          <p:nvPr/>
        </p:nvSpPr>
        <p:spPr>
          <a:xfrm>
            <a:off x="1212840" y="571680"/>
            <a:ext cx="55738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оја животиња не воли ки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14240" y="3073320"/>
            <a:ext cx="6142320" cy="9273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Жа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205240" y="2066760"/>
            <a:ext cx="1444680" cy="93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066680" y="5205240"/>
            <a:ext cx="1195560" cy="94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5108400" y="4065480"/>
            <a:ext cx="1256040" cy="102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1066680" y="2992320"/>
            <a:ext cx="143856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149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750"/>
                            </p:stCondLst>
                            <p:childTnLst>
                              <p:par>
                                <p:cTn id="1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4"/>
          <p:cNvSpPr/>
          <p:nvPr/>
        </p:nvSpPr>
        <p:spPr>
          <a:xfrm>
            <a:off x="500040" y="498600"/>
            <a:ext cx="8169120" cy="13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189000" y="272880"/>
            <a:ext cx="1025280" cy="10130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Calibri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1"/>
          <p:cNvSpPr/>
          <p:nvPr/>
        </p:nvSpPr>
        <p:spPr>
          <a:xfrm>
            <a:off x="714240" y="4071960"/>
            <a:ext cx="6142320" cy="9874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Б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716040" y="2000160"/>
            <a:ext cx="6141960" cy="9288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Бал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714240" y="5143680"/>
            <a:ext cx="6142320" cy="927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Б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7072200" y="3286080"/>
            <a:ext cx="16034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9"/>
          <p:cNvSpPr/>
          <p:nvPr/>
        </p:nvSpPr>
        <p:spPr>
          <a:xfrm>
            <a:off x="7072200" y="328608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7072200" y="338292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1"/>
          <p:cNvSpPr/>
          <p:nvPr/>
        </p:nvSpPr>
        <p:spPr>
          <a:xfrm>
            <a:off x="7072200" y="3382920"/>
            <a:ext cx="171000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7143840" y="3429000"/>
            <a:ext cx="1643040" cy="176040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7072200" y="3357720"/>
            <a:ext cx="1714680" cy="17859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Google Shape;1483;p60"/>
          <p:cNvSpPr/>
          <p:nvPr/>
        </p:nvSpPr>
        <p:spPr>
          <a:xfrm>
            <a:off x="1212840" y="571680"/>
            <a:ext cx="55738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ако се зове предмет на слиц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714240" y="3073320"/>
            <a:ext cx="6142320" cy="9273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Ба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000920" y="357120"/>
            <a:ext cx="1871640" cy="21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7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177" dur="7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750"/>
                            </p:stCondLst>
                            <p:childTnLst>
                              <p:par>
                                <p:cTn id="17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500040" y="498600"/>
            <a:ext cx="8169120" cy="13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189000" y="272880"/>
            <a:ext cx="1025280" cy="10130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Calibri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1"/>
          <p:cNvSpPr/>
          <p:nvPr/>
        </p:nvSpPr>
        <p:spPr>
          <a:xfrm>
            <a:off x="714240" y="2000160"/>
            <a:ext cx="6142320" cy="9874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покис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714240" y="4071960"/>
            <a:ext cx="6142320" cy="9288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накис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714240" y="5143680"/>
            <a:ext cx="6142320" cy="927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закис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7072200" y="3286080"/>
            <a:ext cx="16034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7072200" y="328608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7072200" y="338292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7072200" y="3382920"/>
            <a:ext cx="171000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2"/>
          <p:cNvSpPr/>
          <p:nvPr/>
        </p:nvSpPr>
        <p:spPr>
          <a:xfrm>
            <a:off x="7143840" y="3429000"/>
            <a:ext cx="1643040" cy="176040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7072200" y="3357720"/>
            <a:ext cx="1714680" cy="17859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Google Shape;1483;p60"/>
          <p:cNvSpPr/>
          <p:nvPr/>
        </p:nvSpPr>
        <p:spPr>
          <a:xfrm>
            <a:off x="1212840" y="571680"/>
            <a:ext cx="70023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Допуни реченицу једном од датих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д кише се крију они који не воле д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714240" y="3073320"/>
            <a:ext cx="6142320" cy="9273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прокис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205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750"/>
                            </p:stCondLst>
                            <p:childTnLst>
                              <p:par>
                                <p:cTn id="20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ounded Rectangle 4"/>
          <p:cNvSpPr/>
          <p:nvPr/>
        </p:nvSpPr>
        <p:spPr>
          <a:xfrm>
            <a:off x="500040" y="498600"/>
            <a:ext cx="8169120" cy="13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189000" y="272880"/>
            <a:ext cx="1025280" cy="10130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Calibri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1"/>
          <p:cNvSpPr/>
          <p:nvPr/>
        </p:nvSpPr>
        <p:spPr>
          <a:xfrm>
            <a:off x="714240" y="4071960"/>
            <a:ext cx="6142320" cy="9874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киша сакупљена у неку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716040" y="2000160"/>
            <a:ext cx="6141960" cy="9288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вода за заливање цвећ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714240" y="5143680"/>
            <a:ext cx="6142320" cy="927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вода из бур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7072200" y="3286080"/>
            <a:ext cx="16034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7072200" y="328608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7072200" y="3382920"/>
            <a:ext cx="164304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7072200" y="3382920"/>
            <a:ext cx="1710000" cy="17607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7143840" y="3429000"/>
            <a:ext cx="1643040" cy="176040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7072200" y="3357720"/>
            <a:ext cx="1714680" cy="17859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Google Shape;1483;p60"/>
          <p:cNvSpPr/>
          <p:nvPr/>
        </p:nvSpPr>
        <p:spPr>
          <a:xfrm>
            <a:off x="1212840" y="571680"/>
            <a:ext cx="55738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ишница ј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714240" y="3073320"/>
            <a:ext cx="6142320" cy="9273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киша која јако п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233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750"/>
                            </p:stCondLst>
                            <p:childTnLst>
                              <p:par>
                                <p:cTn id="23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25T17:46:49Z</dcterms:created>
  <dc:creator>Natasa</dc:creator>
  <dc:description/>
  <dc:language>en-US</dc:language>
  <cp:lastModifiedBy>Natasa</cp:lastModifiedBy>
  <dcterms:modified xsi:type="dcterms:W3CDTF">2022-03-11T14:38:54Z</dcterms:modified>
  <cp:revision>14</cp:revision>
  <dc:subject/>
  <dc:title>Анализа домаћих задатака Кишна прича</dc:title>
</cp:coreProperties>
</file>