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F5-40D5-43CE-AEE7-A19B9CE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246-97EF-4CCB-90C3-362A217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ECA-E6FA-45E0-A4DA-F5A5376C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97C-70BC-45E5-ACA2-55283608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A4D-87C7-4111-9B85-B74D0ED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D06-7CE5-4B95-A51D-44A14D7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D91-4290-4037-97B4-6B57F09F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0F9-AEC6-4DA5-BDB3-E536DBC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71A-7725-4B34-8E32-198B6CC5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7F7-9F1F-4FF2-BFAD-AEF9458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D28-FD1E-4B8D-9D9A-E37E565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38C-7401-4FFC-9CD9-17E0345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765-0357-44A5-8E75-1C8658776911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/шта је г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сказивање мест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утврђи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33240" y="1494000"/>
            <a:ext cx="229248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06880" y="1706400"/>
            <a:ext cx="2468520" cy="15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5851440" y="1689120"/>
            <a:ext cx="2871720" cy="153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138640" y="4138560"/>
            <a:ext cx="1901880" cy="1938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1968480" y="4206960"/>
            <a:ext cx="21700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Где је шта?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опуни речени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2286000" cy="1762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454680" y="2928960"/>
            <a:ext cx="37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аска је на сто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па је _______ даск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16677" r="0" b="0"/>
          <a:stretch/>
        </p:blipFill>
        <p:spPr>
          <a:xfrm>
            <a:off x="4929120" y="1071720"/>
            <a:ext cx="2327400" cy="1928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4514040" y="3000240"/>
            <a:ext cx="432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рпа је на полиц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њири су _______ корп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аша је _________ корп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2209680" y="4000680"/>
            <a:ext cx="2076480" cy="161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455400" y="5572080"/>
            <a:ext cx="62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њир је на сто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ашика и виљушка су _______ тањир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Посматрај илустрацију и реци где је ш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000160" y="1285920"/>
            <a:ext cx="51436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опуни дијало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57168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Ан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Мама, где да ставим салве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Стави их на _____ испод кашик__ 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 виљушак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Ан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А шта да урадим са вазом за цвећ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Стави је на __________ поред 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чиниј__ за воће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Ан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Добро, мама. Где су ножев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: У _________ поред шпорет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Где је шта? Допуни речени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96720" y="4357800"/>
            <a:ext cx="831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давница обуће је _________ 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астичарница је _________ ____________ обу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сторан брзе хране је  _________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428920" y="1143000"/>
            <a:ext cx="37861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опуни речени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2854080" cy="20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643720" y="1357200"/>
            <a:ext cx="279072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3500280" y="1143000"/>
            <a:ext cx="1895760" cy="2523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394920" y="3643200"/>
            <a:ext cx="785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гор, Леа и мама су у продавници одећ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гор бира џемпер. Џемпери су _______ кошуљ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8920" y="4643280"/>
            <a:ext cx="83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еа су бира блузу. Блузе су _______ мајиц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ма стоји _______ огледал___. Она тражи ка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Жели да проба мајицу. Продавачица каже: „Кабина 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ред врат___. Слободно уђ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опуни речени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36760" y="1143000"/>
            <a:ext cx="7808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 Леа погледајте и обућу. Она је на друг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рани поред кабин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еа је пробала ципе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е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 Ове су ми добре. Можемо ли да их купим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 Обуј и другу и стани ________ огледал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е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 Добро ми стоје и не стежу 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: Иди до кас___. Сад ћу доћ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357960" y="3786120"/>
            <a:ext cx="185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9T12:43:55Z</dcterms:created>
  <dc:creator>Natasa</dc:creator>
  <dc:description/>
  <dc:language>en-US</dc:language>
  <cp:lastModifiedBy>Natasa</cp:lastModifiedBy>
  <dcterms:modified xsi:type="dcterms:W3CDTF">2022-01-09T15:31:50Z</dcterms:modified>
  <cp:revision>17</cp:revision>
  <dc:subject/>
  <dc:title>Ко/шта је где?</dc:title>
</cp:coreProperties>
</file>