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2C4-44E4-424F-BB3C-20BB1DE4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50D-1BBF-4DDB-AA80-A80960DC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09E-21D6-4E2F-8378-3B1C5733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CAC-0B5F-471E-B12B-575FE16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153-F249-421A-BC9B-3F87EC30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14F3-9397-451A-8201-D58A654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2229-967D-4E89-ABAC-AE82280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588-CF2E-476D-9170-2B442AE9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1106-D3F8-4E51-836B-E06059E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71EF-56E5-46DE-85EC-EA58095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FC9-8574-4A51-9815-4ED8F62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476-A3C1-4510-B1F4-1428F1A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B647-DB08-4F2C-8820-0CDEA13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36E-CD20-4FFD-9E75-95D5535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36C-8CB2-4C85-A682-93A40814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1FDA-BE6D-4E34-942A-A2DCF2BE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09F-7905-42B0-9085-A850A696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7B5A-722E-4F29-8170-7CEA246B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EA2E-75F5-4D6F-81D9-C406AA7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18B7-FBD0-49A6-BC51-89F0691B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6956-99E0-4705-BB49-900AFF1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F93B-E207-40DF-A58E-C8A34370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E88-B772-4095-B5ED-8D72AC1C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5DCD-005F-4B0D-A2F2-3C85340B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658B-6AF5-4533-B6A8-97EA0EA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B307-880C-4485-B0C1-DAB2965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B9B1-9AB9-41FF-9008-2C34644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F662-5D58-4BA5-95A7-A9EB8FEF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7D99-F9D1-4988-8DA4-CE0AE903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D1D4-BE1C-4699-8294-9D876609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B93C-C48F-463D-AA67-96B9B57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E164-7888-4264-A445-9F8E69C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51C4-0BB4-4BFD-805F-9FC6E96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D66-BD07-47C7-83BA-1A4FDFC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E227-F353-4891-A69D-79C5F864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4E6D-E7BC-46EF-B450-EDF9869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FEA3-A64D-4849-9D14-F12EF8FE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64B0-BAB4-4866-B74D-430C046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C9D4-8963-45C8-A9A0-E379C54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2972-5B71-4FC2-B3E5-308297EC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77EE-A10A-4B6B-8029-F3B50C1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7DE2-6A4D-45B5-84DF-90DDF6A0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AA15-0E55-4B3E-8E77-3999D240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DD61-2C97-42BA-9C64-A373E62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23F-B4A1-494F-B7E2-CD29769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C5AF-F395-43D8-A6AD-474B2083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9C8B-B9F7-4AAE-9D82-EA0E1F73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20EE-0C6D-4363-9C3C-D27BFC2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2B4C-9A74-4804-B4FF-854DAFC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21E6-D2D6-4E65-A951-094B304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F5F2-01A4-48A9-9C51-E63DCB6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E434-D3A5-445E-A1A1-BF6D8BA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0EE4-99BD-4529-A047-6004096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CB0F-E618-4280-B9B4-DC37FE5D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4147-1025-41A5-9263-EF89F2A9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F5A-3F37-4F75-9FDB-F02EE74C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07308-B1B7-463C-98A1-8D5D453C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4AE-40B2-4472-BC2F-127194E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8BF-024E-4C05-B5A8-9A7928B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2A7-BABF-4349-B222-7BD1DA6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837B-9006-4217-887E-BDB045A25A86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E75-7AF7-43A1-9096-0417277010A8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2F0-A712-4B71-9F9A-70CC0EE91CBD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CBA-820A-41FF-AB58-F5101C4A97EB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9A8B-FEDC-4F08-9C93-6BB630AF33C5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утврђивањ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2"/>
          <p:cNvSpPr/>
          <p:nvPr/>
        </p:nvSpPr>
        <p:spPr>
          <a:xfrm>
            <a:off x="1303200" y="1357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они рад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itle 27"/>
          <p:cNvSpPr/>
          <p:nvPr/>
        </p:nvSpPr>
        <p:spPr>
          <a:xfrm>
            <a:off x="571680" y="428760"/>
            <a:ext cx="7716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"/>
          <p:cNvSpPr/>
          <p:nvPr/>
        </p:nvSpPr>
        <p:spPr>
          <a:xfrm>
            <a:off x="6357960" y="857160"/>
            <a:ext cx="2074680" cy="854280"/>
          </a:xfrm>
          <a:prstGeom prst="ellipse">
            <a:avLst/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999720" y="2857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997200" y="32986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1003320" y="375912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/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1"/>
          <p:cNvSpPr/>
          <p:nvPr/>
        </p:nvSpPr>
        <p:spPr>
          <a:xfrm>
            <a:off x="1001160" y="48657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999000" y="531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929880" y="581328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/о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0"/>
          <p:cNvSpPr/>
          <p:nvPr/>
        </p:nvSpPr>
        <p:spPr>
          <a:xfrm>
            <a:off x="243360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11"/>
          <p:cNvSpPr/>
          <p:nvPr/>
        </p:nvSpPr>
        <p:spPr>
          <a:xfrm>
            <a:off x="243360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2"/>
          <p:cNvSpPr/>
          <p:nvPr/>
        </p:nvSpPr>
        <p:spPr>
          <a:xfrm>
            <a:off x="2433600" y="403848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3"/>
          <p:cNvSpPr/>
          <p:nvPr/>
        </p:nvSpPr>
        <p:spPr>
          <a:xfrm>
            <a:off x="2428920" y="4908600"/>
            <a:ext cx="2233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4"/>
          <p:cNvSpPr/>
          <p:nvPr/>
        </p:nvSpPr>
        <p:spPr>
          <a:xfrm>
            <a:off x="2430360" y="548172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5"/>
          <p:cNvSpPr/>
          <p:nvPr/>
        </p:nvSpPr>
        <p:spPr>
          <a:xfrm>
            <a:off x="2430360" y="607536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16"/>
          <p:cNvSpPr/>
          <p:nvPr/>
        </p:nvSpPr>
        <p:spPr>
          <a:xfrm>
            <a:off x="491508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7"/>
          <p:cNvSpPr/>
          <p:nvPr/>
        </p:nvSpPr>
        <p:spPr>
          <a:xfrm>
            <a:off x="491508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8"/>
          <p:cNvSpPr/>
          <p:nvPr/>
        </p:nvSpPr>
        <p:spPr>
          <a:xfrm>
            <a:off x="4915080" y="402120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19"/>
          <p:cNvSpPr/>
          <p:nvPr/>
        </p:nvSpPr>
        <p:spPr>
          <a:xfrm>
            <a:off x="4915080" y="489096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20"/>
          <p:cNvSpPr/>
          <p:nvPr/>
        </p:nvSpPr>
        <p:spPr>
          <a:xfrm>
            <a:off x="4915080" y="5462640"/>
            <a:ext cx="2228760" cy="4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21"/>
          <p:cNvSpPr/>
          <p:nvPr/>
        </p:nvSpPr>
        <p:spPr>
          <a:xfrm>
            <a:off x="4915080" y="6058080"/>
            <a:ext cx="22287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rved Down Arrow 22"/>
          <p:cNvSpPr/>
          <p:nvPr/>
        </p:nvSpPr>
        <p:spPr>
          <a:xfrm>
            <a:off x="2922480" y="2389320"/>
            <a:ext cx="3864240" cy="509400"/>
          </a:xfrm>
          <a:custGeom>
            <a:avLst/>
            <a:gdLst>
              <a:gd name="textAreaLeft" fmla="*/ 866880 w 3864240"/>
              <a:gd name="textAreaRight" fmla="*/ 2728800 w 3864240"/>
              <a:gd name="textAreaTop" fmla="*/ 68040 h 509400"/>
              <a:gd name="textAreaBottom" fmla="*/ 4413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4" hR="21600" stAng="10800000" swAng="5400000"/>
                <a:lnTo>
                  <a:pt x="10406" y="0"/>
                </a:lnTo>
                <a:arcTo wR="9694" hR="21600" stAng="-5400000" swAng="3605178"/>
                <a:lnTo>
                  <a:pt x="21292" y="16200"/>
                </a:lnTo>
                <a:lnTo>
                  <a:pt x="19743" y="21600"/>
                </a:lnTo>
                <a:lnTo>
                  <a:pt x="17578" y="16200"/>
                </a:lnTo>
                <a:lnTo>
                  <a:pt x="19079" y="16200"/>
                </a:lnTo>
                <a:arcTo wR="9694" hR="21600" stAng="-1794822" swAng="-3548485"/>
                <a:lnTo>
                  <a:pt x="10050" y="15"/>
                </a:lnTo>
                <a:arcTo wR="9694" hR="21600" stAng="-5456692" swAng="-5343308"/>
                <a:close/>
              </a:path>
              <a:path fill="darkenLess" w="21600" h="21600">
                <a:moveTo>
                  <a:pt x="0" y="21600"/>
                </a:moveTo>
                <a:arcTo wR="9694" hR="21600" stAng="10800000" swAng="5400000"/>
                <a:lnTo>
                  <a:pt x="9694" y="0"/>
                </a:lnTo>
                <a:arcTo wR="9694" hR="21600" stAng="-5400000" swAng="56692"/>
                <a:lnTo>
                  <a:pt x="10050" y="15"/>
                </a:lnTo>
                <a:arcTo wR="9694" hR="21600" stAng="-5456692" swAng="-5343308"/>
                <a:close/>
              </a:path>
            </a:pathLst>
          </a:cu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2"/>
          <p:cNvSpPr/>
          <p:nvPr/>
        </p:nvSpPr>
        <p:spPr>
          <a:xfrm>
            <a:off x="1303200" y="1357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они рад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tle 27"/>
          <p:cNvSpPr/>
          <p:nvPr/>
        </p:nvSpPr>
        <p:spPr>
          <a:xfrm>
            <a:off x="571680" y="428760"/>
            <a:ext cx="7716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6357960" y="857160"/>
            <a:ext cx="2074680" cy="854280"/>
          </a:xfrm>
          <a:prstGeom prst="ellipse">
            <a:avLst/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999720" y="2857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997200" y="32986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1003320" y="375912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/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1001160" y="48657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2"/>
          <p:cNvSpPr/>
          <p:nvPr/>
        </p:nvSpPr>
        <p:spPr>
          <a:xfrm>
            <a:off x="999000" y="531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3"/>
          <p:cNvSpPr/>
          <p:nvPr/>
        </p:nvSpPr>
        <p:spPr>
          <a:xfrm>
            <a:off x="929880" y="581328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/о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10"/>
          <p:cNvSpPr/>
          <p:nvPr/>
        </p:nvSpPr>
        <p:spPr>
          <a:xfrm>
            <a:off x="243360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1"/>
          <p:cNvSpPr/>
          <p:nvPr/>
        </p:nvSpPr>
        <p:spPr>
          <a:xfrm>
            <a:off x="243360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12"/>
          <p:cNvSpPr/>
          <p:nvPr/>
        </p:nvSpPr>
        <p:spPr>
          <a:xfrm>
            <a:off x="2433600" y="403848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13"/>
          <p:cNvSpPr/>
          <p:nvPr/>
        </p:nvSpPr>
        <p:spPr>
          <a:xfrm>
            <a:off x="2428920" y="4908600"/>
            <a:ext cx="2233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14"/>
          <p:cNvSpPr/>
          <p:nvPr/>
        </p:nvSpPr>
        <p:spPr>
          <a:xfrm>
            <a:off x="2430360" y="548172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15"/>
          <p:cNvSpPr/>
          <p:nvPr/>
        </p:nvSpPr>
        <p:spPr>
          <a:xfrm>
            <a:off x="2430360" y="607536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6"/>
          <p:cNvSpPr/>
          <p:nvPr/>
        </p:nvSpPr>
        <p:spPr>
          <a:xfrm>
            <a:off x="491508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17"/>
          <p:cNvSpPr/>
          <p:nvPr/>
        </p:nvSpPr>
        <p:spPr>
          <a:xfrm>
            <a:off x="491508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18"/>
          <p:cNvSpPr/>
          <p:nvPr/>
        </p:nvSpPr>
        <p:spPr>
          <a:xfrm>
            <a:off x="4915080" y="402120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9"/>
          <p:cNvSpPr/>
          <p:nvPr/>
        </p:nvSpPr>
        <p:spPr>
          <a:xfrm>
            <a:off x="4915080" y="489096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20"/>
          <p:cNvSpPr/>
          <p:nvPr/>
        </p:nvSpPr>
        <p:spPr>
          <a:xfrm>
            <a:off x="4915080" y="5462640"/>
            <a:ext cx="2228760" cy="4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21"/>
          <p:cNvSpPr/>
          <p:nvPr/>
        </p:nvSpPr>
        <p:spPr>
          <a:xfrm>
            <a:off x="4915080" y="6058080"/>
            <a:ext cx="22287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urved Down Arrow 22"/>
          <p:cNvSpPr/>
          <p:nvPr/>
        </p:nvSpPr>
        <p:spPr>
          <a:xfrm>
            <a:off x="2922480" y="2389320"/>
            <a:ext cx="3864240" cy="509400"/>
          </a:xfrm>
          <a:custGeom>
            <a:avLst/>
            <a:gdLst>
              <a:gd name="textAreaLeft" fmla="*/ 866880 w 3864240"/>
              <a:gd name="textAreaRight" fmla="*/ 2728800 w 3864240"/>
              <a:gd name="textAreaTop" fmla="*/ 68040 h 509400"/>
              <a:gd name="textAreaBottom" fmla="*/ 4413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4" hR="21600" stAng="10800000" swAng="5400000"/>
                <a:lnTo>
                  <a:pt x="10406" y="0"/>
                </a:lnTo>
                <a:arcTo wR="9694" hR="21600" stAng="-5400000" swAng="3605178"/>
                <a:lnTo>
                  <a:pt x="21292" y="16200"/>
                </a:lnTo>
                <a:lnTo>
                  <a:pt x="19743" y="21600"/>
                </a:lnTo>
                <a:lnTo>
                  <a:pt x="17578" y="16200"/>
                </a:lnTo>
                <a:lnTo>
                  <a:pt x="19079" y="16200"/>
                </a:lnTo>
                <a:arcTo wR="9694" hR="21600" stAng="-1794822" swAng="-3548485"/>
                <a:lnTo>
                  <a:pt x="10050" y="15"/>
                </a:lnTo>
                <a:arcTo wR="9694" hR="21600" stAng="-5456692" swAng="-5343308"/>
                <a:close/>
              </a:path>
              <a:path fill="darkenLess" w="21600" h="21600">
                <a:moveTo>
                  <a:pt x="0" y="21600"/>
                </a:moveTo>
                <a:arcTo wR="9694" hR="21600" stAng="10800000" swAng="5400000"/>
                <a:lnTo>
                  <a:pt x="9694" y="0"/>
                </a:lnTo>
                <a:arcTo wR="9694" hR="21600" stAng="-5400000" swAng="56692"/>
                <a:lnTo>
                  <a:pt x="10050" y="15"/>
                </a:lnTo>
                <a:arcTo wR="9694" hR="21600" stAng="-5456692" swAng="-5343308"/>
                <a:close/>
              </a:path>
            </a:pathLst>
          </a:cu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2"/>
          <p:cNvSpPr/>
          <p:nvPr/>
        </p:nvSpPr>
        <p:spPr>
          <a:xfrm>
            <a:off x="1303200" y="1357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они рад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le 27"/>
          <p:cNvSpPr/>
          <p:nvPr/>
        </p:nvSpPr>
        <p:spPr>
          <a:xfrm>
            <a:off x="571680" y="428760"/>
            <a:ext cx="7716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"/>
          <p:cNvSpPr/>
          <p:nvPr/>
        </p:nvSpPr>
        <p:spPr>
          <a:xfrm>
            <a:off x="6357960" y="857160"/>
            <a:ext cx="2074680" cy="854280"/>
          </a:xfrm>
          <a:prstGeom prst="ellipse">
            <a:avLst/>
          </a:pr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ЋЕ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999720" y="2857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997200" y="32986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1003320" y="3759120"/>
            <a:ext cx="109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/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1001160" y="48657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999000" y="531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3"/>
          <p:cNvSpPr/>
          <p:nvPr/>
        </p:nvSpPr>
        <p:spPr>
          <a:xfrm>
            <a:off x="929880" y="581328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/о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0"/>
          <p:cNvSpPr/>
          <p:nvPr/>
        </p:nvSpPr>
        <p:spPr>
          <a:xfrm>
            <a:off x="243360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1"/>
          <p:cNvSpPr/>
          <p:nvPr/>
        </p:nvSpPr>
        <p:spPr>
          <a:xfrm>
            <a:off x="243360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2"/>
          <p:cNvSpPr/>
          <p:nvPr/>
        </p:nvSpPr>
        <p:spPr>
          <a:xfrm>
            <a:off x="2433600" y="403848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3"/>
          <p:cNvSpPr/>
          <p:nvPr/>
        </p:nvSpPr>
        <p:spPr>
          <a:xfrm>
            <a:off x="2428920" y="4908600"/>
            <a:ext cx="2233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4"/>
          <p:cNvSpPr/>
          <p:nvPr/>
        </p:nvSpPr>
        <p:spPr>
          <a:xfrm>
            <a:off x="2430360" y="548172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5"/>
          <p:cNvSpPr/>
          <p:nvPr/>
        </p:nvSpPr>
        <p:spPr>
          <a:xfrm>
            <a:off x="2430360" y="6075360"/>
            <a:ext cx="22291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6"/>
          <p:cNvSpPr/>
          <p:nvPr/>
        </p:nvSpPr>
        <p:spPr>
          <a:xfrm>
            <a:off x="4915080" y="2882880"/>
            <a:ext cx="2228760" cy="47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7"/>
          <p:cNvSpPr/>
          <p:nvPr/>
        </p:nvSpPr>
        <p:spPr>
          <a:xfrm>
            <a:off x="4915080" y="342432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18"/>
          <p:cNvSpPr/>
          <p:nvPr/>
        </p:nvSpPr>
        <p:spPr>
          <a:xfrm>
            <a:off x="4915080" y="402120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19"/>
          <p:cNvSpPr/>
          <p:nvPr/>
        </p:nvSpPr>
        <p:spPr>
          <a:xfrm>
            <a:off x="4915080" y="4890960"/>
            <a:ext cx="22287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ounded Rectangle 20"/>
          <p:cNvSpPr/>
          <p:nvPr/>
        </p:nvSpPr>
        <p:spPr>
          <a:xfrm>
            <a:off x="4915080" y="5462640"/>
            <a:ext cx="2228760" cy="4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21"/>
          <p:cNvSpPr/>
          <p:nvPr/>
        </p:nvSpPr>
        <p:spPr>
          <a:xfrm>
            <a:off x="4915080" y="6058080"/>
            <a:ext cx="22287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urved Down Arrow 22"/>
          <p:cNvSpPr/>
          <p:nvPr/>
        </p:nvSpPr>
        <p:spPr>
          <a:xfrm>
            <a:off x="2922480" y="2389320"/>
            <a:ext cx="3864240" cy="509400"/>
          </a:xfrm>
          <a:custGeom>
            <a:avLst/>
            <a:gdLst>
              <a:gd name="textAreaLeft" fmla="*/ 866880 w 3864240"/>
              <a:gd name="textAreaRight" fmla="*/ 2728800 w 3864240"/>
              <a:gd name="textAreaTop" fmla="*/ 68040 h 509400"/>
              <a:gd name="textAreaBottom" fmla="*/ 4413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4" hR="21600" stAng="10800000" swAng="5400000"/>
                <a:lnTo>
                  <a:pt x="10406" y="0"/>
                </a:lnTo>
                <a:arcTo wR="9694" hR="21600" stAng="-5400000" swAng="3605178"/>
                <a:lnTo>
                  <a:pt x="21292" y="16200"/>
                </a:lnTo>
                <a:lnTo>
                  <a:pt x="19743" y="21600"/>
                </a:lnTo>
                <a:lnTo>
                  <a:pt x="17578" y="16200"/>
                </a:lnTo>
                <a:lnTo>
                  <a:pt x="19079" y="16200"/>
                </a:lnTo>
                <a:arcTo wR="9694" hR="21600" stAng="-1794822" swAng="-3548485"/>
                <a:lnTo>
                  <a:pt x="10050" y="15"/>
                </a:lnTo>
                <a:arcTo wR="9694" hR="21600" stAng="-5456692" swAng="-5343308"/>
                <a:close/>
              </a:path>
              <a:path fill="darkenLess" w="21600" h="21600">
                <a:moveTo>
                  <a:pt x="0" y="21600"/>
                </a:moveTo>
                <a:arcTo wR="9694" hR="21600" stAng="10800000" swAng="5400000"/>
                <a:lnTo>
                  <a:pt x="9694" y="0"/>
                </a:lnTo>
                <a:arcTo wR="9694" hR="21600" stAng="-5400000" swAng="56692"/>
                <a:lnTo>
                  <a:pt x="10050" y="15"/>
                </a:lnTo>
                <a:arcTo wR="9694" hR="21600" stAng="-5456692" swAng="-5343308"/>
                <a:close/>
              </a:path>
            </a:pathLst>
          </a:cu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428760"/>
            <a:ext cx="7620120" cy="830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Обрати пажњу на наставке.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98" name="Google Shape;855;p44"/>
          <p:cNvSpPr/>
          <p:nvPr/>
        </p:nvSpPr>
        <p:spPr>
          <a:xfrm>
            <a:off x="714240" y="1500120"/>
            <a:ext cx="7820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Пази на то да</a:t>
            </a:r>
            <a:r>
              <a:rPr b="1" lang="en-U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ли</a:t>
            </a:r>
            <a:r>
              <a:rPr b="1" lang="en-U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e </a:t>
            </a: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реч завршава на</a:t>
            </a:r>
            <a:r>
              <a:rPr b="1" lang="en-US" sz="2800" spc="-1" strike="noStrike">
                <a:solidFill>
                  <a:srgbClr val="07376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или</a:t>
            </a:r>
            <a:r>
              <a:rPr b="1" lang="en-US" sz="2800" spc="-1" strike="noStrike">
                <a:solidFill>
                  <a:srgbClr val="07376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и</a:t>
            </a:r>
            <a:r>
              <a:rPr b="1" lang="sr-RS" sz="28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Rounded Rectangle 3" descr=""/>
          <p:cNvPicPr/>
          <p:nvPr/>
        </p:nvPicPr>
        <p:blipFill>
          <a:blip r:embed="rId1"/>
          <a:stretch/>
        </p:blipFill>
        <p:spPr>
          <a:xfrm>
            <a:off x="3633840" y="2871720"/>
            <a:ext cx="2193840" cy="541440"/>
          </a:xfrm>
          <a:prstGeom prst="rect">
            <a:avLst/>
          </a:prstGeom>
          <a:ln w="0">
            <a:noFill/>
          </a:ln>
        </p:spPr>
      </p:pic>
      <p:sp>
        <p:nvSpPr>
          <p:cNvPr id="300" name="Rounded Rectangle 4"/>
          <p:cNvSpPr/>
          <p:nvPr/>
        </p:nvSpPr>
        <p:spPr>
          <a:xfrm>
            <a:off x="3786120" y="5214960"/>
            <a:ext cx="1809720" cy="46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ounded Rectangle 5" descr=""/>
          <p:cNvPicPr/>
          <p:nvPr/>
        </p:nvPicPr>
        <p:blipFill>
          <a:blip r:embed="rId2"/>
          <a:stretch/>
        </p:blipFill>
        <p:spPr>
          <a:xfrm>
            <a:off x="3408480" y="4200480"/>
            <a:ext cx="2249280" cy="57312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le 6"/>
          <p:cNvSpPr/>
          <p:nvPr/>
        </p:nvSpPr>
        <p:spPr>
          <a:xfrm>
            <a:off x="1428840" y="3000240"/>
            <a:ext cx="1687320" cy="39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7"/>
          <p:cNvSpPr/>
          <p:nvPr/>
        </p:nvSpPr>
        <p:spPr>
          <a:xfrm>
            <a:off x="6097680" y="5286240"/>
            <a:ext cx="1760400" cy="39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ћи 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8"/>
          <p:cNvSpPr/>
          <p:nvPr/>
        </p:nvSpPr>
        <p:spPr>
          <a:xfrm>
            <a:off x="5954760" y="4299120"/>
            <a:ext cx="1933560" cy="47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е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9"/>
          <p:cNvSpPr/>
          <p:nvPr/>
        </p:nvSpPr>
        <p:spPr>
          <a:xfrm>
            <a:off x="6121440" y="2928960"/>
            <a:ext cx="1687320" cy="39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10"/>
          <p:cNvSpPr/>
          <p:nvPr/>
        </p:nvSpPr>
        <p:spPr>
          <a:xfrm>
            <a:off x="1066680" y="4286160"/>
            <a:ext cx="1933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11"/>
          <p:cNvSpPr/>
          <p:nvPr/>
        </p:nvSpPr>
        <p:spPr>
          <a:xfrm>
            <a:off x="1071720" y="5214960"/>
            <a:ext cx="193356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3a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urved Down Arrow 12"/>
          <p:cNvSpPr/>
          <p:nvPr/>
        </p:nvSpPr>
        <p:spPr>
          <a:xfrm>
            <a:off x="4143240" y="2500200"/>
            <a:ext cx="3214800" cy="500040"/>
          </a:xfrm>
          <a:custGeom>
            <a:avLst/>
            <a:gdLst>
              <a:gd name="textAreaLeft" fmla="*/ 756720 w 3214800"/>
              <a:gd name="textAreaRight" fmla="*/ 2395440 w 3214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70" hR="21600" stAng="10800000" swAng="5400000"/>
                <a:lnTo>
                  <a:pt x="11010" y="0"/>
                </a:lnTo>
                <a:arcTo wR="10170" hR="21600" stAng="-5400000" swAng="3675612"/>
                <a:lnTo>
                  <a:pt x="21277" y="16200"/>
                </a:lnTo>
                <a:lnTo>
                  <a:pt x="20760" y="21600"/>
                </a:lnTo>
                <a:lnTo>
                  <a:pt x="19597" y="16200"/>
                </a:lnTo>
                <a:lnTo>
                  <a:pt x="20017" y="16200"/>
                </a:lnTo>
                <a:arcTo wR="10170" hR="21600" stAng="-1724388" swAng="-3608719"/>
                <a:lnTo>
                  <a:pt x="10590" y="18"/>
                </a:lnTo>
                <a:arcTo wR="10170" hR="21600" stAng="-5466894" swAng="-5333106"/>
                <a:close/>
              </a:path>
              <a:path fill="darkenLess" w="21600" h="21600">
                <a:moveTo>
                  <a:pt x="0" y="21600"/>
                </a:moveTo>
                <a:arcTo wR="10170" hR="21600" stAng="10800000" swAng="5400000"/>
                <a:lnTo>
                  <a:pt x="10170" y="0"/>
                </a:lnTo>
                <a:arcTo wR="10170" hR="21600" stAng="-5400000" swAng="66894"/>
                <a:lnTo>
                  <a:pt x="10590" y="18"/>
                </a:lnTo>
                <a:arcTo wR="10170" hR="21600" stAng="-5466894" swAng="-5333106"/>
                <a:close/>
              </a:path>
            </a:pathLst>
          </a:cu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urved Down Arrow 13"/>
          <p:cNvSpPr/>
          <p:nvPr/>
        </p:nvSpPr>
        <p:spPr>
          <a:xfrm>
            <a:off x="4071960" y="3929040"/>
            <a:ext cx="3214800" cy="500040"/>
          </a:xfrm>
          <a:custGeom>
            <a:avLst/>
            <a:gdLst>
              <a:gd name="textAreaLeft" fmla="*/ 756720 w 3214800"/>
              <a:gd name="textAreaRight" fmla="*/ 2395440 w 3214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70" hR="21600" stAng="10800000" swAng="5400000"/>
                <a:lnTo>
                  <a:pt x="11010" y="0"/>
                </a:lnTo>
                <a:arcTo wR="10170" hR="21600" stAng="-5400000" swAng="3675612"/>
                <a:lnTo>
                  <a:pt x="21277" y="16200"/>
                </a:lnTo>
                <a:lnTo>
                  <a:pt x="20760" y="21600"/>
                </a:lnTo>
                <a:lnTo>
                  <a:pt x="19597" y="16200"/>
                </a:lnTo>
                <a:lnTo>
                  <a:pt x="20017" y="16200"/>
                </a:lnTo>
                <a:arcTo wR="10170" hR="21600" stAng="-1724388" swAng="-3608719"/>
                <a:lnTo>
                  <a:pt x="10590" y="18"/>
                </a:lnTo>
                <a:arcTo wR="10170" hR="21600" stAng="-5466894" swAng="-5333106"/>
                <a:close/>
              </a:path>
              <a:path fill="darkenLess" w="21600" h="21600">
                <a:moveTo>
                  <a:pt x="0" y="21600"/>
                </a:moveTo>
                <a:arcTo wR="10170" hR="21600" stAng="10800000" swAng="5400000"/>
                <a:lnTo>
                  <a:pt x="10170" y="0"/>
                </a:lnTo>
                <a:arcTo wR="10170" hR="21600" stAng="-5400000" swAng="66894"/>
                <a:lnTo>
                  <a:pt x="10590" y="18"/>
                </a:lnTo>
                <a:arcTo wR="10170" hR="21600" stAng="-5466894" swAng="-5333106"/>
                <a:close/>
              </a:path>
            </a:pathLst>
          </a:custGeom>
          <a:solidFill>
            <a:srgbClr val="99cb38"/>
          </a:solidFill>
          <a:ln w="1260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1571400"/>
            <a:ext cx="7620120" cy="4600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и – ићи – на – изле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и ће ићи на излет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овати – аутобусо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оваће аутобус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и – зоолошки – врт – у– Београд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ће зоолошки врт у Београд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– се – леп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шће се леп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Од датих речи састави реченице у будућем времену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7720" y="428760"/>
            <a:ext cx="7620120" cy="5929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– хранити – животиње – у– врт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ће хранити животиње у врт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ћи – и – на – Калемегдан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ћи ће и на Калемегнан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и –  се – у – парк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ће се у парк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ити – се – кући – увеч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иће се кући увеч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– уморни – али – задовољн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ће уморни, али задовољ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1356840"/>
            <a:ext cx="7620120" cy="4815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ћемо нову лекцију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еску записати ћу нове реч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 ћемо текст још једном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ца ће написати примере на табл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ћићу све да запишем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ћу и код куће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1379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Исправи погрешно написане реченице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1428840"/>
            <a:ext cx="7620120" cy="4743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ћемо нову лекцију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еску ћу записати нове реч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ћемо текст још једном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ца ће написати примере на табл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ћи ћу све да запишем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ћу и код куће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995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Решење задатка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30T12:38:57Z</dcterms:created>
  <dc:creator>Natasa</dc:creator>
  <dc:description/>
  <dc:language>en-US</dc:language>
  <cp:lastModifiedBy>Natasa</cp:lastModifiedBy>
  <dcterms:modified xsi:type="dcterms:W3CDTF">2022-03-05T19:27:36Z</dcterms:modified>
  <cp:revision>11</cp:revision>
  <dc:subject/>
  <dc:title>Будуће време</dc:title>
</cp:coreProperties>
</file>