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1B19-2CD7-4CCB-93FD-00F7617BD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53B3-F385-49E3-86E6-16452811C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591E-054E-4F0A-9741-06E0C0550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5F0B-296B-40DB-A296-5478B209E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5BEEF-7029-4E89-8BB1-BAA834CB5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CE76A-913B-40B8-BE87-98FF79ADF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ABBE0-C942-42AB-9CEF-DC314021E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CB87F-DCDE-4B36-8035-A6B22974E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8C62E-939E-4E4B-96D3-7E3EB8CDC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97AA4-3D24-40A4-8090-E0254D848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3636D-8671-4F1C-A0BF-5D43E4DE3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6536-F1AC-4900-8A1D-859E98053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390D8-781A-4F0D-BBEC-571AB870B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1A65F-0E4C-46E7-BEA7-535865AB2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8E8DD-6C21-4338-909E-EB359C565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FB110-1D2C-40E4-88A6-75A1A3532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BAB8B-0400-4528-BCA3-663CCD04B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A5B41-E369-4AE0-BA10-43EC1F5E8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5DC84-3701-499C-BDDD-8F19B4B0B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B3A5D-1400-40C2-8492-A2D1D4275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6EECE-0127-4EE2-8E40-FB18530A1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13620-B9B1-42AE-9EF6-57FB536E7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45E5-5CB6-47F9-823E-AFA913D9D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FF63D-709F-4B15-8E79-CBAC45B4C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1B7F4-65F4-46F4-9EA8-973936F3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66353-42F4-486E-B5DA-A3DC5362B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AE27D-17CC-4F12-92C9-221BB7740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03590-9298-470B-9060-686F2DA9B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919B5-3B52-4E3F-A1EE-623EE6764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50B23-7477-4BCC-B122-F7F381BAF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D9D49-0242-4C11-B982-B3C35EE11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EC30C-22B2-48D8-9142-FB21C7ADC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4A238-6C4C-4CBB-A899-82BB4ADC0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C79B-CF3D-4F47-AF34-269A04FB5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21B74-143B-46D4-90D5-B8929C08C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F4AF4-ABDB-4FAA-917E-7E9B1E87F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BCC6D-A125-4B65-9CF3-ACC57B1C8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C5515-9B10-4780-B7BD-FD957FB89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DD2A8-6307-453F-89F9-27854DE96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820F1-F224-46E4-AB0E-A7A67ADDA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5D6BE-8236-4B80-9D94-490B3AD32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0B4AE-430D-46BA-A166-C52E25481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E3D6C-BD93-4A3D-AE4A-3D00C5FC1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8D6BA-68F5-4C91-BEB3-D17A553D3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E552-FDC1-46E2-96BA-9C2D35F2F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CA6CD-DD9A-4330-8C9A-04C98424A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1B13A-A94B-4F79-A972-33466F3DC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BC0FE8-BB3D-4F13-8F61-42BB98D16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711D1E-9410-4088-B8CF-AD5B36F6B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2C7A18-656B-438A-9C17-844900D12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558E46-BF30-406F-B36F-C6C73A9A9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5A2EA3-4490-4B12-A2B7-0C1A7701B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D210C-1F7D-47D1-8B32-46A9334EA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E8C75C-20A9-4C76-B6B0-AA3975EC0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57AF98-E511-44A9-A6BB-D55219037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948A-6071-4EAA-8856-7D32C08D5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EFB7A0-723D-43C4-92D7-6F8ADE212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2FCCA4-C948-40FE-80B8-D59FD7A8D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CA996C-6138-4733-945E-F2FF4FF77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A5CF90-2C73-4561-866A-AC2DCF7FF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E60B5B-65BC-4300-ADFF-17EBEB082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0C29BE-3B89-48F4-8F08-E1ED70F72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D8A188-8E79-4BAB-9CED-C56BB0C5F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7A44B4-12D3-4356-821D-58E4C538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6C6EDB-A6B0-4DD5-A71A-4E59A224B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22EF1A-4C6F-401F-99A4-B936FA34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EAFD-A099-4989-BA39-1045B5E6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F636FD-74CD-450D-8100-2CE548278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055799-43AE-4D67-9151-6025BC988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317337-E93D-4B19-AF0D-A599AD204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1D8E-0569-467D-9513-24D6975FA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FA8E-BA0B-493B-9301-D9484482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841A2-0386-4F54-8DE5-0D354B73C542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53906-0976-4CE3-91DF-146C85318CC6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3AD96-27B6-4AE7-AE75-99FCF4A3EEBC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EE16C-50E0-41FE-97D2-3C4774C4DC51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1A581-A22B-45B4-B9AA-4E20613C619B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7A1D8-B678-40BB-9A4A-8ADC257C61E4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420840" y="3200400"/>
            <a:ext cx="6838920" cy="24447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33440" y="1544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Гвидо Тартаљ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580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Franklin Gothic Book"/>
              </a:rPr>
              <a:t>Допуни сваку реченицу одговарајућом речју.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6840" y="1600200"/>
            <a:ext cx="8472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ffffff"/>
                </a:solidFill>
                <a:latin typeface="Arial"/>
              </a:rPr>
              <a:t>Мале ____________спавају на часу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ffffff"/>
                </a:solidFill>
                <a:latin typeface="Arial"/>
              </a:rPr>
              <a:t>Сви ученици спавају у ____________ тишини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ffffff"/>
                </a:solidFill>
                <a:latin typeface="Arial"/>
              </a:rPr>
              <a:t>Њихова учитељица је ____________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ffffff"/>
                </a:solidFill>
                <a:latin typeface="Arial"/>
              </a:rPr>
              <a:t>Она ништа не ______________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ffffff"/>
                </a:solidFill>
                <a:latin typeface="Arial"/>
              </a:rPr>
              <a:t>Мало жмури, а онда ____ и она ___________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ffffff"/>
                </a:solidFill>
                <a:latin typeface="Arial"/>
              </a:rPr>
              <a:t>Отвори очи, немој да ______________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Turtle — Stock Photo"/>
          <p:cNvPicPr/>
          <p:nvPr/>
        </p:nvPicPr>
        <p:blipFill>
          <a:blip r:embed="rId1"/>
          <a:stretch/>
        </p:blipFill>
        <p:spPr>
          <a:xfrm>
            <a:off x="603360" y="1071720"/>
            <a:ext cx="8040600" cy="442908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2"/>
          <p:cNvSpPr/>
          <p:nvPr/>
        </p:nvSpPr>
        <p:spPr>
          <a:xfrm>
            <a:off x="1798920" y="357120"/>
            <a:ext cx="453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Arial"/>
              </a:rPr>
              <a:t>Каква животиња је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6432120" y="415800"/>
            <a:ext cx="229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ffff"/>
                </a:solidFill>
                <a:latin typeface="Arial"/>
              </a:rPr>
              <a:t>корњача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673920" y="5786280"/>
            <a:ext cx="585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Корњача је спора. Она има оклоп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Sea turtle — Stock Photo"/>
          <p:cNvPicPr/>
          <p:nvPr/>
        </p:nvPicPr>
        <p:blipFill>
          <a:blip r:embed="rId1"/>
          <a:stretch/>
        </p:blipFill>
        <p:spPr>
          <a:xfrm>
            <a:off x="498600" y="500040"/>
            <a:ext cx="8288280" cy="535788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2"/>
          <p:cNvSpPr/>
          <p:nvPr/>
        </p:nvSpPr>
        <p:spPr>
          <a:xfrm>
            <a:off x="663120" y="5905440"/>
            <a:ext cx="763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Морска корњача је велика. Она живи у мор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Hatchling baby loggerhead sea turtles Caretta caretta climb out — Stock Photo, Image"/>
          <p:cNvPicPr/>
          <p:nvPr/>
        </p:nvPicPr>
        <p:blipFill>
          <a:blip r:embed="rId1"/>
          <a:srcRect l="5817" t="8268" r="9102" b="11962"/>
          <a:stretch/>
        </p:blipFill>
        <p:spPr>
          <a:xfrm>
            <a:off x="357120" y="571680"/>
            <a:ext cx="8358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85520" y="213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Мање познате речи и изрази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10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заспати, заспи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10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Заспала је брзо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10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ази да не заспиш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10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Он заспи чим легн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456840" y="1071720"/>
            <a:ext cx="746748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10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успавати се, успавам с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9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Успавали су се на час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9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Лако се успавам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9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9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Happy smiling emotion girl screwing up her eyes and waiting surp — Stock Photo"/>
          <p:cNvPicPr/>
          <p:nvPr/>
        </p:nvPicPr>
        <p:blipFill>
          <a:blip r:embed="rId1"/>
          <a:srcRect l="0" t="0" r="12957" b="19743"/>
          <a:stretch/>
        </p:blipFill>
        <p:spPr>
          <a:xfrm>
            <a:off x="1428840" y="1214280"/>
            <a:ext cx="6500880" cy="521496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2"/>
          <p:cNvSpPr/>
          <p:nvPr/>
        </p:nvSpPr>
        <p:spPr>
          <a:xfrm>
            <a:off x="666360" y="357120"/>
            <a:ext cx="434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жмурити, жмури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456840" y="857160"/>
            <a:ext cx="746748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10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у пуној тишин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9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Ученици пишу контролни у пуној тишин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456840" y="857160"/>
            <a:ext cx="746748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10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мудар, мудра, мудр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9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мудар човек, мудро дете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9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Учитељица је мудр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" dur="5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9-17T11:06:09Z</dcterms:created>
  <dc:creator>Natasa</dc:creator>
  <dc:description/>
  <dc:language>en-US</dc:language>
  <cp:lastModifiedBy>Natasa</cp:lastModifiedBy>
  <dcterms:modified xsi:type="dcterms:W3CDTF">2021-07-20T13:50:15Z</dcterms:modified>
  <cp:revision>6</cp:revision>
  <dc:subject/>
  <dc:title>Како корњаче уче</dc:title>
</cp:coreProperties>
</file>