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72C-5806-48D7-87A6-9F2179B8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C81-15FB-4B89-AF42-680295F7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20F-0F63-4F21-BE36-7B6CC011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6A7-166F-42DF-ACAB-07B2FF77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76F-66F6-48EA-BA69-1076125D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4E2-9061-4BCE-8FE9-B2347292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3FD-1ED1-4E71-B303-740F6C18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547A-09B0-4F7B-ADF1-30547766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2FD-1A5F-4600-94D3-64AD8C1F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A90-AF5E-44C0-9877-960A8803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65AA-E7C3-4ECD-8CF1-352AD0F7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8BF-90CE-4FA2-B2B9-57729004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36DF-40B5-4724-8313-F54AC1D39141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CljLu_Wz-m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736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Капетан Џон Пиплфокс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8920" y="4000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Душан Рад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Капетан Џон Пиплфокс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s://upload.wikimedia.org/wikipedia/sr/thumb/f/fc/Kapetan_Dzon_Piplfoks_-_Dusan_Radovic.jpg/1024px-Kapetan_Dzon_Piplfoks_-_Dusan_Radovic.jpg"/>
          <p:cNvPicPr/>
          <p:nvPr/>
        </p:nvPicPr>
        <p:blipFill>
          <a:blip r:embed="rId1"/>
          <a:stretch/>
        </p:blipFill>
        <p:spPr>
          <a:xfrm>
            <a:off x="317520" y="1000080"/>
            <a:ext cx="8496360" cy="4786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1115280" y="357120"/>
            <a:ext cx="451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Капетан Џон Пиплфокс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Dušan Radović: Noćas je neko u Beogradu ostavio promaju - XXZ Portal"/>
          <p:cNvPicPr/>
          <p:nvPr/>
        </p:nvPicPr>
        <p:blipFill>
          <a:blip r:embed="rId1"/>
          <a:stretch/>
        </p:blipFill>
        <p:spPr>
          <a:xfrm>
            <a:off x="706320" y="1279440"/>
            <a:ext cx="7731360" cy="4810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121040" y="357120"/>
            <a:ext cx="509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Душан Радовић (</a:t>
            </a:r>
            <a:r>
              <a:rPr b="0" lang="pl-PL" sz="3200" spc="-1" strike="noStrike">
                <a:solidFill>
                  <a:srgbClr val="ffffff"/>
                </a:solidFill>
                <a:latin typeface="Calibri"/>
              </a:rPr>
              <a:t>1922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pl-PL" sz="3200" spc="-1" strike="noStrike">
                <a:solidFill>
                  <a:srgbClr val="ffffff"/>
                </a:solidFill>
                <a:latin typeface="Calibri"/>
              </a:rPr>
              <a:t>1984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2000160" y="1592280"/>
            <a:ext cx="5083200" cy="4194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1991880" y="357120"/>
            <a:ext cx="349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једрењак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, -а м 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838160" y="714240"/>
            <a:ext cx="546768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ugaonik 3"/>
          <p:cNvSpPr/>
          <p:nvPr/>
        </p:nvSpPr>
        <p:spPr>
          <a:xfrm>
            <a:off x="246240" y="18576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500200" y="357120"/>
            <a:ext cx="43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седмоглаво чудовиш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5256000" y="1571760"/>
            <a:ext cx="337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плазити се, -им 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плазити јез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04680" y="270828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сиктати, сикћ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1799640" y="5416560"/>
            <a:ext cx="30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халапљив, -а, -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95280" y="1359000"/>
            <a:ext cx="4533840" cy="3671640"/>
          </a:xfrm>
          <a:prstGeom prst="rect">
            <a:avLst/>
          </a:prstGeom>
          <a:ln w="0">
            <a:noFill/>
          </a:ln>
        </p:spPr>
      </p:pic>
      <p:cxnSp>
        <p:nvCxnSpPr>
          <p:cNvPr id="61" name="Straight Arrow Connector 7"/>
          <p:cNvCxnSpPr>
            <a:endCxn id="57" idx="1"/>
          </p:cNvCxnSpPr>
          <p:nvPr/>
        </p:nvCxnSpPr>
        <p:spPr>
          <a:xfrm flipV="1">
            <a:off x="4000320" y="2109240"/>
            <a:ext cx="1238760" cy="176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71680" y="35712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Тема: 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Како се гусари спремају да победе седмоглаво чудовиш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723960" y="1573200"/>
            <a:ext cx="7715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Ликови: 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Капетан Џон Пиплфок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Спик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Корња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Секира 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Чудовишт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youtube.com/watch?v=CljLu_Wz-m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57160" y="644400"/>
            <a:ext cx="771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Радио-драму Капетан Џон Пиплфокс можеш пронаћи на следећој адрес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20T14:11:29Z</dcterms:created>
  <dc:creator>Natasa</dc:creator>
  <dc:description/>
  <dc:language>en-US</dc:language>
  <cp:lastModifiedBy>Natasa</cp:lastModifiedBy>
  <dcterms:modified xsi:type="dcterms:W3CDTF">2022-02-20T19:36:29Z</dcterms:modified>
  <cp:revision>12</cp:revision>
  <dc:subject/>
  <dc:title>„Капетан Џон Пиплфокс”</dc:title>
</cp:coreProperties>
</file>