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7BF-1F6E-4073-B0BB-FAEEC761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042-E811-4B8D-80D9-D6A914F2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1B3-B282-4F27-9B37-0A8775DE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B94-370F-4DB5-B521-7199BBAE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05E-C6AB-4EA4-B0E9-DEDD3617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744-5710-4C2A-8DFC-806C0186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F8B-1769-4362-BE21-103B0046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3C5-00B2-47E9-89F9-CCE60446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DB4-1ED2-4552-BEED-1820BE26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9FC-22EA-4CCA-A54F-E462AD09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0087-F0FE-48B5-9BCB-17CD64C3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A96-164F-4F69-A423-1561BEE6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61BB-9AB5-442F-B923-624A221C0181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68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 (а) ким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 се дружиш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avougaonik 3"/>
          <p:cNvSpPr/>
          <p:nvPr/>
        </p:nvSpPr>
        <p:spPr>
          <a:xfrm>
            <a:off x="285840" y="14292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 ким деца шетају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571680" y="5072040"/>
            <a:ext cx="357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Деца шетају с мам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ом </a:t>
            </a:r>
            <a:r>
              <a:rPr b="0" sz="32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тат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ом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929120" y="5214960"/>
            <a:ext cx="385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Мама и тата шетају с  </a:t>
            </a: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дец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ом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000160" y="1928880"/>
            <a:ext cx="4071960" cy="322092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428760" y="92880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 ким шетају мама и тата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avougaonik 3"/>
          <p:cNvSpPr/>
          <p:nvPr/>
        </p:nvSpPr>
        <p:spPr>
          <a:xfrm>
            <a:off x="285840" y="14292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итамо: С(а) ким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785880" y="135720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с мам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ом </a:t>
            </a:r>
            <a:r>
              <a:rPr b="0" sz="32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тат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Calibri"/>
              </a:rPr>
              <a:t>са сестр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ом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са брат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са Жељк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ом </a:t>
            </a:r>
            <a:r>
              <a:rPr b="0" sz="32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Милош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000080" y="357192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с дечац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има </a:t>
            </a:r>
            <a:r>
              <a:rPr b="0" sz="32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девојчиц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Calibri"/>
              </a:rPr>
              <a:t>са сестр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ама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са другов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има</a:t>
            </a:r>
            <a:r>
              <a:rPr b="0" sz="3200" spc="-1" strike="noStrike">
                <a:solidFill>
                  <a:srgbClr val="ffffff"/>
                </a:solidFill>
                <a:latin typeface="Calibri"/>
              </a:rPr>
              <a:t> и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другариц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ugaonik 3"/>
          <p:cNvSpPr/>
          <p:nvPr/>
        </p:nvSpPr>
        <p:spPr>
          <a:xfrm>
            <a:off x="285840" y="14292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итамо: С(а) ким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85880" y="2071800"/>
            <a:ext cx="750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са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 мам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ом </a:t>
            </a:r>
            <a:r>
              <a:rPr b="0" sz="32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тат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ом </a:t>
            </a:r>
            <a:r>
              <a:rPr b="1" sz="3200" spc="-1" strike="noStrike">
                <a:solidFill>
                  <a:srgbClr val="ffffff"/>
                </a:solidFill>
                <a:latin typeface="Calibri"/>
              </a:rPr>
              <a:t>/ </a:t>
            </a: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 мам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ом </a:t>
            </a:r>
            <a:r>
              <a:rPr b="0" sz="32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тат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са</a:t>
            </a:r>
            <a:r>
              <a:rPr b="0" sz="3200" spc="-1" strike="noStrike">
                <a:solidFill>
                  <a:srgbClr val="ffffff"/>
                </a:solidFill>
                <a:latin typeface="Calibri"/>
              </a:rPr>
              <a:t> сестр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са</a:t>
            </a:r>
            <a:r>
              <a:rPr b="0" sz="3200" spc="-1" strike="noStrike">
                <a:solidFill>
                  <a:srgbClr val="ffffff"/>
                </a:solidFill>
                <a:latin typeface="Calibri"/>
              </a:rPr>
              <a:t> Зоран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ом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са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 брат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ом </a:t>
            </a:r>
            <a:r>
              <a:rPr b="1" sz="3200" spc="-1" strike="noStrike">
                <a:solidFill>
                  <a:srgbClr val="ffffff"/>
                </a:solidFill>
                <a:latin typeface="Calibri"/>
              </a:rPr>
              <a:t>/ </a:t>
            </a: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 брат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са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 Жељк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ом </a:t>
            </a:r>
            <a:r>
              <a:rPr b="0" sz="32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Милош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928800" y="464328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 дечац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има </a:t>
            </a:r>
            <a:r>
              <a:rPr b="0" sz="32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девојчиц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Calibri"/>
              </a:rPr>
              <a:t>са</a:t>
            </a:r>
            <a:r>
              <a:rPr b="0" sz="3200" spc="-1" strike="noStrike">
                <a:solidFill>
                  <a:srgbClr val="ffffff"/>
                </a:solidFill>
                <a:latin typeface="Calibri"/>
              </a:rPr>
              <a:t> сестр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ама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са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 другов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има</a:t>
            </a:r>
            <a:r>
              <a:rPr b="0" sz="3200" spc="-1" strike="noStrike">
                <a:solidFill>
                  <a:srgbClr val="ffffff"/>
                </a:solidFill>
                <a:latin typeface="Calibri"/>
              </a:rPr>
              <a:t> и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другариц</a:t>
            </a:r>
            <a:r>
              <a:rPr b="1" sz="3200" spc="-1" strike="noStrike">
                <a:solidFill>
                  <a:srgbClr val="ff0000"/>
                </a:solidFill>
                <a:latin typeface="Calibri"/>
              </a:rPr>
              <a:t>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1285920" y="1071720"/>
            <a:ext cx="23572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 / 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214800" y="12621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Calibri"/>
              </a:rPr>
              <a:t>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5572080" y="1071720"/>
            <a:ext cx="1643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12"/>
          <p:cNvSpPr/>
          <p:nvPr/>
        </p:nvSpPr>
        <p:spPr>
          <a:xfrm flipV="1">
            <a:off x="5715000" y="1213920"/>
            <a:ext cx="1357200" cy="7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5643720" y="1214280"/>
            <a:ext cx="1500120" cy="7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ugaonik 3"/>
          <p:cNvSpPr/>
          <p:nvPr/>
        </p:nvSpPr>
        <p:spPr>
          <a:xfrm>
            <a:off x="285840" y="14292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Обрати пажњ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57120" y="335772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С ким сестра једе чоколаду? С ким се тата иг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2214720" y="1214280"/>
            <a:ext cx="2000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де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6215040" y="142884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4857840" y="2428920"/>
            <a:ext cx="1643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100" spc="-1" strike="noStrike">
                <a:solidFill>
                  <a:srgbClr val="ffffff"/>
                </a:solidFill>
                <a:latin typeface="Calibri"/>
              </a:rPr>
              <a:t>с браћ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6286680" y="26305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4643280" y="1214280"/>
            <a:ext cx="1857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 д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2428920" y="2500200"/>
            <a:ext cx="2000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браћ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768240" y="4065480"/>
            <a:ext cx="3170520" cy="207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4979880" y="4138560"/>
            <a:ext cx="3206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ravougaonik 3"/>
          <p:cNvSpPr/>
          <p:nvPr/>
        </p:nvSpPr>
        <p:spPr>
          <a:xfrm>
            <a:off x="285840" y="14292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Шта волиш да радиш с њим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642960" y="1143000"/>
            <a:ext cx="2000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б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714240" y="2357280"/>
            <a:ext cx="21434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браћ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2500200" y="1143000"/>
            <a:ext cx="1857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те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4357800" y="1214280"/>
            <a:ext cx="2000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ба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6286680" y="1214280"/>
            <a:ext cx="2000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три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3000240" y="2357280"/>
            <a:ext cx="25718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100" spc="-1" strike="noStrike">
                <a:solidFill>
                  <a:srgbClr val="ffffff"/>
                </a:solidFill>
                <a:latin typeface="Calibri"/>
              </a:rPr>
              <a:t>ујак и ујна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2000160" y="3643200"/>
            <a:ext cx="25718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родитељ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857840" y="3643200"/>
            <a:ext cx="25718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100" spc="-1" strike="noStrike">
                <a:solidFill>
                  <a:srgbClr val="ffffff"/>
                </a:solidFill>
                <a:latin typeface="Calibri"/>
              </a:rPr>
              <a:t>другарице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6000840" y="2428920"/>
            <a:ext cx="25718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ест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1928880" y="4857840"/>
            <a:ext cx="25718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друг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tle 1"/>
          <p:cNvSpPr/>
          <p:nvPr/>
        </p:nvSpPr>
        <p:spPr>
          <a:xfrm>
            <a:off x="4786200" y="4857840"/>
            <a:ext cx="25718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100" spc="-1" strike="noStrike">
                <a:solidFill>
                  <a:srgbClr val="ffffff"/>
                </a:solidFill>
                <a:latin typeface="Calibri"/>
              </a:rPr>
              <a:t>пријатељи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ravougaonik 3"/>
          <p:cNvSpPr/>
          <p:nvPr/>
        </p:nvSpPr>
        <p:spPr>
          <a:xfrm>
            <a:off x="285840" y="14292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37144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00"/>
                </a:solidFill>
                <a:latin typeface="Calibri"/>
              </a:rPr>
              <a:t>Чиме</a:t>
            </a:r>
            <a:r>
              <a:rPr b="0" lang="sr-RS" sz="4000" spc="-1" strike="noStrike">
                <a:solidFill>
                  <a:srgbClr val="ffffff"/>
                </a:solidFill>
                <a:latin typeface="Calibri"/>
              </a:rPr>
              <a:t> путујеш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le 1"/>
          <p:cNvSpPr/>
          <p:nvPr/>
        </p:nvSpPr>
        <p:spPr>
          <a:xfrm>
            <a:off x="857160" y="1071720"/>
            <a:ext cx="2143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аутоб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tle 1"/>
          <p:cNvSpPr/>
          <p:nvPr/>
        </p:nvSpPr>
        <p:spPr>
          <a:xfrm>
            <a:off x="5000760" y="1143000"/>
            <a:ext cx="29289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100" spc="-1" strike="noStrike">
                <a:solidFill>
                  <a:srgbClr val="ffffff"/>
                </a:solidFill>
                <a:latin typeface="Calibri"/>
              </a:rPr>
              <a:t>мама и тата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5143680" y="2643120"/>
            <a:ext cx="25714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родитељ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571680" y="3357720"/>
            <a:ext cx="2143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во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928800" y="1857240"/>
            <a:ext cx="1857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к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5429160" y="3500280"/>
            <a:ext cx="25718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ест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785880" y="4357800"/>
            <a:ext cx="22860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ави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4786200" y="285840"/>
            <a:ext cx="37148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00"/>
                </a:solidFill>
                <a:latin typeface="Calibri"/>
              </a:rPr>
              <a:t>С ким </a:t>
            </a:r>
            <a:r>
              <a:rPr b="0" lang="sr-RS" sz="4000" spc="-1" strike="noStrike">
                <a:solidFill>
                  <a:srgbClr val="ffffff"/>
                </a:solidFill>
                <a:latin typeface="Calibri"/>
              </a:rPr>
              <a:t>путујеш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tle 1"/>
          <p:cNvSpPr/>
          <p:nvPr/>
        </p:nvSpPr>
        <p:spPr>
          <a:xfrm>
            <a:off x="5500800" y="4500720"/>
            <a:ext cx="25714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700" spc="-1" strike="noStrike">
                <a:solidFill>
                  <a:srgbClr val="ffffff"/>
                </a:solidFill>
                <a:latin typeface="Calibri"/>
              </a:rPr>
              <a:t>бака и дед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2786040" y="114300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Calibri"/>
              </a:rPr>
              <a:t>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4548240" y="186372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itle 1"/>
          <p:cNvSpPr/>
          <p:nvPr/>
        </p:nvSpPr>
        <p:spPr>
          <a:xfrm>
            <a:off x="5000760" y="1785960"/>
            <a:ext cx="349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700" spc="-1" strike="noStrike">
                <a:solidFill>
                  <a:srgbClr val="ffffff"/>
                </a:solidFill>
                <a:latin typeface="Calibri"/>
              </a:rPr>
              <a:t>мам</a:t>
            </a:r>
            <a:r>
              <a:rPr b="1" lang="sr-RS" sz="3700" spc="-1" strike="noStrike">
                <a:solidFill>
                  <a:srgbClr val="ff0000"/>
                </a:solidFill>
                <a:latin typeface="Calibri"/>
              </a:rPr>
              <a:t>ом</a:t>
            </a:r>
            <a:r>
              <a:rPr b="0" lang="sr-RS" sz="3700" spc="-1" strike="noStrike">
                <a:solidFill>
                  <a:srgbClr val="ffffff"/>
                </a:solidFill>
                <a:latin typeface="Calibri"/>
              </a:rPr>
              <a:t> и тат</a:t>
            </a:r>
            <a:r>
              <a:rPr b="1" lang="sr-RS" sz="3700" spc="-1" strike="noStrike">
                <a:solidFill>
                  <a:srgbClr val="ff0000"/>
                </a:solidFill>
                <a:latin typeface="Calibri"/>
              </a:rPr>
              <a:t>ом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2000160" y="258768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Calibri"/>
              </a:rPr>
              <a:t>и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tle 1"/>
          <p:cNvSpPr/>
          <p:nvPr/>
        </p:nvSpPr>
        <p:spPr>
          <a:xfrm>
            <a:off x="785880" y="2500200"/>
            <a:ext cx="1857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к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4646520" y="279252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7215120" y="271476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Calibri"/>
              </a:rPr>
              <a:t>и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2000160" y="3444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Calibri"/>
              </a:rPr>
              <a:t>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4934160" y="3701880"/>
            <a:ext cx="7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00"/>
                </a:solidFill>
                <a:latin typeface="Calibri"/>
              </a:rPr>
              <a:t>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7143840" y="357192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Calibri"/>
              </a:rPr>
              <a:t>а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2571840" y="442908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Calibri"/>
              </a:rPr>
              <a:t>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4700520" y="536400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tle 1"/>
          <p:cNvSpPr/>
          <p:nvPr/>
        </p:nvSpPr>
        <p:spPr>
          <a:xfrm>
            <a:off x="5153040" y="5286240"/>
            <a:ext cx="349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700" spc="-1" strike="noStrike">
                <a:solidFill>
                  <a:srgbClr val="ffffff"/>
                </a:solidFill>
                <a:latin typeface="Calibri"/>
              </a:rPr>
              <a:t>бак</a:t>
            </a:r>
            <a:r>
              <a:rPr b="1" lang="sr-RS" sz="3700" spc="-1" strike="noStrike">
                <a:solidFill>
                  <a:srgbClr val="ff0000"/>
                </a:solidFill>
                <a:latin typeface="Calibri"/>
              </a:rPr>
              <a:t>ом</a:t>
            </a:r>
            <a:r>
              <a:rPr b="0" lang="sr-RS" sz="3700" spc="-1" strike="noStrike">
                <a:solidFill>
                  <a:srgbClr val="ffffff"/>
                </a:solidFill>
                <a:latin typeface="Calibri"/>
              </a:rPr>
              <a:t> и дед</a:t>
            </a:r>
            <a:r>
              <a:rPr b="1" lang="sr-RS" sz="3700" spc="-1" strike="noStrike">
                <a:solidFill>
                  <a:srgbClr val="ff0000"/>
                </a:solidFill>
                <a:latin typeface="Calibri"/>
              </a:rPr>
              <a:t>ом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01T19:32:23Z</dcterms:created>
  <dc:creator>Natasa</dc:creator>
  <dc:description/>
  <dc:language>en-US</dc:language>
  <cp:lastModifiedBy>Natasa</cp:lastModifiedBy>
  <dcterms:modified xsi:type="dcterms:W3CDTF">2022-03-01T21:00:15Z</dcterms:modified>
  <cp:revision>10</cp:revision>
  <dc:subject/>
  <dc:title>С (а) ким  се дружиш?</dc:title>
</cp:coreProperties>
</file>