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CF6-7604-47C5-9D3F-9E04F499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D35-2EED-4541-8187-2E275E48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4BE-AD3F-40A2-A249-6AE85D69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1B4-F337-4128-963D-2E6A2153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E89-FD01-4CB4-AC7A-9C96A619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550-FD0E-4EC2-8879-53EC1CB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2F4-65E5-45AA-B268-ECCAFC1F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56D-8C68-49A3-97E3-898ED66B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C0C-F9FD-42A5-96CD-6A994F23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9CF-D261-45FC-9333-371E349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EC5-F40C-488B-806C-81A980BE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E37-A1A3-4DC8-9663-D6F87A5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9264-1E6A-4965-BEBC-0BCE2FEE1858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85840" y="185760"/>
            <a:ext cx="8611920" cy="6386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 радимо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 они пишу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57120" y="45007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ише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оловк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139920" y="1206360"/>
            <a:ext cx="2578320" cy="24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924520" y="2279520"/>
            <a:ext cx="2774880" cy="1822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493560" y="1994040"/>
            <a:ext cx="2524320" cy="2157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3286080" y="43578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ише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пенкал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00840" y="442908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ише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фломастер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 секу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215040" y="42800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ече лук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нож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е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286080" y="43578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ече пап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маказ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28760" y="428616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Сече дрво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тестер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924520" y="2066760"/>
            <a:ext cx="2798640" cy="18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66640" y="2139840"/>
            <a:ext cx="2590920" cy="18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352680" y="1639800"/>
            <a:ext cx="229896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итамо:</a:t>
            </a:r>
            <a:br>
              <a:rPr sz="4400"/>
            </a:b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571680" y="264312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НЕ:</a:t>
            </a:r>
            <a:br>
              <a:rPr sz="4400"/>
            </a:b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(а) чи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571680" y="2643120"/>
            <a:ext cx="82152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15"/>
          <p:cNvSpPr/>
          <p:nvPr/>
        </p:nvSpPr>
        <p:spPr>
          <a:xfrm flipV="1">
            <a:off x="500040" y="2642760"/>
            <a:ext cx="82868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итамо:</a:t>
            </a:r>
            <a:br>
              <a:rPr sz="4400"/>
            </a:b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 пишеш? Чиме путују?</a:t>
            </a:r>
            <a:br>
              <a:rPr sz="4400"/>
            </a:b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 ра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71680" y="242892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ишем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оловк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Пишем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пенкал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928800" y="328608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Путују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аутобус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Путују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кол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има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28800" y="44290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Раде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алат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ом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Раде </a:t>
            </a:r>
            <a:r>
              <a:rPr b="1" lang="sr-RS" sz="3200" spc="-1" strike="noStrike">
                <a:solidFill>
                  <a:srgbClr val="ffffff"/>
                </a:solidFill>
                <a:latin typeface="Calibri"/>
              </a:rPr>
              <a:t>рук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ама</a:t>
            </a: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Обрати пажњу на настав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00080" y="1143000"/>
          <a:ext cx="7191360" cy="2260440"/>
        </p:xfrm>
        <a:graphic>
          <a:graphicData uri="http://schemas.openxmlformats.org/drawingml/2006/table">
            <a:tbl>
              <a:tblPr/>
              <a:tblGrid>
                <a:gridCol w="642960"/>
                <a:gridCol w="2519280"/>
                <a:gridCol w="1677960"/>
                <a:gridCol w="235116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Ј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.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.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7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М           -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м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нож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ст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м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ључ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овк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шик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М        -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м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срц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м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лиц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м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000080" y="3786120"/>
          <a:ext cx="7072200" cy="2476440"/>
        </p:xfrm>
        <a:graphic>
          <a:graphicData uri="http://schemas.openxmlformats.org/drawingml/2006/table">
            <a:tbl>
              <a:tblPr/>
              <a:tblGrid>
                <a:gridCol w="741240"/>
                <a:gridCol w="2100600"/>
                <a:gridCol w="1919160"/>
                <a:gridCol w="23112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н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.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.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95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ов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ма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ж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ст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ма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ључ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в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овк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шик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А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ма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ц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ма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</a:t>
                      </a:r>
                      <a:r>
                        <a:rPr b="1" lang="sr-R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ма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20880" y="1352520"/>
            <a:ext cx="3236760" cy="194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565520" y="1352520"/>
            <a:ext cx="2938680" cy="19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993600" y="3780000"/>
            <a:ext cx="2981520" cy="194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4786200" y="3786120"/>
            <a:ext cx="2745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06360" y="1494000"/>
            <a:ext cx="2968920" cy="215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705200" y="1494000"/>
            <a:ext cx="2944800" cy="211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1279440" y="3925800"/>
            <a:ext cx="2822760" cy="207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4705200" y="3992400"/>
            <a:ext cx="2944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ravougaonik 3"/>
          <p:cNvSpPr/>
          <p:nvPr/>
        </p:nvSpPr>
        <p:spPr>
          <a:xfrm>
            <a:off x="285840" y="214200"/>
            <a:ext cx="8611920" cy="63867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Запамтим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357120" y="128592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итамо:</a:t>
            </a:r>
            <a:br>
              <a:rPr sz="4400"/>
            </a:b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Чи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500040" y="371484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НЕ:</a:t>
            </a:r>
            <a:br>
              <a:rPr sz="4400"/>
            </a:b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(а) чи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6"/>
          <p:cNvSpPr/>
          <p:nvPr/>
        </p:nvSpPr>
        <p:spPr>
          <a:xfrm>
            <a:off x="571680" y="3786120"/>
            <a:ext cx="82152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7"/>
          <p:cNvSpPr/>
          <p:nvPr/>
        </p:nvSpPr>
        <p:spPr>
          <a:xfrm flipV="1">
            <a:off x="500040" y="3785760"/>
            <a:ext cx="82868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1T16:55:19Z</dcterms:created>
  <dc:creator>Natasa</dc:creator>
  <dc:description/>
  <dc:language>en-US</dc:language>
  <cp:lastModifiedBy>Natasa</cp:lastModifiedBy>
  <dcterms:modified xsi:type="dcterms:W3CDTF">2022-03-01T18:30:35Z</dcterms:modified>
  <cp:revision>10</cp:revision>
  <dc:subject/>
  <dc:title>Чиме радиш?</dc:title>
</cp:coreProperties>
</file>