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1CE-B255-4C84-845A-112C9F50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17C-A407-4D72-AC36-D25A0B6F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D89-DC5D-4D4B-BD87-0A0675B7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602-E980-4113-8666-8C8D4ACC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43CD-A128-4EE4-92ED-EF5138DA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538C-DF7F-40A1-894D-C9F94E61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DFAE-FA66-4B4E-9A5C-EBA57438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D74B-718A-45AB-8A22-AB3C190E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95E4-C133-4671-BDB5-89E364ED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437B-A5CE-44CC-9363-65891ED6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C0AD-C4C5-409E-8E0D-23CF301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123-8184-415C-B9DC-0CB7896E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73C2-A51E-4F68-84BE-1C37204B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AB22-7F73-4D0D-BF9F-D628F3E0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E11C-9D92-4D90-B13B-779B8BAA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F05B-50C9-4C71-B8C9-B29545F6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D353-F84E-4B76-8122-7A3B614D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9E36-B63A-485A-A418-7B5DBEA7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1CAE-EF46-480A-A490-7DFC6990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A9CC-8F7C-4C01-B36E-3BB07029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0406-E048-45DB-AA0C-945EE4CB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9DA4-7AE2-4649-A6F7-AA4ED8F7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060-EB97-4C88-A129-60957ED6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4AC5-309A-482E-B024-D4A6C891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EAD1-5596-4B6B-B71C-22090E64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8AAC-09CC-4ED2-B898-2BDB39DF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6535-8916-406C-808B-6E8BC831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C899B-FBEE-41A6-B234-200F113E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81D4-8A67-48D8-96CE-2C8A59F1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BDA0-EFF2-4AAA-920F-99E13C55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9F260-20F8-4804-98AC-3B10F36B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18BA-2EBE-4BD2-8924-02956B22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3176-E975-489A-8C4E-FFB5CCE0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528-70F4-49D1-AC98-979D1AE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CF93F-CA2B-4CBB-9506-E2134409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E8317-0699-42F0-BD4B-8F83B3BD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8302A-9705-4223-8212-90041604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CA202-D469-415A-A03A-9E4FD04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09FDF-0619-42AB-9F9C-DEE40C0F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EB00B-3DC1-415A-BEC8-5157CA9A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C66F-29F4-4636-B95C-96CC93CB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62D2B-9BB7-408B-90AD-5ACFAF7C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271D-FB36-403A-A1F3-129FF7E1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12FA-244F-46E7-BF7A-4DFE0D35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FAE-4A59-4B4B-8385-7961C2F6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349D4-3466-4FB6-BBFE-1098A8CE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10512-013F-49B4-A1F5-11B9DF84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03BF9-144A-45E8-AB75-D2B57809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7EDFF-22AA-437A-88C9-8CEC3334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7C088-2262-4A58-975D-FEBC401C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923F2-9660-42E4-A782-8DFB655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2C17D-6C92-417D-88D0-446ED6E8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2DE99-AB6E-40A2-B548-B9388FC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2352A-FBF2-4A12-89C0-30E7D386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26A7-E7F4-4167-BF9B-22731FCE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1CB-D892-42B6-B387-4D68F5FC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B25E0-A8BD-407C-9861-DCAF8797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05C-27E1-4089-83C6-047A4916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B3C-90E7-472E-9FEC-77F11ED3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A10-FF52-4D3A-AB56-B5E87C36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3105-1FEE-4627-BE02-289EF0159058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080" y="0"/>
              <a:ext cx="914436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5640" cy="6858000"/>
              <a:chOff x="0" y="0"/>
              <a:chExt cx="354564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3040" y="0"/>
                <a:ext cx="10260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BF55-E5E5-4BB6-A70C-74722521EA0D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2760" y="0"/>
              <a:ext cx="10260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AB38-C999-46D1-AADE-33CC26B364CB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06FE-BB9D-4D55-A155-9E2C5630779F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DD34-AF5B-4DEE-92A0-F6F3A95AA2BD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Школски</a:t>
            </a:r>
            <a:r>
              <a:rPr b="0" lang="en-U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 </a:t>
            </a:r>
            <a:r>
              <a:rPr b="0" lang="sr-R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намештај и школски прибор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37720" y="571320"/>
            <a:ext cx="7620120" cy="5600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часове ______________ некад ми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ју                            и                       , а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д                          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2" name="Picture 4" descr="Tempere 42ml 1/10 AERO - Papirni Svet"/>
          <p:cNvPicPr/>
          <p:nvPr/>
        </p:nvPicPr>
        <p:blipFill>
          <a:blip r:embed="rId1"/>
          <a:srcRect l="5225" t="17066" r="2535" b="13564"/>
          <a:stretch/>
        </p:blipFill>
        <p:spPr>
          <a:xfrm>
            <a:off x="2571840" y="1714680"/>
            <a:ext cx="2357280" cy="1357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Brush Isolated Objects White Background Vector Illustration — Stock Vector"/>
          <p:cNvPicPr/>
          <p:nvPr/>
        </p:nvPicPr>
        <p:blipFill>
          <a:blip r:embed="rId2"/>
          <a:srcRect l="5568" t="13102" r="7068" b="19753"/>
          <a:stretch/>
        </p:blipFill>
        <p:spPr>
          <a:xfrm>
            <a:off x="5786280" y="1785960"/>
            <a:ext cx="1679760" cy="1214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Watercolour Paints Close — Stock Photo, Image"/>
          <p:cNvPicPr/>
          <p:nvPr/>
        </p:nvPicPr>
        <p:blipFill>
          <a:blip r:embed="rId3"/>
          <a:srcRect l="0" t="0" r="2038" b="9053"/>
          <a:stretch/>
        </p:blipFill>
        <p:spPr>
          <a:xfrm>
            <a:off x="2214720" y="3786120"/>
            <a:ext cx="221436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7720" y="1428840"/>
            <a:ext cx="7620120" cy="4743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акој учионици имамо ___________ (клупа и столица) за ученик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чионици за географију има много ______________ (географске карте) и један _____________ (глобус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чионици за информатику сви користимо _____________ (школски рачунари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75960"/>
            <a:ext cx="814392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Latn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2. </a:t>
            </a:r>
            <a:r>
              <a:rPr b="0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Допуни реченице речима у загради у одговарајућем облику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713880"/>
            <a:ext cx="7948800" cy="54579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чионици за биологију на зиду су различити ______________ (плакати)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е радове качимо на велики _______ (пано) на зиду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чионици за историју има неколико великих ___________ (ормари) у којима се налазе ____________ (књиге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акој учионици постоји сто и столица за ______ (наставник/наставница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214200"/>
            <a:ext cx="7620120" cy="928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лењир, -а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31" name="Picture 2" descr="Wooden Ruler — Stock Photo, Image"/>
          <p:cNvPicPr/>
          <p:nvPr/>
        </p:nvPicPr>
        <p:blipFill>
          <a:blip r:embed="rId1"/>
          <a:srcRect l="5632" t="20859" r="5632" b="16553"/>
          <a:stretch/>
        </p:blipFill>
        <p:spPr>
          <a:xfrm>
            <a:off x="471600" y="1214280"/>
            <a:ext cx="6900840" cy="1643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Geometry Set — Stock Vector"/>
          <p:cNvPicPr/>
          <p:nvPr/>
        </p:nvPicPr>
        <p:blipFill>
          <a:blip r:embed="rId2"/>
          <a:stretch/>
        </p:blipFill>
        <p:spPr>
          <a:xfrm>
            <a:off x="3714840" y="3241800"/>
            <a:ext cx="4995720" cy="3330360"/>
          </a:xfrm>
          <a:prstGeom prst="rect">
            <a:avLst/>
          </a:prstGeom>
          <a:ln w="0">
            <a:noFill/>
          </a:ln>
        </p:spPr>
      </p:pic>
      <p:sp>
        <p:nvSpPr>
          <p:cNvPr id="233" name="Title 1"/>
          <p:cNvSpPr/>
          <p:nvPr/>
        </p:nvSpPr>
        <p:spPr>
          <a:xfrm>
            <a:off x="409680" y="4357800"/>
            <a:ext cx="3162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лењири, -а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шестар, -а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35" name="Picture 2" descr="Compasses and pencil on empty blueprint — Stock Photo, Image"/>
          <p:cNvPicPr/>
          <p:nvPr/>
        </p:nvPicPr>
        <p:blipFill>
          <a:blip r:embed="rId1"/>
          <a:srcRect l="29298" t="36121" r="2584" b="9698"/>
          <a:stretch/>
        </p:blipFill>
        <p:spPr>
          <a:xfrm>
            <a:off x="1214280" y="2000160"/>
            <a:ext cx="66438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географска карта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37" name="Picture 2" descr="World of map physical — Stock Photo, Image"/>
          <p:cNvPicPr/>
          <p:nvPr/>
        </p:nvPicPr>
        <p:blipFill>
          <a:blip r:embed="rId1"/>
          <a:stretch/>
        </p:blipFill>
        <p:spPr>
          <a:xfrm>
            <a:off x="857160" y="1714680"/>
            <a:ext cx="7458120" cy="440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географски атлас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39" name="Picture 2" descr="http://www.knjizara.zavod.co.rs/image/cache/catalog/udzbenici/15321-500x700.jpg"/>
          <p:cNvPicPr/>
          <p:nvPr/>
        </p:nvPicPr>
        <p:blipFill>
          <a:blip r:embed="rId1"/>
          <a:stretch/>
        </p:blipFill>
        <p:spPr>
          <a:xfrm>
            <a:off x="2786040" y="1643040"/>
            <a:ext cx="3486240" cy="488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923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темпера, -е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155520" y="-91440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42" name="Picture 4" descr="Tempere 42ml 1/10 AERO - Papirni Svet"/>
          <p:cNvPicPr/>
          <p:nvPr/>
        </p:nvPicPr>
        <p:blipFill>
          <a:blip r:embed="rId1"/>
          <a:srcRect l="5222" t="17062" r="2532" b="13568"/>
          <a:stretch/>
        </p:blipFill>
        <p:spPr>
          <a:xfrm>
            <a:off x="2571840" y="1714680"/>
            <a:ext cx="6357960" cy="3659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Tempera Aero na komad | aldi doo"/>
          <p:cNvPicPr/>
          <p:nvPr/>
        </p:nvPicPr>
        <p:blipFill>
          <a:blip r:embed="rId2"/>
          <a:srcRect l="46255" t="28750" r="37506" b="18753"/>
          <a:stretch/>
        </p:blipFill>
        <p:spPr>
          <a:xfrm>
            <a:off x="928800" y="1285920"/>
            <a:ext cx="928440" cy="3000240"/>
          </a:xfrm>
          <a:prstGeom prst="rect">
            <a:avLst/>
          </a:prstGeom>
          <a:ln w="0">
            <a:noFill/>
          </a:ln>
        </p:spPr>
      </p:pic>
      <p:sp>
        <p:nvSpPr>
          <p:cNvPr id="244" name="Title 1"/>
          <p:cNvSpPr/>
          <p:nvPr/>
        </p:nvSpPr>
        <p:spPr>
          <a:xfrm>
            <a:off x="1000080" y="5429160"/>
            <a:ext cx="76201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темпере, -а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4019760" cy="923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металофон, -а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46" name="Picture 2" descr="METALOFON DVOREDNI 25 NOTA | www.uni.rs"/>
          <p:cNvPicPr/>
          <p:nvPr/>
        </p:nvPicPr>
        <p:blipFill>
          <a:blip r:embed="rId1"/>
          <a:srcRect l="3751" t="16875" r="4375" b="17499"/>
          <a:stretch/>
        </p:blipFill>
        <p:spPr>
          <a:xfrm>
            <a:off x="500040" y="1285920"/>
            <a:ext cx="4929120" cy="3521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s://media.aldi.co.rs/2018/06/8623.jpg"/>
          <p:cNvPicPr/>
          <p:nvPr/>
        </p:nvPicPr>
        <p:blipFill>
          <a:blip r:embed="rId2"/>
          <a:stretch/>
        </p:blipFill>
        <p:spPr>
          <a:xfrm>
            <a:off x="5715000" y="30718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248" name="Title 1"/>
          <p:cNvSpPr/>
          <p:nvPr/>
        </p:nvSpPr>
        <p:spPr>
          <a:xfrm>
            <a:off x="1285920" y="5143680"/>
            <a:ext cx="4019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фрулица, -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71320" y="1571400"/>
            <a:ext cx="7886520" cy="4600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асове ______________ понека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м                         и                      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рници увек имам                                  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               .            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9680" y="76320"/>
            <a:ext cx="8358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Latn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1. </a:t>
            </a:r>
            <a:r>
              <a:rPr b="0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Допуни реченице на основу илустрација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51" name="Picture 4" descr="Geometry Set — Stock Vector"/>
          <p:cNvPicPr/>
          <p:nvPr/>
        </p:nvPicPr>
        <p:blipFill>
          <a:blip r:embed="rId1"/>
          <a:stretch/>
        </p:blipFill>
        <p:spPr>
          <a:xfrm>
            <a:off x="2286000" y="2286000"/>
            <a:ext cx="1887480" cy="1258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ompasses and pencil on empty blueprint — Stock Photo, Image"/>
          <p:cNvPicPr/>
          <p:nvPr/>
        </p:nvPicPr>
        <p:blipFill>
          <a:blip r:embed="rId2"/>
          <a:srcRect l="29298" t="36123" r="2580" b="9700"/>
          <a:stretch/>
        </p:blipFill>
        <p:spPr>
          <a:xfrm>
            <a:off x="4714920" y="2286000"/>
            <a:ext cx="2071800" cy="1203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Pencil isolated on pure white background — Stock Photo, Image"/>
          <p:cNvPicPr/>
          <p:nvPr/>
        </p:nvPicPr>
        <p:blipFill>
          <a:blip r:embed="rId3"/>
          <a:srcRect l="5023" t="29079" r="2864" b="30318"/>
          <a:stretch/>
        </p:blipFill>
        <p:spPr>
          <a:xfrm>
            <a:off x="4500720" y="3643200"/>
            <a:ext cx="3286080" cy="776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Eraser isolated on white background — Stock Photo, Image"/>
          <p:cNvPicPr/>
          <p:nvPr/>
        </p:nvPicPr>
        <p:blipFill>
          <a:blip r:embed="rId4"/>
          <a:srcRect l="18171" t="23909" r="15740" b="28512"/>
          <a:stretch/>
        </p:blipFill>
        <p:spPr>
          <a:xfrm>
            <a:off x="785880" y="4429080"/>
            <a:ext cx="1428840" cy="785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Pencil sharpener — Stock Photo, Image"/>
          <p:cNvPicPr/>
          <p:nvPr/>
        </p:nvPicPr>
        <p:blipFill>
          <a:blip r:embed="rId5"/>
          <a:stretch/>
        </p:blipFill>
        <p:spPr>
          <a:xfrm>
            <a:off x="2674800" y="4357800"/>
            <a:ext cx="1468440" cy="97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548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асове _______ увек носим и                 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часове  _________ ми некад треба            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 свирамо на часовима ________________,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школу носим                   или                .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7" name="Picture 2" descr="Pencils — Stock Photo, Image"/>
          <p:cNvPicPr/>
          <p:nvPr/>
        </p:nvPicPr>
        <p:blipFill>
          <a:blip r:embed="rId1"/>
          <a:srcRect l="0" t="14170" r="17427" b="31162"/>
          <a:stretch/>
        </p:blipFill>
        <p:spPr>
          <a:xfrm>
            <a:off x="6500880" y="71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www.knjizara.zavod.co.rs/image/cache/catalog/udzbenici/15321-500x700.jpg"/>
          <p:cNvPicPr/>
          <p:nvPr/>
        </p:nvPicPr>
        <p:blipFill>
          <a:blip r:embed="rId2"/>
          <a:stretch/>
        </p:blipFill>
        <p:spPr>
          <a:xfrm>
            <a:off x="7143840" y="1857240"/>
            <a:ext cx="1479600" cy="2071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METALOFON DVOREDNI 25 NOTA | www.uni.rs"/>
          <p:cNvPicPr/>
          <p:nvPr/>
        </p:nvPicPr>
        <p:blipFill>
          <a:blip r:embed="rId3"/>
          <a:srcRect l="3742" t="16879" r="4379" b="17496"/>
          <a:stretch/>
        </p:blipFill>
        <p:spPr>
          <a:xfrm>
            <a:off x="3071880" y="5000760"/>
            <a:ext cx="1714320" cy="122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https://media.aldi.co.rs/2018/06/8623.jpg"/>
          <p:cNvPicPr/>
          <p:nvPr/>
        </p:nvPicPr>
        <p:blipFill>
          <a:blip r:embed="rId4"/>
          <a:stretch/>
        </p:blipFill>
        <p:spPr>
          <a:xfrm>
            <a:off x="5715000" y="5072040"/>
            <a:ext cx="138096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28T16:00:34Z</dcterms:created>
  <dc:creator>Natasa</dc:creator>
  <dc:description/>
  <dc:language>en-US</dc:language>
  <cp:lastModifiedBy>Natasa</cp:lastModifiedBy>
  <dcterms:modified xsi:type="dcterms:W3CDTF">2021-07-28T17:15:38Z</dcterms:modified>
  <cp:revision>8</cp:revision>
  <dc:subject/>
  <dc:title>Школски намештај и школски прибор</dc:title>
</cp:coreProperties>
</file>