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CC1-5803-4544-A2E6-2CF6566F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562-BB6D-4D36-85F3-E923A656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600-3A46-4C1F-B244-EE2CFE98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36C-6342-4962-9CC5-023DB2E9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118-3A87-4205-8F9B-C96EFB1C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95B-A4EC-4292-B1FB-3C3EFA65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697-EA40-42B8-985E-0C9FD681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063-5E0C-489A-AA7A-EFC0171C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2AD-A229-4B6C-AA8F-E3F9EC4F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E45-1112-4389-983C-BDFBA74C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931-A4EF-4D83-9BA5-4F7AC80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0F9-0CB9-4334-B54E-20113DA8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81D3-F55C-44A8-9E73-933F707884F4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е су деца помог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Исказивање на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Обрати пажњу на наставке. Шта ти они говор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6040" y="1714680"/>
            <a:ext cx="486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стра је дала чоколад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ра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нук је однео новин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94720" y="2857680"/>
            <a:ext cx="54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та је скувао каф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ам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војчица је сипала млек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ачк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69960" y="4357800"/>
            <a:ext cx="574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ма је купила књиг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војчи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ака је направила колач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ну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5929200" y="1857240"/>
            <a:ext cx="1714680" cy="857520"/>
          </a:xfrm>
          <a:prstGeom prst="ellipse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м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6143760" y="3071880"/>
            <a:ext cx="1714320" cy="8571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ж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6500880" y="4500720"/>
            <a:ext cx="2000160" cy="85716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ж.р. 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м.р. 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Исправи ред речи у реченица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чаку помогла другарица 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буке деда унукама убрао 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Ће купити мама мајицу ћер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ми иди помози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мо поклон дали слављен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клонити браћи ћу чокола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 угрејала деци руч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е дали псу храну да 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Изабери одговарајућу реч и допуни речениц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4200" y="135720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и смо показали карте возача / возачу / воз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н је дао продавачици / продавачице /продавачицу нова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ма је деца / децу /деци направила сендви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штар је донео писмо тату / татом / та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ставница је поделила задатке ученицима / ученикима / ученик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енер дели мајице играчицима / играчиц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4"/>
          <p:cNvSpPr/>
          <p:nvPr/>
        </p:nvSpPr>
        <p:spPr>
          <a:xfrm>
            <a:off x="4786200" y="1714680"/>
            <a:ext cx="107172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5"/>
          <p:cNvSpPr/>
          <p:nvPr/>
        </p:nvSpPr>
        <p:spPr>
          <a:xfrm>
            <a:off x="642960" y="2143080"/>
            <a:ext cx="107172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6"/>
          <p:cNvSpPr/>
          <p:nvPr/>
        </p:nvSpPr>
        <p:spPr>
          <a:xfrm>
            <a:off x="5000760" y="2786040"/>
            <a:ext cx="22143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8"/>
          <p:cNvSpPr/>
          <p:nvPr/>
        </p:nvSpPr>
        <p:spPr>
          <a:xfrm>
            <a:off x="785880" y="3214800"/>
            <a:ext cx="22143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3214800" y="3857760"/>
            <a:ext cx="1000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0"/>
          <p:cNvSpPr/>
          <p:nvPr/>
        </p:nvSpPr>
        <p:spPr>
          <a:xfrm>
            <a:off x="2143080" y="3857760"/>
            <a:ext cx="8571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>
            <a:off x="4714920" y="4429080"/>
            <a:ext cx="78588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4"/>
          <p:cNvSpPr/>
          <p:nvPr/>
        </p:nvSpPr>
        <p:spPr>
          <a:xfrm>
            <a:off x="5786280" y="4429080"/>
            <a:ext cx="107172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6"/>
          <p:cNvSpPr/>
          <p:nvPr/>
        </p:nvSpPr>
        <p:spPr>
          <a:xfrm>
            <a:off x="2928960" y="5500800"/>
            <a:ext cx="17859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7"/>
          <p:cNvSpPr/>
          <p:nvPr/>
        </p:nvSpPr>
        <p:spPr>
          <a:xfrm>
            <a:off x="642960" y="5500800"/>
            <a:ext cx="17859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0"/>
          <p:cNvSpPr/>
          <p:nvPr/>
        </p:nvSpPr>
        <p:spPr>
          <a:xfrm>
            <a:off x="4286160" y="6072120"/>
            <a:ext cx="192888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астави реченице од речи датих у табели тако да одговарају на питањ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0040" y="1643040"/>
          <a:ext cx="8286840" cy="4584600"/>
        </p:xfrm>
        <a:graphic>
          <a:graphicData uri="http://schemas.openxmlformats.org/drawingml/2006/table">
            <a:tbl>
              <a:tblPr/>
              <a:tblGrid>
                <a:gridCol w="1857240"/>
                <a:gridCol w="2286000"/>
                <a:gridCol w="2071800"/>
                <a:gridCol w="2071800"/>
              </a:tblGrid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та ради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та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е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њиг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а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лони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ћ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да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п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ар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па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ко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пи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љи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у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менуј чланове породи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Big family together — Stock Vector"/>
          <p:cNvPicPr/>
          <p:nvPr/>
        </p:nvPicPr>
        <p:blipFill>
          <a:blip r:embed="rId1"/>
          <a:srcRect l="0" t="0" r="1660" b="10364"/>
          <a:stretch/>
        </p:blipFill>
        <p:spPr>
          <a:xfrm>
            <a:off x="2286000" y="1571760"/>
            <a:ext cx="4643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памти предмете на  слиц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0" t="0" r="3428" b="2056"/>
          <a:stretch/>
        </p:blipFill>
        <p:spPr>
          <a:xfrm>
            <a:off x="547560" y="1571760"/>
            <a:ext cx="188136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235320" y="1643040"/>
            <a:ext cx="1765440" cy="18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5857920" y="1714680"/>
            <a:ext cx="2562120" cy="172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857160" y="4143240"/>
            <a:ext cx="1408320" cy="19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3071880" y="4000680"/>
            <a:ext cx="2081160" cy="221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6"/>
          <a:stretch/>
        </p:blipFill>
        <p:spPr>
          <a:xfrm>
            <a:off x="5929200" y="4357800"/>
            <a:ext cx="24764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е је сестра дала ________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0" t="0" r="3428" b="2056"/>
          <a:stretch/>
        </p:blipFill>
        <p:spPr>
          <a:xfrm>
            <a:off x="547560" y="1571760"/>
            <a:ext cx="1809720" cy="219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143160" y="1571760"/>
            <a:ext cx="1551240" cy="166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857160" y="4143240"/>
            <a:ext cx="1214640" cy="168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tretch/>
        </p:blipFill>
        <p:spPr>
          <a:xfrm>
            <a:off x="2928960" y="3571920"/>
            <a:ext cx="1876320" cy="20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5072040" y="1785960"/>
            <a:ext cx="2476440" cy="153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6"/>
          <a:stretch/>
        </p:blipFill>
        <p:spPr>
          <a:xfrm>
            <a:off x="5857920" y="4156200"/>
            <a:ext cx="1214280" cy="1201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432960" y="578628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стра је дала чоколад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ра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е је тата скувао _______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0" t="0" r="3428" b="2056"/>
          <a:stretch/>
        </p:blipFill>
        <p:spPr>
          <a:xfrm>
            <a:off x="642960" y="1571760"/>
            <a:ext cx="176364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2928960" y="1785960"/>
            <a:ext cx="2562120" cy="172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857160" y="4143240"/>
            <a:ext cx="1408320" cy="195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6215040" y="1571760"/>
            <a:ext cx="1674720" cy="178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5"/>
          <a:stretch/>
        </p:blipFill>
        <p:spPr>
          <a:xfrm>
            <a:off x="2857680" y="4071960"/>
            <a:ext cx="2476440" cy="153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6"/>
          <a:stretch/>
        </p:blipFill>
        <p:spPr>
          <a:xfrm>
            <a:off x="6500880" y="3929040"/>
            <a:ext cx="1314360" cy="1314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4261320" y="5929200"/>
            <a:ext cx="41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та је скувао каф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ам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е је унук однео _________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43160" y="4000680"/>
            <a:ext cx="1463760" cy="157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00040" y="4000680"/>
            <a:ext cx="2286000" cy="1536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6000840" y="1714680"/>
            <a:ext cx="1214280" cy="1688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2987640" y="1643040"/>
            <a:ext cx="180828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5"/>
          <a:stretch/>
        </p:blipFill>
        <p:spPr>
          <a:xfrm>
            <a:off x="500040" y="1785960"/>
            <a:ext cx="2192400" cy="13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6286680" y="3921120"/>
            <a:ext cx="1428480" cy="1508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4221720" y="5786280"/>
            <a:ext cx="43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нук је однео новин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ме је девојчица сипала _______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0" t="0" r="3428" b="2056"/>
          <a:stretch/>
        </p:blipFill>
        <p:spPr>
          <a:xfrm>
            <a:off x="714240" y="4143240"/>
            <a:ext cx="1646280" cy="200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235320" y="1643040"/>
            <a:ext cx="1765440" cy="1895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2857680" y="4000680"/>
            <a:ext cx="2017440" cy="13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500040" y="1500120"/>
            <a:ext cx="2081160" cy="2219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5"/>
          <a:stretch/>
        </p:blipFill>
        <p:spPr>
          <a:xfrm>
            <a:off x="6000840" y="1571760"/>
            <a:ext cx="2476440" cy="153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6"/>
          <a:stretch/>
        </p:blipFill>
        <p:spPr>
          <a:xfrm>
            <a:off x="6356520" y="3714840"/>
            <a:ext cx="1501560" cy="1473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3380760" y="5715000"/>
            <a:ext cx="54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војчица је сипала млек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ачк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е је мама купила ________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3428" b="2056"/>
          <a:stretch/>
        </p:blipFill>
        <p:spPr>
          <a:xfrm>
            <a:off x="547560" y="1571760"/>
            <a:ext cx="159552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3357720" y="3571920"/>
            <a:ext cx="1428480" cy="1533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00040" y="3643200"/>
            <a:ext cx="2230560" cy="1500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3357720" y="1643040"/>
            <a:ext cx="1233360" cy="1714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5"/>
          <a:stretch/>
        </p:blipFill>
        <p:spPr>
          <a:xfrm>
            <a:off x="5500800" y="1571760"/>
            <a:ext cx="2476440" cy="1533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3465720" y="5929200"/>
            <a:ext cx="56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ма је купила књиг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воч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ца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6"/>
          <a:stretch/>
        </p:blipFill>
        <p:spPr>
          <a:xfrm>
            <a:off x="6116760" y="4000680"/>
            <a:ext cx="21175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е је бака направила ______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0" t="0" r="3428" b="2056"/>
          <a:stretch/>
        </p:blipFill>
        <p:spPr>
          <a:xfrm>
            <a:off x="642960" y="3714840"/>
            <a:ext cx="1571760" cy="190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857680" y="4000680"/>
            <a:ext cx="1500120" cy="160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5857920" y="1928880"/>
            <a:ext cx="2000160" cy="134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3357720" y="1857240"/>
            <a:ext cx="1284120" cy="17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642960" y="1785960"/>
            <a:ext cx="1612800" cy="171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6"/>
          <a:stretch/>
        </p:blipFill>
        <p:spPr>
          <a:xfrm>
            <a:off x="5286240" y="4286160"/>
            <a:ext cx="2719440" cy="1428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3306960" y="5857920"/>
            <a:ext cx="55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ака је направила колач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ну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5T12:17:22Z</dcterms:created>
  <dc:creator>Natasa</dc:creator>
  <dc:description/>
  <dc:language>en-US</dc:language>
  <cp:lastModifiedBy>Natasa</cp:lastModifiedBy>
  <dcterms:modified xsi:type="dcterms:W3CDTF">2022-03-06T16:41:15Z</dcterms:modified>
  <cp:revision>13</cp:revision>
  <dc:subject/>
  <dc:title>Коме су деца помогла?</dc:title>
</cp:coreProperties>
</file>