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AC99-F412-4F93-9D03-0ECC63D1A699}" type="slidenum">
              <a:rPr b="0" lang="sr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D93E-3637-4BB7-A3F5-51232397E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8FD3-FC61-4389-A925-975AF92A0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83B-478A-42C3-9214-A2ABCD97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52F-D506-4494-B4B0-DFD930AF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AB1-3830-4FC6-94E0-70501F9C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8C74-59C1-4028-A0A9-31E5E636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C59-CCD7-466D-B729-EBD1D9B9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BBCE-4616-4552-86D4-5B86824B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98C-8929-4878-BB44-1A98498C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816-8717-4BE8-AA4E-E868025C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E6AB-32D6-4B84-B377-30BE3C79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E85-3001-4A80-9BB5-1E3BD1AE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C8C-6DB2-4ED6-AE2C-0D71786A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703-8543-4EF2-8F90-708F1651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E897-E13D-463E-9459-F6AEAF919BAE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упов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572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Calibri"/>
              </a:rPr>
              <a:t>Место купов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28840" y="14292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Шта где купујем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Athens Greece January 2019 Street Market Fresh Fruits Vegetables Downtown — Stock Photo, Image"/>
          <p:cNvPicPr/>
          <p:nvPr/>
        </p:nvPicPr>
        <p:blipFill>
          <a:blip r:embed="rId1"/>
          <a:stretch/>
        </p:blipFill>
        <p:spPr>
          <a:xfrm>
            <a:off x="5565600" y="920880"/>
            <a:ext cx="308484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53880" y="706320"/>
            <a:ext cx="2797200" cy="185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353880" y="2706840"/>
            <a:ext cx="2743200" cy="185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281160" y="4565520"/>
            <a:ext cx="2803320" cy="185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5"/>
          <a:stretch/>
        </p:blipFill>
        <p:spPr>
          <a:xfrm>
            <a:off x="5924520" y="4280040"/>
            <a:ext cx="2476440" cy="187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6"/>
          <a:stretch/>
        </p:blipFill>
        <p:spPr>
          <a:xfrm>
            <a:off x="3214800" y="3714840"/>
            <a:ext cx="1573200" cy="91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7"/>
          <a:stretch/>
        </p:blipFill>
        <p:spPr>
          <a:xfrm>
            <a:off x="3500280" y="2571840"/>
            <a:ext cx="1635120" cy="100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8"/>
          <a:stretch/>
        </p:blipFill>
        <p:spPr>
          <a:xfrm>
            <a:off x="3643200" y="857160"/>
            <a:ext cx="1371600" cy="144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9"/>
          <a:stretch/>
        </p:blipFill>
        <p:spPr>
          <a:xfrm>
            <a:off x="3214800" y="5072040"/>
            <a:ext cx="1785960" cy="1039680"/>
          </a:xfrm>
          <a:prstGeom prst="rect">
            <a:avLst/>
          </a:prstGeom>
          <a:ln w="0">
            <a:noFill/>
          </a:ln>
        </p:spPr>
      </p:pic>
      <p:cxnSp>
        <p:nvCxnSpPr>
          <p:cNvPr id="62" name="Straight Arrow Connector 15"/>
          <p:cNvCxnSpPr/>
          <p:nvPr/>
        </p:nvCxnSpPr>
        <p:spPr>
          <a:xfrm flipH="1" flipV="1">
            <a:off x="3071160" y="1633680"/>
            <a:ext cx="572040" cy="295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" name="Straight Arrow Connector 16"/>
          <p:cNvCxnSpPr/>
          <p:nvPr/>
        </p:nvCxnSpPr>
        <p:spPr>
          <a:xfrm flipH="1">
            <a:off x="3090600" y="1999800"/>
            <a:ext cx="552960" cy="1639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4" name="Straight Arrow Connector 20"/>
          <p:cNvCxnSpPr/>
          <p:nvPr/>
        </p:nvCxnSpPr>
        <p:spPr>
          <a:xfrm flipV="1">
            <a:off x="5135040" y="1714320"/>
            <a:ext cx="437400" cy="13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5" name="Straight Arrow Connector 24"/>
          <p:cNvCxnSpPr/>
          <p:nvPr/>
        </p:nvCxnSpPr>
        <p:spPr>
          <a:xfrm flipH="1">
            <a:off x="3076200" y="4174200"/>
            <a:ext cx="138960" cy="1316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27"/>
          <p:cNvCxnSpPr/>
          <p:nvPr/>
        </p:nvCxnSpPr>
        <p:spPr>
          <a:xfrm flipV="1">
            <a:off x="5000400" y="5214240"/>
            <a:ext cx="929160" cy="376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67" name="Picture 11" descr=""/>
          <p:cNvPicPr/>
          <p:nvPr/>
        </p:nvPicPr>
        <p:blipFill>
          <a:blip r:embed="rId10"/>
          <a:stretch/>
        </p:blipFill>
        <p:spPr>
          <a:xfrm>
            <a:off x="6059520" y="2633760"/>
            <a:ext cx="2378160" cy="1584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11"/>
          <a:stretch/>
        </p:blipFill>
        <p:spPr>
          <a:xfrm>
            <a:off x="4929120" y="3714840"/>
            <a:ext cx="843120" cy="138564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38"/>
          <p:cNvCxnSpPr/>
          <p:nvPr/>
        </p:nvCxnSpPr>
        <p:spPr>
          <a:xfrm flipV="1">
            <a:off x="5771880" y="3426840"/>
            <a:ext cx="291240" cy="981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ravougaonik 3"/>
          <p:cNvSpPr/>
          <p:nvPr/>
        </p:nvSpPr>
        <p:spPr>
          <a:xfrm>
            <a:off x="285840" y="28584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1066680" y="2487600"/>
            <a:ext cx="2584440" cy="3876840"/>
          </a:xfrm>
          <a:prstGeom prst="rect">
            <a:avLst/>
          </a:prstGeom>
          <a:ln w="0">
            <a:noFill/>
          </a:ln>
        </p:spPr>
      </p:pic>
      <p:sp>
        <p:nvSpPr>
          <p:cNvPr id="72" name="Rounded Rectangular Callout 49"/>
          <p:cNvSpPr/>
          <p:nvPr/>
        </p:nvSpPr>
        <p:spPr>
          <a:xfrm>
            <a:off x="3214800" y="1500120"/>
            <a:ext cx="2751120" cy="954000"/>
          </a:xfrm>
          <a:prstGeom prst="wedgeRoundRectCallout">
            <a:avLst>
              <a:gd name="adj1" fmla="val -70268"/>
              <a:gd name="adj2" fmla="val 78263"/>
              <a:gd name="adj3" fmla="val 16667"/>
            </a:avLst>
          </a:prstGeom>
          <a:solidFill>
            <a:srgbClr val="fcfb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ила је велика гужва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 пијац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ular Callout 50"/>
          <p:cNvSpPr/>
          <p:nvPr/>
        </p:nvSpPr>
        <p:spPr>
          <a:xfrm>
            <a:off x="285840" y="357120"/>
            <a:ext cx="3000240" cy="1428840"/>
          </a:xfrm>
          <a:prstGeom prst="wedgeRoundRectCallout">
            <a:avLst>
              <a:gd name="adj1" fmla="val -8675"/>
              <a:gd name="adj2" fmla="val 130023"/>
              <a:gd name="adj3" fmla="val 16667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шли смо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 продавницу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 пијац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Куповали смо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мирниц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2"/>
          <a:stretch/>
        </p:blipFill>
        <p:spPr>
          <a:xfrm>
            <a:off x="5565600" y="3352680"/>
            <a:ext cx="1657440" cy="3060720"/>
          </a:xfrm>
          <a:prstGeom prst="rect">
            <a:avLst/>
          </a:prstGeom>
          <a:ln w="0">
            <a:noFill/>
          </a:ln>
        </p:spPr>
      </p:pic>
      <p:sp>
        <p:nvSpPr>
          <p:cNvPr id="75" name="Rounded Rectangular Callout 48"/>
          <p:cNvSpPr/>
          <p:nvPr/>
        </p:nvSpPr>
        <p:spPr>
          <a:xfrm>
            <a:off x="6035760" y="1785960"/>
            <a:ext cx="2751120" cy="954000"/>
          </a:xfrm>
          <a:prstGeom prst="wedgeRoundRectCallout">
            <a:avLst>
              <a:gd name="adj1" fmla="val -37708"/>
              <a:gd name="adj2" fmla="val 129953"/>
              <a:gd name="adj3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292929"/>
                </a:solidFill>
                <a:latin typeface="Calibri"/>
              </a:rPr>
              <a:t>Ma</a:t>
            </a:r>
            <a:r>
              <a:rPr b="0" lang="sr-RS" sz="2400" spc="-1" strike="noStrike">
                <a:solidFill>
                  <a:srgbClr val="292929"/>
                </a:solidFill>
                <a:latin typeface="Calibri"/>
              </a:rPr>
              <a:t>ма, тата, </a:t>
            </a:r>
            <a:r>
              <a:rPr b="1" lang="sr-RS" sz="2400" spc="-1" strike="noStrike">
                <a:solidFill>
                  <a:srgbClr val="292929"/>
                </a:solidFill>
                <a:latin typeface="Calibri"/>
              </a:rPr>
              <a:t>где</a:t>
            </a:r>
            <a:r>
              <a:rPr b="0" lang="sr-RS" sz="2400" spc="-1" strike="noStrike">
                <a:solidFill>
                  <a:srgbClr val="292929"/>
                </a:solidFill>
                <a:latin typeface="Calibri"/>
              </a:rPr>
              <a:t> сте били?</a:t>
            </a: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ravougaonik 3"/>
          <p:cNvSpPr/>
          <p:nvPr/>
        </p:nvSpPr>
        <p:spPr>
          <a:xfrm>
            <a:off x="285840" y="28584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3"/>
          <p:cNvSpPr/>
          <p:nvPr/>
        </p:nvSpPr>
        <p:spPr>
          <a:xfrm>
            <a:off x="785880" y="428760"/>
            <a:ext cx="2104920" cy="84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аже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636480" y="2303640"/>
            <a:ext cx="40766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продавниц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..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на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пијац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00040" y="17146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шао сам / Ишла с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7"/>
          <p:cNvSpPr/>
          <p:nvPr/>
        </p:nvSpPr>
        <p:spPr>
          <a:xfrm>
            <a:off x="4572000" y="1681200"/>
            <a:ext cx="41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ио сам / била с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2"/>
          <p:cNvSpPr/>
          <p:nvPr/>
        </p:nvSpPr>
        <p:spPr>
          <a:xfrm>
            <a:off x="4479840" y="2144880"/>
            <a:ext cx="407520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...у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продавниц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на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пијац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428760" y="4429080"/>
            <a:ext cx="40766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супермарк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..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тржни цента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71680" y="3897360"/>
            <a:ext cx="32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шао сам / Ишла с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3"/>
          <p:cNvSpPr/>
          <p:nvPr/>
        </p:nvSpPr>
        <p:spPr>
          <a:xfrm>
            <a:off x="4572000" y="3895560"/>
            <a:ext cx="41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ио сам / била с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tent Placeholder 2"/>
          <p:cNvSpPr/>
          <p:nvPr/>
        </p:nvSpPr>
        <p:spPr>
          <a:xfrm>
            <a:off x="4357800" y="4430880"/>
            <a:ext cx="450036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...у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упермаркет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...у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тржн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ом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центр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2"/>
          <p:cNvSpPr/>
          <p:nvPr/>
        </p:nvSpPr>
        <p:spPr>
          <a:xfrm>
            <a:off x="100080" y="4932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57120" y="500040"/>
            <a:ext cx="822636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alibri"/>
              </a:rPr>
              <a:t>Вежбајмо. Допуни реченице датим реч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alibri"/>
              </a:rPr>
              <a:t>Мама је јуче ишла на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alibri"/>
              </a:rPr>
              <a:t>Купила је свеже______________ и 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alibri"/>
              </a:rPr>
              <a:t>Рекла је: „Нисам била у _________________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alibri"/>
              </a:rPr>
              <a:t>Рекао сам мами: „Ја ћу ићи у ______________.  Могу ли да ____________ и чоколадице сестри и себи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1857240" y="5286240"/>
            <a:ext cx="17431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РОДАВН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3857760" y="5286240"/>
            <a:ext cx="11667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УП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5214960" y="5286240"/>
            <a:ext cx="13510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О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Rounded Rectangle 9"/>
          <p:cNvGrpSpPr/>
          <p:nvPr/>
        </p:nvGrpSpPr>
        <p:grpSpPr>
          <a:xfrm>
            <a:off x="3584520" y="5900760"/>
            <a:ext cx="1773360" cy="609480"/>
            <a:chOff x="3584520" y="5900760"/>
            <a:chExt cx="1773360" cy="609480"/>
          </a:xfrm>
        </p:grpSpPr>
        <p:pic>
          <p:nvPicPr>
            <p:cNvPr id="93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3584520" y="5900760"/>
              <a:ext cx="17733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687840" y="5962680"/>
              <a:ext cx="15746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00"/>
                  </a:solidFill>
                  <a:latin typeface="Calibri"/>
                </a:rPr>
                <a:t>ПРОДАВНИЦ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ounded Rectangle 10"/>
          <p:cNvSpPr/>
          <p:nvPr/>
        </p:nvSpPr>
        <p:spPr>
          <a:xfrm>
            <a:off x="5451480" y="5929200"/>
            <a:ext cx="11923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ИЈА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2071800" y="5938920"/>
            <a:ext cx="14983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ОВР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50694E-006 L -0.21649 -0.66281 E">
                                      <p:cBhvr>
                                        <p:cTn id="10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67808E-007 L -0.27795 -0.4852 E">
                                      <p:cBhvr>
                                        <p:cTn id="11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008E-007 L 0.34896 -0.59066 E">
                                      <p:cBhvr>
                                        <p:cTn id="11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67808E-007 L 0.21736 -0.41189 E">
                                      <p:cBhvr>
                                        <p:cTn id="121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11008E-007 L 0.0658 -0.43339 E">
                                      <p:cBhvr>
                                        <p:cTn id="12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7.67808E-007 L -0.35868 -0.27544 E">
                                      <p:cBhvr>
                                        <p:cTn id="12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ravougaonik 3"/>
          <p:cNvSpPr/>
          <p:nvPr/>
        </p:nvSpPr>
        <p:spPr>
          <a:xfrm>
            <a:off x="285840" y="28584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00120" y="356760"/>
            <a:ext cx="6400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У продавн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714240" y="1357200"/>
            <a:ext cx="2752920" cy="1524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1143000" y="3357720"/>
            <a:ext cx="1819440" cy="2266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3"/>
          <p:cNvSpPr/>
          <p:nvPr/>
        </p:nvSpPr>
        <p:spPr>
          <a:xfrm>
            <a:off x="4064040" y="1428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Calibri"/>
              </a:rPr>
              <a:t>Добар дан! Извол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4011840" y="2214720"/>
            <a:ext cx="22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Calibri"/>
              </a:rPr>
              <a:t>Молим Вас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4048920" y="2928960"/>
            <a:ext cx="36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Calibri"/>
              </a:rPr>
              <a:t>Дајте ми, молим Вас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4015440" y="3714840"/>
            <a:ext cx="41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Calibri"/>
              </a:rPr>
              <a:t>Да ли желите још неш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4100400" y="5143680"/>
            <a:ext cx="43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Calibri"/>
              </a:rPr>
              <a:t>Не. Хвала лепо. Довиђ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4088520" y="442908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Calibri"/>
              </a:rPr>
              <a:t>Да. Дајте ми 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1"/>
          <p:cNvSpPr/>
          <p:nvPr/>
        </p:nvSpPr>
        <p:spPr>
          <a:xfrm>
            <a:off x="4091760" y="5834160"/>
            <a:ext cx="41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Calibri"/>
              </a:rPr>
              <a:t>Узмите рачун. Довиђ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12T15:32:34Z</dcterms:created>
  <dc:creator>Natasa</dc:creator>
  <dc:description/>
  <dc:language>en-US</dc:language>
  <cp:lastModifiedBy>Natasa</cp:lastModifiedBy>
  <dcterms:modified xsi:type="dcterms:W3CDTF">2022-03-11T12:59:16Z</dcterms:modified>
  <cp:revision>21</cp:revision>
  <dc:subject/>
  <dc:title>Куповина</dc:title>
</cp:coreProperties>
</file>