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2B5-CED3-47F7-AFC5-0BAE1DA5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047-2550-4E99-AF12-93134E7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24B-2B51-44A6-AE93-87377244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E2C-CEF6-46E4-A78F-B3567995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977-25AC-47FB-B6FA-68C9494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258-C90D-4E37-B3E0-A3AF688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180-04A6-448C-B3E0-FBFD189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C7C-31EE-4C7A-84B9-915ECEA5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67E-799C-499D-81AB-5C1CAA4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94B-148F-407B-8DD1-24EFE94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A0F-BA25-4F06-87CB-AAFD729D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331-2416-4F32-BBF2-75BC0E4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5C2-A940-4CED-B6B4-D506B9933456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причавање текста </a:t>
            </a:r>
            <a:r>
              <a:rPr b="0" i="1" lang="sr-RS" sz="4400" spc="-1" strike="noStrike">
                <a:solidFill>
                  <a:srgbClr val="000000"/>
                </a:solidFill>
                <a:latin typeface="Calibri"/>
              </a:rPr>
              <a:t>Јаб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Говорна ве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ји ликови се појављују и тексту 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Јабука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Thief Burglar opening door — Stock Photo, Image"/>
          <p:cNvPicPr/>
          <p:nvPr/>
        </p:nvPicPr>
        <p:blipFill>
          <a:blip r:embed="rId1"/>
          <a:stretch/>
        </p:blipFill>
        <p:spPr>
          <a:xfrm>
            <a:off x="6715080" y="4108320"/>
            <a:ext cx="1595520" cy="239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Old Sheperd near his flock — Stock Photo, Image"/>
          <p:cNvPicPr/>
          <p:nvPr/>
        </p:nvPicPr>
        <p:blipFill>
          <a:blip r:embed="rId2"/>
          <a:srcRect l="9756" t="5239" r="0" b="0"/>
          <a:stretch/>
        </p:blipFill>
        <p:spPr>
          <a:xfrm>
            <a:off x="357120" y="1214280"/>
            <a:ext cx="181764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Little boy and girl eat one apple simultaneously — Stock Photo, Image"/>
          <p:cNvPicPr/>
          <p:nvPr/>
        </p:nvPicPr>
        <p:blipFill>
          <a:blip r:embed="rId3"/>
          <a:srcRect l="21074" t="18066" r="21728" b="2909"/>
          <a:stretch/>
        </p:blipFill>
        <p:spPr>
          <a:xfrm>
            <a:off x="1285920" y="4460760"/>
            <a:ext cx="2214360" cy="204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ack view of asian couple traveling together with baggage — Stock Photo, Image"/>
          <p:cNvPicPr/>
          <p:nvPr/>
        </p:nvPicPr>
        <p:blipFill>
          <a:blip r:embed="rId4"/>
          <a:srcRect l="3819" t="3398" r="6854" b="11566"/>
          <a:stretch/>
        </p:blipFill>
        <p:spPr>
          <a:xfrm>
            <a:off x="2500200" y="1285920"/>
            <a:ext cx="188604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ortrait of confident young doctor on white background — Stock Photo, Image"/>
          <p:cNvPicPr/>
          <p:nvPr/>
        </p:nvPicPr>
        <p:blipFill>
          <a:blip r:embed="rId5"/>
          <a:stretch/>
        </p:blipFill>
        <p:spPr>
          <a:xfrm>
            <a:off x="6786720" y="1071720"/>
            <a:ext cx="1882440" cy="28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Little Girl Giving Piggyback Ride To Sister — Stock Photo, Image"/>
          <p:cNvPicPr/>
          <p:nvPr/>
        </p:nvPicPr>
        <p:blipFill>
          <a:blip r:embed="rId6"/>
          <a:srcRect l="10668" t="32002" r="7559" b="2815"/>
          <a:stretch/>
        </p:blipFill>
        <p:spPr>
          <a:xfrm>
            <a:off x="3786120" y="4172040"/>
            <a:ext cx="2127240" cy="25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Brotherly Love — Stock Photo, Image"/>
          <p:cNvPicPr/>
          <p:nvPr/>
        </p:nvPicPr>
        <p:blipFill>
          <a:blip r:embed="rId7"/>
          <a:stretch/>
        </p:blipFill>
        <p:spPr>
          <a:xfrm>
            <a:off x="4786200" y="1463760"/>
            <a:ext cx="1613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О чему се говори у тексту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ја реченица га најбоље описуј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вори се 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ме како се јабука котрљ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обан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пов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тниц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рату и сест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љубави сестре и бр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ђи због јабу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ква је била јабу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Red apple — Stock Photo, Image"/>
          <p:cNvPicPr/>
          <p:nvPr/>
        </p:nvPicPr>
        <p:blipFill>
          <a:blip r:embed="rId1"/>
          <a:srcRect l="7770" t="6713" r="5220" b="2646"/>
          <a:stretch/>
        </p:blipFill>
        <p:spPr>
          <a:xfrm>
            <a:off x="2857680" y="1571760"/>
            <a:ext cx="3000240" cy="2892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219680" y="2143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е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864760" y="21430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рв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578640" y="328608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кус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42240" y="35002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круг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45000" y="54291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је радила јабу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Шта је радила јабу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pple Falling Tree White Background Illustration — Stock Vector"/>
          <p:cNvPicPr/>
          <p:nvPr/>
        </p:nvPicPr>
        <p:blipFill>
          <a:blip r:embed="rId1"/>
          <a:srcRect l="0" t="0" r="1991" b="5729"/>
          <a:stretch/>
        </p:blipFill>
        <p:spPr>
          <a:xfrm>
            <a:off x="571680" y="1214280"/>
            <a:ext cx="2071440" cy="3714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24640" y="5143680"/>
            <a:ext cx="250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абука је пала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р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GIF an apple a day rolling right along rotating apple - animated GIF on  GIFER - by Ariurad"/>
          <p:cNvPicPr/>
          <p:nvPr/>
        </p:nvPicPr>
        <p:blipFill>
          <a:blip r:embed="rId2"/>
          <a:stretch/>
        </p:blipFill>
        <p:spPr>
          <a:xfrm>
            <a:off x="3429000" y="2143080"/>
            <a:ext cx="1571760" cy="1671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431880" y="3857760"/>
            <a:ext cx="17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абука с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трљ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6786720" y="2357280"/>
            <a:ext cx="1562040" cy="17226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ular Callout 8"/>
          <p:cNvSpPr/>
          <p:nvPr/>
        </p:nvSpPr>
        <p:spPr>
          <a:xfrm>
            <a:off x="5143680" y="1571760"/>
            <a:ext cx="1928520" cy="1000080"/>
          </a:xfrm>
          <a:prstGeom prst="wedgeRoundRectCallout">
            <a:avLst>
              <a:gd name="adj1" fmla="val 56842"/>
              <a:gd name="adj2" fmla="val 80314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ам ја за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649560" y="4214880"/>
            <a:ext cx="15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абука 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ч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је јабука рекла лопову, путницима и чобани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ular Callout 3"/>
          <p:cNvSpPr/>
          <p:nvPr/>
        </p:nvSpPr>
        <p:spPr>
          <a:xfrm>
            <a:off x="642960" y="2500200"/>
            <a:ext cx="2571840" cy="1500480"/>
          </a:xfrm>
          <a:prstGeom prst="wedgeRoundRectCallout">
            <a:avLst>
              <a:gd name="adj1" fmla="val 56842"/>
              <a:gd name="adj2" fmla="val 80314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ам ја за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ular Callout 4"/>
          <p:cNvSpPr/>
          <p:nvPr/>
        </p:nvSpPr>
        <p:spPr>
          <a:xfrm>
            <a:off x="5572080" y="3286080"/>
            <a:ext cx="2571840" cy="1500120"/>
          </a:xfrm>
          <a:prstGeom prst="wedgeRoundRectCallout">
            <a:avLst>
              <a:gd name="adj1" fmla="val -50370"/>
              <a:gd name="adj2" fmla="val 8312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 сам за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714920" y="1785960"/>
            <a:ext cx="408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ме је јабука рек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85840" y="3857760"/>
            <a:ext cx="851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 ливади је спавао дечак, а девојчица је седела поред њега. Видела је јабуку и рек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, дивне ли јабуке! Пробудићу брата, па ћемо је заједно поје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 јабука се насмешила и рек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а сам за ва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00040" y="428760"/>
            <a:ext cx="82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Зашто је јабука рекла девојчиц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„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Ја сам за ва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ˮ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003320" y="1262160"/>
            <a:ext cx="7068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војчица је хтела да подели јабуку с бра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војчица је хтела сама да поједе јабу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28760" y="2857680"/>
            <a:ext cx="82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оја реченица у тексту говори о томе каква је девојчиц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00040" y="2071800"/>
            <a:ext cx="50004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00040" y="14288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ree Right On Cliparts, Download Free Clip Art, Free Clip Art on Clipart  Library"/>
          <p:cNvPicPr/>
          <p:nvPr/>
        </p:nvPicPr>
        <p:blipFill>
          <a:blip r:embed="rId1"/>
          <a:stretch/>
        </p:blipFill>
        <p:spPr>
          <a:xfrm>
            <a:off x="500040" y="1500120"/>
            <a:ext cx="569880" cy="42876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1"/>
          <p:cNvSpPr/>
          <p:nvPr/>
        </p:nvSpPr>
        <p:spPr>
          <a:xfrm>
            <a:off x="3571920" y="5143680"/>
            <a:ext cx="435780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3"/>
          <p:cNvSpPr/>
          <p:nvPr/>
        </p:nvSpPr>
        <p:spPr>
          <a:xfrm>
            <a:off x="428760" y="5643720"/>
            <a:ext cx="221436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акви су сви ликови осим девојчиц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жљ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б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б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ед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срећ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себ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712880" y="633240"/>
            <a:ext cx="5430960" cy="547560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ular Callout 3"/>
          <p:cNvSpPr/>
          <p:nvPr/>
        </p:nvSpPr>
        <p:spPr>
          <a:xfrm>
            <a:off x="5143680" y="2500200"/>
            <a:ext cx="1357200" cy="1000080"/>
          </a:xfrm>
          <a:prstGeom prst="wedgeRoundRectCallout">
            <a:avLst>
              <a:gd name="adj1" fmla="val -20833"/>
              <a:gd name="adj2" fmla="val 80402"/>
              <a:gd name="adj3" fmla="val 16667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сам ја за теб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0T20:38:15Z</dcterms:created>
  <dc:creator>Natasa</dc:creator>
  <dc:description/>
  <dc:language>en-US</dc:language>
  <cp:lastModifiedBy>Natasa</cp:lastModifiedBy>
  <dcterms:modified xsi:type="dcterms:W3CDTF">2021-11-20T22:11:53Z</dcterms:modified>
  <cp:revision>10</cp:revision>
  <dc:subject/>
  <dc:title>Препричавање текста Јабука</dc:title>
</cp:coreProperties>
</file>