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4BA3-D6A1-4B6B-A995-8D9DB6D0EBC5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B12-AEC0-42BB-9273-67E175F75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FF4-A075-4CE6-819F-3D9E0B46F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EC0-21BC-4FE7-A12B-3D03E990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EAF-90F6-4AE9-BC9C-B8BF0296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07A-E1FB-4B66-89D0-E0F22614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14F-6FDC-44E7-99D9-67786964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CD0-9FD8-47A4-B8B2-CE3C2B75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35A-CC4C-49B9-BA35-7AEAD57D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06D-2AA8-4A03-93F8-F608A00B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822-AF83-4CFD-BAEE-5A82326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21B-E303-4D6C-9035-941FBFE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F98-4E5D-4DFA-8B0A-06C1186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9CF-133E-4952-BE83-E68CAF8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F98-4D0A-4763-A5D1-7172E5B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40C-805C-4C8B-BE52-15490A49176A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и 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иљени спортови и спорти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3"/>
          <p:cNvSpPr/>
          <p:nvPr/>
        </p:nvSpPr>
        <p:spPr>
          <a:xfrm>
            <a:off x="214200" y="214200"/>
            <a:ext cx="861228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2"/>
          <p:cNvSpPr/>
          <p:nvPr/>
        </p:nvSpPr>
        <p:spPr>
          <a:xfrm>
            <a:off x="2428920" y="1000080"/>
            <a:ext cx="78588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3429000" y="1000080"/>
            <a:ext cx="78588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4429080" y="1000080"/>
            <a:ext cx="78588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5500800" y="1000080"/>
            <a:ext cx="78588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7"/>
          <p:cNvCxnSpPr/>
          <p:nvPr/>
        </p:nvCxnSpPr>
        <p:spPr>
          <a:xfrm flipH="1">
            <a:off x="2855160" y="1785600"/>
            <a:ext cx="2520" cy="7866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7" name="Straight Arrow Connector 8"/>
          <p:cNvCxnSpPr/>
          <p:nvPr/>
        </p:nvCxnSpPr>
        <p:spPr>
          <a:xfrm flipH="1">
            <a:off x="3857400" y="1785600"/>
            <a:ext cx="2160" cy="7866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8" name="Straight Arrow Connector 9"/>
          <p:cNvCxnSpPr/>
          <p:nvPr/>
        </p:nvCxnSpPr>
        <p:spPr>
          <a:xfrm flipH="1">
            <a:off x="4785480" y="1785600"/>
            <a:ext cx="2520" cy="786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59" name="Straight Arrow Connector 10"/>
          <p:cNvCxnSpPr/>
          <p:nvPr/>
        </p:nvCxnSpPr>
        <p:spPr>
          <a:xfrm flipH="1">
            <a:off x="5928480" y="1785600"/>
            <a:ext cx="2520" cy="7866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352680" y="2706840"/>
            <a:ext cx="854280" cy="90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394240" y="2779560"/>
            <a:ext cx="1042920" cy="79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6534000" y="2706840"/>
            <a:ext cx="1043280" cy="94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322360" y="2779560"/>
            <a:ext cx="897120" cy="798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5"/>
          <p:cNvSpPr/>
          <p:nvPr/>
        </p:nvSpPr>
        <p:spPr>
          <a:xfrm>
            <a:off x="2571840" y="1143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3571920" y="11304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572000" y="11304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5643720" y="11304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9"/>
          <p:cNvSpPr/>
          <p:nvPr/>
        </p:nvSpPr>
        <p:spPr>
          <a:xfrm>
            <a:off x="6643800" y="1000080"/>
            <a:ext cx="78588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0"/>
          <p:cNvCxnSpPr/>
          <p:nvPr/>
        </p:nvCxnSpPr>
        <p:spPr>
          <a:xfrm flipH="1">
            <a:off x="7070400" y="1785600"/>
            <a:ext cx="2160" cy="7866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>
            <a:off x="4352760" y="2852640"/>
            <a:ext cx="895680" cy="671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2"/>
          <p:cNvSpPr/>
          <p:nvPr/>
        </p:nvSpPr>
        <p:spPr>
          <a:xfrm>
            <a:off x="6786720" y="11304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ravougaonik 3"/>
          <p:cNvSpPr/>
          <p:nvPr/>
        </p:nvSpPr>
        <p:spPr>
          <a:xfrm>
            <a:off x="2462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01880" y="428760"/>
            <a:ext cx="19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ем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288800" y="1285920"/>
            <a:ext cx="46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рати неки спорт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рати пливање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137960" y="285768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ти одбојку, тенис, рукомет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144800" y="3925800"/>
            <a:ext cx="640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вити се спортом ‒ фудбал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бојком, пливањем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ravougaonik 3"/>
          <p:cNvSpPr/>
          <p:nvPr/>
        </p:nvSpPr>
        <p:spPr>
          <a:xfrm>
            <a:off x="2462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54200" y="560520"/>
            <a:ext cx="5703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ravougaonik 3"/>
          <p:cNvSpPr/>
          <p:nvPr/>
        </p:nvSpPr>
        <p:spPr>
          <a:xfrm>
            <a:off x="2462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853560" y="28584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имо и ов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66640" y="1066680"/>
            <a:ext cx="2725920" cy="1809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518040" y="2786040"/>
            <a:ext cx="32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ска утакм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ти утакм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25840" y="853920"/>
            <a:ext cx="3517920" cy="2097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4545720" y="2857680"/>
            <a:ext cx="34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миче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-а с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мичити се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м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81200" y="3925800"/>
            <a:ext cx="278424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551880" y="56196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едати утакм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4853160" y="3780000"/>
            <a:ext cx="2852640" cy="1871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1"/>
          <p:cNvSpPr/>
          <p:nvPr/>
        </p:nvSpPr>
        <p:spPr>
          <a:xfrm>
            <a:off x="5159880" y="5619600"/>
            <a:ext cx="23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ија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-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ugaonik 3"/>
          <p:cNvSpPr/>
          <p:nvPr/>
        </p:nvSpPr>
        <p:spPr>
          <a:xfrm>
            <a:off x="0" y="185760"/>
            <a:ext cx="914400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00040" y="1181160"/>
          <a:ext cx="7858080" cy="531972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286000"/>
              </a:tblGrid>
              <a:tr h="18284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19652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Afbeelding 55" descr=""/>
          <p:cNvPicPr/>
          <p:nvPr/>
        </p:nvPicPr>
        <p:blipFill>
          <a:blip r:embed="rId1"/>
          <a:stretch/>
        </p:blipFill>
        <p:spPr>
          <a:xfrm>
            <a:off x="6286680" y="3705120"/>
            <a:ext cx="1571400" cy="168300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61" descr=""/>
          <p:cNvPicPr/>
          <p:nvPr/>
        </p:nvPicPr>
        <p:blipFill>
          <a:blip r:embed="rId2"/>
          <a:stretch/>
        </p:blipFill>
        <p:spPr>
          <a:xfrm>
            <a:off x="3929040" y="3800520"/>
            <a:ext cx="1643040" cy="147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4143240" y="1285920"/>
            <a:ext cx="1171800" cy="1571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-43200" y="217800"/>
            <a:ext cx="918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вежи сваку илустрацију са одговарајућом речј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шутну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ржа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*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баци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*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ухвати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усти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вод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2" descr=""/>
          <p:cNvPicPr/>
          <p:nvPr/>
        </p:nvPicPr>
        <p:blipFill>
          <a:blip r:embed="rId4"/>
          <a:stretch/>
        </p:blipFill>
        <p:spPr>
          <a:xfrm>
            <a:off x="714240" y="3786120"/>
            <a:ext cx="2462400" cy="14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3" descr=""/>
          <p:cNvPicPr/>
          <p:nvPr/>
        </p:nvPicPr>
        <p:blipFill>
          <a:blip r:embed="rId5"/>
          <a:stretch/>
        </p:blipFill>
        <p:spPr>
          <a:xfrm>
            <a:off x="1214280" y="1214280"/>
            <a:ext cx="128772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"/>
          <p:cNvPicPr/>
          <p:nvPr/>
        </p:nvPicPr>
        <p:blipFill>
          <a:blip r:embed="rId6"/>
          <a:stretch/>
        </p:blipFill>
        <p:spPr>
          <a:xfrm>
            <a:off x="6500880" y="1285920"/>
            <a:ext cx="1643040" cy="15620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3901320" y="5500800"/>
            <a:ext cx="159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шутну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о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142320" y="300024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ити ло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298320" y="300024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устити ло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90920" y="300024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ржати ло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016280" y="5429160"/>
            <a:ext cx="155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ухват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о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6471360" y="557208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бац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о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avougaonik 3"/>
          <p:cNvSpPr/>
          <p:nvPr/>
        </p:nvSpPr>
        <p:spPr>
          <a:xfrm>
            <a:off x="2462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0040" y="214200"/>
          <a:ext cx="8358120" cy="6310440"/>
        </p:xfrm>
        <a:graphic>
          <a:graphicData uri="http://schemas.openxmlformats.org/drawingml/2006/table">
            <a:tbl>
              <a:tblPr/>
              <a:tblGrid>
                <a:gridCol w="658800"/>
                <a:gridCol w="1981080"/>
                <a:gridCol w="586080"/>
                <a:gridCol w="5132160"/>
              </a:tblGrid>
              <a:tr h="45468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н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рт или за који нам треба бици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ициклиз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рт који спортисти изводе на леду у специјалној обућ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удб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рт у којем се два тима боре у базену један против друго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кија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рт који се изводи на снегу, на скијам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терпо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гра коју играју два тима од 11 играча на трав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ок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рт у којем се боре два играча један против другог. Имаји специјалне рукавице и ударају један другог док један не побе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иза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рт у којем учествују два или четири играча на посебном терену. Пребацују рекетима малу лопту преко мреж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e36c0a"/>
                      </a:solidFill>
                    </a:lnL>
                    <a:lnR w="5760">
                      <a:solidFill>
                        <a:srgbClr val="e36c0a"/>
                      </a:solidFill>
                    </a:lnR>
                    <a:lnT w="5760">
                      <a:solidFill>
                        <a:srgbClr val="e36c0a"/>
                      </a:solidFill>
                    </a:lnT>
                    <a:lnB w="5760">
                      <a:solidFill>
                        <a:srgbClr val="e36c0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15T21:19:26Z</dcterms:created>
  <dc:creator>Natasa</dc:creator>
  <dc:description/>
  <dc:language>en-US</dc:language>
  <cp:lastModifiedBy>Natasa</cp:lastModifiedBy>
  <dcterms:modified xsi:type="dcterms:W3CDTF">2022-03-06T17:50:21Z</dcterms:modified>
  <cp:revision>21</cp:revision>
  <dc:subject/>
  <dc:title>Игра и спорт</dc:title>
</cp:coreProperties>
</file>