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7B8-AC43-44A8-9DE3-15EE7E38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9A2-E01C-4A12-972F-07F3F57D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5804-16BB-44E7-BF23-09745884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766A-2167-47CD-892A-CD40D4D2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2738-5D6F-4CA9-BAFA-72C3AE1B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0922-9644-4398-8E4B-FAB34BA2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8E1C-833A-4979-824C-6B0674D8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98C1-29C6-4313-BFC7-D060C470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0499-D2DC-4D51-96DF-BC1B078E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7BB7-0112-4D5A-BB0E-24247385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1D3F-9511-4F64-BD48-5B2C3ADA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7FB4-DC07-4AE5-9C25-C5972109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FF4F-45E1-47DF-ACFC-D7B47353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9894-60D9-44FE-AB6F-8512594F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46FE-D9DD-4B91-98C3-3BD93958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11B9-1250-4323-B46A-A556B44B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96EE-47AD-4C03-A9F1-595A5F89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870EE-8166-405D-B807-2BC3F5BC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D4238-A4B1-4170-81E4-C3FD9D6D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F5187-D313-473C-A6CE-D732FCDB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3694C-6BB9-43AC-9E1F-1C722A62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B7372-5CB3-4E53-987D-E05BBEA6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145F-CBEC-4E99-A4B1-62EFC117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D415C-1797-4443-BEC3-F2CC18F0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A61F4-AA16-4135-A8AD-436EC3D9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18FD2-B488-46E8-A31D-7B6C746D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C7454-13A5-4406-B5B0-131659D8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DB7E1-09B8-44D8-A9F2-FF5286F2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16F7C-D007-4036-A4EE-E8A42E12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06DDD-A9D3-45B1-B713-4D092A11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7513E-E63D-4E1B-9728-B22B640F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576C3-0EF5-4A35-8DBA-358044F1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B3E13-1F49-40ED-85E6-0F3C4F1F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28A-0306-42A5-A59D-8BB0BE27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AAA1E-EB72-4DF7-A365-A35C5D27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49BC2-754D-4946-B1AC-6B47A255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AEF40-6E73-4F50-9FEF-5BD3EE12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0D426-3E3D-4197-A3E1-DC9B2BA1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B372C-2F6E-44E3-BFFC-3100C4DE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8BCD5-DF3F-4ED5-8780-FABD17F7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BA24C-4898-454B-9701-3D63234C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5FFA1-4878-4F20-926A-8290480B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2A49A-A263-4A40-AFAA-F279C64D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6B4BD-42ED-4FA7-A2AB-C4F7FC51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583-F724-4009-B4AE-25929384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7EABB-911F-4D0E-A65F-85700133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AE6C0-93B7-4C4E-BCB3-6A30E258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74CF0-231C-40F8-AD4D-BB2D4EB2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6FC72-59BD-4077-8036-C5B5C0B8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F2EBB-25C7-4278-B062-A099F297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A1BB1-4D85-4738-B440-A5AB3B9B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E78E2-E3D1-4208-A709-FCD23D6C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18B47-8A4F-4F09-9AE4-6AFA529E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C7322-511B-4693-9BD1-56B250EA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C6984-806B-4EDA-8970-E99B437E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93E3-33B8-4B61-9441-8FBE1C6E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25BF3-67DC-4C60-8AA5-DAF6C094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297AD-B0BC-4C90-8DD8-B9007590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A8652-B0EB-4786-AF5B-2ED126E6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8C573-050F-4D46-A256-79313D5B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92BEB-F24D-4050-BDED-58869952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413C6-A50E-414C-9600-1D3D73B3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206D9-D2F9-4CD5-ACA1-1ECA7199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93572-1F96-4FE0-B319-D9D7440E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0D694-9C31-4FE7-9E8D-74CC8499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BE866-D237-4FE9-8CE6-BDF3C532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C0A7-B993-40EC-B1FB-06727DB9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E5433-3AAB-4821-B542-657C2FE1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2CCB5-6C0F-408E-8708-38809CFD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37817-57FF-40D5-B130-5EB6A16D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0B147-8413-44D9-BB46-ECCC43F2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80D47-776D-41F7-8498-68DE73C3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558BE-9050-491B-897B-07A4937B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F47FE-DDCF-429F-876D-B1CE35B2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FE795-C39D-4004-AC82-0E8FA671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D6660-5DF5-4141-837B-1B0946E9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7ECD6-8853-420C-AD7C-47FA2C1F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7EE8-FDAD-424F-9680-0691AF77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35154-C4A0-4313-ACA1-9940473F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30A2C-FC03-4561-AFEA-D957EBCB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2E809-76D5-473E-B13C-AB7724FC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375DD-6518-4953-A79D-3A5067AB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EDD6E-2D53-4166-BF0D-B0B3F70B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3E939-2E6E-4AFC-A867-F1DA391E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15299-290A-4E88-8ED5-7301683F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4D94D-C833-424C-9D6E-9FD9E3F4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13AD2-93F3-4B29-946F-92E7341F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F6B5C-9844-42A7-97B7-CE37A0F2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8C35-1498-48A6-830D-25A7E448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4453C-FA5D-443F-8796-742643B2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1DFE4-ECCA-49D2-B046-A4936871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E5562-4328-46E5-BF73-81B1F414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8FD63-1FEF-4B2C-9188-A9478D42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91C4F-DB7F-4FF1-A713-D4123608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93A08-F116-4B71-9D97-6B6A9687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A7C86-AB75-4AD3-8D7D-3E69903B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798C-CEA7-4E46-AAD6-4E8C6A0DB531}" type="slidenum">
              <a:rPr b="0" lang="sr-R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4BD8-AC70-4A12-8F9B-56F68CC471E9}" type="slidenum">
              <a:rPr b="0" lang="sr-R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24E4-3E12-4783-80C7-67FB80E22707}" type="slidenum">
              <a:rPr b="0" lang="sr-R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3839-EE5E-4261-869F-C2AC45C6128D}" type="slidenum">
              <a:rPr b="0" lang="sr-R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AC97-A4FB-49B9-83E8-37EAE9733FC5}" type="slidenum">
              <a:rPr b="0" lang="sr-R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277F-5D88-452D-996D-0E485E819F24}" type="slidenum">
              <a:rPr b="0" lang="sr-R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B539-CFBE-4686-A403-279C63244E44}" type="slidenum">
              <a:rPr b="0" lang="sr-R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4710-54F8-44EB-B336-FDEFD09404D0}" type="slidenum">
              <a:rPr b="0" lang="sr-R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Cute schoolgirl with backpack — Stock Photo, Image"/>
          <p:cNvPicPr/>
          <p:nvPr/>
        </p:nvPicPr>
        <p:blipFill>
          <a:blip r:embed="rId1"/>
          <a:srcRect l="23821" t="9095" r="11811" b="6059"/>
          <a:stretch/>
        </p:blipFill>
        <p:spPr>
          <a:xfrm>
            <a:off x="6413400" y="785880"/>
            <a:ext cx="2516400" cy="528624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4"/>
          <p:cNvSpPr/>
          <p:nvPr/>
        </p:nvSpPr>
        <p:spPr>
          <a:xfrm>
            <a:off x="1285920" y="4071960"/>
            <a:ext cx="390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mbria"/>
              </a:rPr>
              <a:t>„</a:t>
            </a:r>
            <a:r>
              <a:rPr b="0" lang="sr-RS" sz="3200" spc="-1" strike="noStrike">
                <a:solidFill>
                  <a:srgbClr val="000000"/>
                </a:solidFill>
                <a:latin typeface="Cambria"/>
              </a:rPr>
              <a:t>Весна и торб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1500120" y="5214960"/>
            <a:ext cx="342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464653"/>
                </a:solidFill>
                <a:latin typeface="Cambria"/>
              </a:rPr>
              <a:t>Владимир Лич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100080" y="100080"/>
            <a:ext cx="8943840" cy="6648480"/>
          </a:xfrm>
          <a:prstGeom prst="rect">
            <a:avLst/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2800" y="748800"/>
            <a:ext cx="77184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edoka One"/>
                <a:ea typeface="Arial"/>
              </a:rPr>
              <a:t>Вежбамо нове речи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Rectangle 14"/>
          <p:cNvSpPr/>
          <p:nvPr/>
        </p:nvSpPr>
        <p:spPr>
          <a:xfrm>
            <a:off x="428760" y="1571760"/>
            <a:ext cx="8215200" cy="43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23e4f"/>
                </a:solidFill>
                <a:latin typeface="Calibri"/>
              </a:rPr>
              <a:t>Веснина торба 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23e4f"/>
                </a:solidFill>
                <a:latin typeface="Calibri"/>
              </a:rPr>
              <a:t>нова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	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 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	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стара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	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	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	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л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23e4f"/>
                </a:solidFill>
                <a:latin typeface="Calibri"/>
              </a:rPr>
              <a:t>	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	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дебела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	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	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велика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	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шарена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23e4f"/>
                </a:solidFill>
                <a:latin typeface="Calibri"/>
              </a:rPr>
              <a:t>тешка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	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	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широка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	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срећ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23e4f"/>
                </a:solidFill>
                <a:latin typeface="Calibri"/>
              </a:rPr>
              <a:t>	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	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	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	</a:t>
            </a:r>
            <a:r>
              <a:rPr b="0" sz="2800" spc="-1" strike="noStrike">
                <a:solidFill>
                  <a:srgbClr val="323e4f"/>
                </a:solidFill>
                <a:latin typeface="Calibri"/>
              </a:rPr>
              <a:t>несрећ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5"/>
          <p:cNvSpPr/>
          <p:nvPr/>
        </p:nvSpPr>
        <p:spPr>
          <a:xfrm>
            <a:off x="3071880" y="2214720"/>
            <a:ext cx="1285920" cy="428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6"/>
          <p:cNvSpPr/>
          <p:nvPr/>
        </p:nvSpPr>
        <p:spPr>
          <a:xfrm>
            <a:off x="2286000" y="3357720"/>
            <a:ext cx="1285920" cy="428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7"/>
          <p:cNvSpPr/>
          <p:nvPr/>
        </p:nvSpPr>
        <p:spPr>
          <a:xfrm>
            <a:off x="5000760" y="3357720"/>
            <a:ext cx="1285920" cy="428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8"/>
          <p:cNvSpPr/>
          <p:nvPr/>
        </p:nvSpPr>
        <p:spPr>
          <a:xfrm>
            <a:off x="428760" y="4357800"/>
            <a:ext cx="1571400" cy="500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9"/>
          <p:cNvSpPr/>
          <p:nvPr/>
        </p:nvSpPr>
        <p:spPr>
          <a:xfrm>
            <a:off x="3214800" y="4357800"/>
            <a:ext cx="1285920" cy="428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21"/>
          <p:cNvSpPr/>
          <p:nvPr/>
        </p:nvSpPr>
        <p:spPr>
          <a:xfrm>
            <a:off x="4000680" y="5357880"/>
            <a:ext cx="1643040" cy="571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0"/>
          <p:cNvSpPr/>
          <p:nvPr/>
        </p:nvSpPr>
        <p:spPr>
          <a:xfrm>
            <a:off x="714240" y="214200"/>
            <a:ext cx="671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323e4f"/>
                </a:solidFill>
                <a:latin typeface="Calibri"/>
              </a:rPr>
              <a:t>1. Које речи описују Веснину торбу? Заокружи их</a:t>
            </a:r>
            <a:r>
              <a:rPr b="1" lang="en-US" sz="2800" spc="-1" strike="noStrike">
                <a:solidFill>
                  <a:srgbClr val="323e4f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3"/>
          <p:cNvSpPr/>
          <p:nvPr/>
        </p:nvSpPr>
        <p:spPr>
          <a:xfrm>
            <a:off x="100080" y="100080"/>
            <a:ext cx="8943840" cy="6648480"/>
          </a:xfrm>
          <a:prstGeom prst="rect">
            <a:avLst/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357120" y="3500280"/>
            <a:ext cx="80247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e4f"/>
                </a:solidFill>
                <a:latin typeface="Calibri"/>
              </a:rPr>
              <a:t>2. У тексту торба може да прича. Како торба зове Весн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e4f"/>
                </a:solidFill>
                <a:latin typeface="Calibri"/>
              </a:rPr>
              <a:t>Торба зове Весну: 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357120" y="4941720"/>
            <a:ext cx="773928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e4f"/>
                </a:solidFill>
                <a:latin typeface="Calibri"/>
              </a:rPr>
              <a:t>3. Кога обично тако зовемо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428760" y="5429160"/>
            <a:ext cx="6953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e4f"/>
                </a:solidFill>
                <a:latin typeface="Calibri"/>
              </a:rPr>
              <a:t>а) Онога кога не волим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e4f"/>
                </a:solidFill>
                <a:latin typeface="Calibri"/>
              </a:rPr>
              <a:t>б) Онога кога волимо као брата/сест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7716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7030a0"/>
                </a:solidFill>
                <a:latin typeface="Fredoka One"/>
                <a:ea typeface="Arial"/>
              </a:rPr>
              <a:t>Изабери тачан одговор или допуни реченицу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1" name="Oval 10"/>
          <p:cNvSpPr/>
          <p:nvPr/>
        </p:nvSpPr>
        <p:spPr>
          <a:xfrm>
            <a:off x="571680" y="5929200"/>
            <a:ext cx="428400" cy="4287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1"/>
          <p:cNvSpPr/>
          <p:nvPr/>
        </p:nvSpPr>
        <p:spPr>
          <a:xfrm>
            <a:off x="500040" y="2286000"/>
            <a:ext cx="357120" cy="414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2"/>
          <p:cNvSpPr/>
          <p:nvPr/>
        </p:nvSpPr>
        <p:spPr>
          <a:xfrm>
            <a:off x="3286080" y="3929040"/>
            <a:ext cx="20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7030a0"/>
                </a:solidFill>
                <a:latin typeface="Calibri"/>
              </a:rPr>
              <a:t>сестр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285840" y="1285920"/>
            <a:ext cx="7167600" cy="19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e4f"/>
                </a:solidFill>
                <a:latin typeface="Calibri"/>
              </a:rPr>
              <a:t>1. </a:t>
            </a:r>
            <a:r>
              <a:rPr b="1" lang="sr-RS" sz="2400" spc="-1" strike="noStrike">
                <a:solidFill>
                  <a:srgbClr val="323e4f"/>
                </a:solidFill>
                <a:latin typeface="Calibri"/>
              </a:rPr>
              <a:t>Како се осећа торба сваког јутр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23e4f"/>
                </a:solidFill>
                <a:latin typeface="Calibri"/>
              </a:rPr>
              <a:t>а) Торба је несрећ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23e4f"/>
                </a:solidFill>
                <a:latin typeface="Calibri"/>
              </a:rPr>
              <a:t>б) Торба је срећ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23e4f"/>
                </a:solidFill>
                <a:latin typeface="Calibri"/>
              </a:rPr>
              <a:t>в) Торба је задовољна</a:t>
            </a:r>
            <a:r>
              <a:rPr b="0" lang="en-US" sz="2400" spc="-1" strike="noStrike">
                <a:solidFill>
                  <a:srgbClr val="323e4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3"/>
          <p:cNvSpPr/>
          <p:nvPr/>
        </p:nvSpPr>
        <p:spPr>
          <a:xfrm>
            <a:off x="100080" y="100080"/>
            <a:ext cx="8943840" cy="6648480"/>
          </a:xfrm>
          <a:prstGeom prst="rect">
            <a:avLst/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476280" y="3571920"/>
            <a:ext cx="802476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3e4f"/>
                </a:solidFill>
                <a:latin typeface="Calibri"/>
              </a:rPr>
              <a:t>5. </a:t>
            </a:r>
            <a:r>
              <a:rPr b="1" sz="2800" spc="-1" strike="noStrike">
                <a:solidFill>
                  <a:srgbClr val="323e4f"/>
                </a:solidFill>
                <a:latin typeface="Calibri"/>
              </a:rPr>
              <a:t>Како можемо одговорити на ово питање</a:t>
            </a:r>
            <a:r>
              <a:rPr b="1" lang="en-US" sz="2800" spc="-1" strike="noStrike">
                <a:solidFill>
                  <a:srgbClr val="323e4f"/>
                </a:solidFill>
                <a:latin typeface="Calibri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e4f"/>
                </a:solidFill>
                <a:latin typeface="Calibri"/>
              </a:rPr>
              <a:t>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e4f"/>
                </a:solidFill>
                <a:latin typeface="Calibri"/>
              </a:rPr>
              <a:t>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857160" y="4017960"/>
            <a:ext cx="242892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3e4f"/>
                </a:solidFill>
                <a:latin typeface="Calibri"/>
              </a:rPr>
              <a:t>Жао ми 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642960" y="4572000"/>
            <a:ext cx="300024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3e4f"/>
                </a:solidFill>
                <a:latin typeface="Calibri"/>
              </a:rPr>
              <a:t>Није ми жао.</a:t>
            </a:r>
            <a:r>
              <a:rPr b="0" lang="en-US" sz="2800" spc="-1" strike="noStrike">
                <a:solidFill>
                  <a:srgbClr val="323e4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16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  <a:ea typeface="Arial"/>
              </a:rPr>
              <a:t>Вежбам</a:t>
            </a:r>
            <a:br>
              <a:rPr sz="2800"/>
            </a:br>
            <a:r>
              <a:rPr b="1" lang="sr-RS" sz="2800" spc="-1" strike="noStrike">
                <a:solidFill>
                  <a:srgbClr val="7030a0"/>
                </a:solidFill>
                <a:latin typeface="Calibri"/>
                <a:ea typeface="Arial"/>
              </a:rPr>
              <a:t>Одговори на питање.</a:t>
            </a:r>
            <a:r>
              <a:rPr b="1" lang="sr-RS" sz="2800" spc="-1" strike="noStrike">
                <a:solidFill>
                  <a:srgbClr val="ffffff"/>
                </a:solidFill>
                <a:latin typeface="Calibri"/>
                <a:ea typeface="Arial"/>
              </a:rPr>
              <a:t>о нове речи и изразе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0" name="TextBox 12"/>
          <p:cNvSpPr/>
          <p:nvPr/>
        </p:nvSpPr>
        <p:spPr>
          <a:xfrm>
            <a:off x="928800" y="271476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571680" y="1714680"/>
            <a:ext cx="716724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3e4f"/>
                </a:solidFill>
                <a:latin typeface="Calibri"/>
              </a:rPr>
              <a:t>4. </a:t>
            </a:r>
            <a:r>
              <a:rPr b="1" lang="sr-RS" sz="2800" spc="-1" strike="noStrike">
                <a:solidFill>
                  <a:srgbClr val="323e4f"/>
                </a:solidFill>
                <a:latin typeface="Calibri"/>
              </a:rPr>
              <a:t>Шта је торба питала Весну? Допуни питање</a:t>
            </a:r>
            <a:r>
              <a:rPr b="1" lang="en-US" sz="2800" spc="-1" strike="noStrike">
                <a:solidFill>
                  <a:srgbClr val="323e4f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e4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____</a:t>
            </a:r>
            <a:r>
              <a:rPr b="0" lang="en-US" sz="2800" spc="-1" strike="noStrike">
                <a:solidFill>
                  <a:srgbClr val="323e4f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323e4f"/>
                </a:solidFill>
                <a:latin typeface="Calibri"/>
              </a:rPr>
              <a:t>ти није жао</a:t>
            </a:r>
            <a:r>
              <a:rPr b="0" lang="en-US" sz="2800" spc="-1" strike="noStrike">
                <a:solidFill>
                  <a:srgbClr val="323e4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3"/>
          <p:cNvSpPr/>
          <p:nvPr/>
        </p:nvSpPr>
        <p:spPr>
          <a:xfrm>
            <a:off x="100080" y="100080"/>
            <a:ext cx="8943840" cy="6648480"/>
          </a:xfrm>
          <a:prstGeom prst="rect">
            <a:avLst/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12800" y="285840"/>
            <a:ext cx="77184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7030a0"/>
                </a:solidFill>
                <a:latin typeface="Calibri"/>
                <a:ea typeface="Arial"/>
              </a:rPr>
              <a:t>Изабери тачан одговор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Oval 10"/>
          <p:cNvSpPr/>
          <p:nvPr/>
        </p:nvSpPr>
        <p:spPr>
          <a:xfrm>
            <a:off x="714240" y="4000680"/>
            <a:ext cx="428760" cy="428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3"/>
          <p:cNvSpPr/>
          <p:nvPr/>
        </p:nvSpPr>
        <p:spPr>
          <a:xfrm>
            <a:off x="500040" y="1428840"/>
            <a:ext cx="807264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323e4f"/>
                </a:solidFill>
                <a:latin typeface="Calibri"/>
              </a:rPr>
              <a:t>6. Каква девојчица је Весн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23e4f"/>
                </a:solidFill>
                <a:latin typeface="Calibri"/>
              </a:rPr>
              <a:t>а) Весна је пажљива, брине се о својим ствар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23e4f"/>
                </a:solidFill>
                <a:latin typeface="Calibri"/>
              </a:rPr>
              <a:t>б) Весна је одговорна, чува своје ствар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23e4f"/>
                </a:solidFill>
                <a:latin typeface="Calibri"/>
              </a:rPr>
              <a:t>в) Весна је непажљива, не брине се о својим ствар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23e4f"/>
                </a:solidFill>
                <a:latin typeface="Calibri"/>
              </a:rPr>
              <a:t>г) Весна је неодговорна, не чува своје ства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4"/>
          <p:cNvSpPr/>
          <p:nvPr/>
        </p:nvSpPr>
        <p:spPr>
          <a:xfrm>
            <a:off x="714240" y="5072040"/>
            <a:ext cx="428760" cy="428760"/>
          </a:xfrm>
          <a:prstGeom prst="ellips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7-11T09:52:09Z</dcterms:created>
  <dc:creator>Natasa</dc:creator>
  <dc:description/>
  <dc:language>en-US</dc:language>
  <cp:lastModifiedBy>Natasa</cp:lastModifiedBy>
  <dcterms:modified xsi:type="dcterms:W3CDTF">2022-03-05T17:06:56Z</dcterms:modified>
  <cp:revision>14</cp:revision>
  <dc:subject/>
  <dc:title>Весна и торба</dc:title>
</cp:coreProperties>
</file>