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006-B0F0-469B-A9A5-5504387DB25A}" type="slidenum">
              <a:rPr b="0" lang="sr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605B-7DE0-462B-A84F-8BDEBCC3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6BB-9D87-4893-9044-61BC21FB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22E-0D5E-4C88-A01D-FBF31FAC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348-4550-4F02-95A7-2D115C06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E7C-B976-456D-B39D-BE122ECC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580C-83E0-4D0F-AF49-B09249EE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8C0F-BC86-40C1-8675-BDDF35C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0AD8-5090-4BEF-849A-7072C53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4606-3DEC-4C36-BF62-F8BC1320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5CB-1698-45F5-8A3E-DA14EE2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8F0-E6BB-44D3-8E4E-1B21501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946-20F2-4C23-9728-F83D632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FED-D0F0-435C-B9F0-5DBD09E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8E6-A6E9-4B37-963B-635A8CD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808-0841-41EB-B838-92759BA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B9AF-8D9C-4C3F-891F-8C06DE4A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659E-CF65-4548-AC20-18F29298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0E38-A539-4E23-A02F-FF6C987F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42D1-AD6A-403A-BE5A-2A5B8882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FCE6-5DEB-4325-B9C2-E5E72AA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3474-5F38-4838-9808-F8248831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780C-A81B-46A1-91BE-6E1A7C1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14F6-0F07-47F9-B02E-DDA4322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24D-C685-4F5F-8940-E25B911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D7F5-1FF8-41AD-A255-8BA8F8B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2C02-CAEF-4A26-916B-06DF455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DC8C-2A95-4EB8-8C08-6042BF70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5E9F-5878-4675-97A8-DB827E6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5C90-918E-48D1-BC72-0B3BD55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18B3-B1E2-4604-81B7-854195EA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5CED-C093-4EE3-9A78-24E18161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0D22-50DF-463F-9C08-2AF68F95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1498-0E29-4620-B9FD-00D7E283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7D39-AA6C-483C-A761-78395FB4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679-F0B5-4A34-A76E-8A407094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D16F-47D1-48A2-9D05-8E3000D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69A3-669A-417B-8F1B-2B628EB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3054-B558-413A-AD65-A395146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EA3E-299F-45B9-AA4C-C35EF8B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0734-20AB-4C31-BE70-9D2921D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1790-F6D4-447B-923E-C605A625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26B9-F962-45AB-87F3-28E67F3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4C59-D265-4867-AAA5-402491CA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21D6-9E7F-4E21-8682-88F0E7B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EDAA-A9A8-4AED-8F5A-DB52065E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7AB-CD9D-4301-B1D6-2FB075B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982B-98C4-4B44-AA0A-3B9229A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F615-F4D5-4B73-A03A-93005334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A29E-F4DE-48BC-9FEF-BA14DB7F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9873-C1F1-49FB-BBD0-B0CCF56C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4374-EC81-402C-9E1B-7EC54B86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D26A-8208-4328-9EAB-FDAC0DB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584C5-21EA-4245-BD72-E76297F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8027-ECE0-4CD6-BA41-84FA40C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280E-A1AF-43DB-AE5B-6D3DCF52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F2CE-2635-4A0A-867A-29737ECF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B9E-EF71-4DEC-9F0C-58275EE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C477-2B79-4948-9284-901981CC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D64-8A52-48AE-B184-EADF066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2E2-137D-4CEC-AEF7-22E14250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865-5BBC-4147-9B71-7664FD9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FFBA-7EED-4506-AE17-6033CC55C2FC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58E8-62E7-4260-BE76-95A741B58F2F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72F-AADA-44F1-8A34-F65A6A22411C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970-475C-4E23-A7DD-109B00E32DCB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FDE-7E8A-4122-8E9B-DA5114FB062F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ушица Лукић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У библиотеци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и и Ема”, Игор Коларо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корњаче уче”, Гвидо Тартаљ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ивљаји Тома Сојера”, Марк Тве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иблиотеци”, Душица Лукић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ако се пишу називи књига и књижевних дела</a:t>
            </a: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ustomer looking for book in bookstore — Stock Photo, Image"/>
          <p:cNvPicPr/>
          <p:nvPr/>
        </p:nvPicPr>
        <p:blipFill>
          <a:blip r:embed="rId1"/>
          <a:stretch/>
        </p:blipFill>
        <p:spPr>
          <a:xfrm>
            <a:off x="857160" y="357120"/>
            <a:ext cx="7429680" cy="49197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583920" y="542916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жара,-е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35040" y="5429160"/>
            <a:ext cx="465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њижари купујемо књи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е се продају у књиж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Kids checking out books in the library — Stock Vector"/>
          <p:cNvPicPr/>
          <p:nvPr/>
        </p:nvPicPr>
        <p:blipFill>
          <a:blip r:embed="rId1"/>
          <a:stretch/>
        </p:blipFill>
        <p:spPr>
          <a:xfrm>
            <a:off x="642960" y="285840"/>
            <a:ext cx="7707240" cy="5138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"/>
          <p:cNvSpPr/>
          <p:nvPr/>
        </p:nvSpPr>
        <p:spPr>
          <a:xfrm>
            <a:off x="646560" y="262080"/>
            <a:ext cx="3333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,-е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14240" y="5429160"/>
            <a:ext cx="79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иблиотеци позајмљујемо књи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е узимамо из библиот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е враћамо у библиотеку кад их прочита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647600" y="4905360"/>
            <a:ext cx="3841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ка,-е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7720" y="11430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 м. род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к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е ж. род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ан библиотеке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ац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итаоца; читаоци м. род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т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нтересујем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ти некога/нешто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ује ме биологија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а то не интересује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шта ме не интересује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Учимо нове речи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oogle Shape;1077;p52"/>
          <p:cNvGrpSpPr/>
          <p:nvPr/>
        </p:nvGrpSpPr>
        <p:grpSpPr>
          <a:xfrm>
            <a:off x="428760" y="1521000"/>
            <a:ext cx="8501040" cy="2681280"/>
            <a:chOff x="428760" y="1521000"/>
            <a:chExt cx="8501040" cy="2681280"/>
          </a:xfrm>
        </p:grpSpPr>
        <p:sp>
          <p:nvSpPr>
            <p:cNvPr id="248" name="Google Shape;1078;p52"/>
            <p:cNvSpPr/>
            <p:nvPr/>
          </p:nvSpPr>
          <p:spPr>
            <a:xfrm>
              <a:off x="434520" y="1536480"/>
              <a:ext cx="8495280" cy="2665440"/>
            </a:xfrm>
            <a:prstGeom prst="pie">
              <a:avLst/>
            </a:prstGeom>
            <a:noFill/>
            <a:ln w="114480">
              <a:solidFill>
                <a:srgbClr val="99cb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Google Shape;1079;p52"/>
            <p:cNvSpPr/>
            <p:nvPr/>
          </p:nvSpPr>
          <p:spPr>
            <a:xfrm>
              <a:off x="428760" y="1521000"/>
              <a:ext cx="8492760" cy="2681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oogle Shape;1088;p52"/>
          <p:cNvGrpSpPr/>
          <p:nvPr/>
        </p:nvGrpSpPr>
        <p:grpSpPr>
          <a:xfrm>
            <a:off x="1143000" y="3214800"/>
            <a:ext cx="500040" cy="514080"/>
            <a:chOff x="1143000" y="3214800"/>
            <a:chExt cx="500040" cy="514080"/>
          </a:xfrm>
        </p:grpSpPr>
        <p:sp>
          <p:nvSpPr>
            <p:cNvPr id="251" name="Google Shape;1089;p52"/>
            <p:cNvSpPr/>
            <p:nvPr/>
          </p:nvSpPr>
          <p:spPr>
            <a:xfrm>
              <a:off x="1187280" y="3252600"/>
              <a:ext cx="420840" cy="43632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Google Shape;1090;p52"/>
            <p:cNvSpPr/>
            <p:nvPr/>
          </p:nvSpPr>
          <p:spPr>
            <a:xfrm>
              <a:off x="1143000" y="3214800"/>
              <a:ext cx="5000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3" name="Straight Arrow Connector 9"/>
          <p:cNvCxnSpPr>
            <a:endCxn id="254" idx="0"/>
          </p:cNvCxnSpPr>
          <p:nvPr/>
        </p:nvCxnSpPr>
        <p:spPr>
          <a:xfrm>
            <a:off x="1285920" y="3714480"/>
            <a:ext cx="364320" cy="113076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54" name="Rectangle 11"/>
          <p:cNvSpPr/>
          <p:nvPr/>
        </p:nvSpPr>
        <p:spPr>
          <a:xfrm>
            <a:off x="228600" y="48448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, -а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oogle Shape;1088;p52"/>
          <p:cNvGrpSpPr/>
          <p:nvPr/>
        </p:nvGrpSpPr>
        <p:grpSpPr>
          <a:xfrm>
            <a:off x="3214800" y="1411200"/>
            <a:ext cx="573120" cy="514440"/>
            <a:chOff x="3214800" y="1411200"/>
            <a:chExt cx="573120" cy="514440"/>
          </a:xfrm>
        </p:grpSpPr>
        <p:sp>
          <p:nvSpPr>
            <p:cNvPr id="256" name="Google Shape;1089;p52"/>
            <p:cNvSpPr/>
            <p:nvPr/>
          </p:nvSpPr>
          <p:spPr>
            <a:xfrm>
              <a:off x="3261240" y="1449000"/>
              <a:ext cx="48420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Google Shape;1090;p52"/>
            <p:cNvSpPr/>
            <p:nvPr/>
          </p:nvSpPr>
          <p:spPr>
            <a:xfrm>
              <a:off x="3214800" y="1411200"/>
              <a:ext cx="57312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15"/>
          <p:cNvCxnSpPr>
            <a:endCxn id="259" idx="1"/>
          </p:cNvCxnSpPr>
          <p:nvPr/>
        </p:nvCxnSpPr>
        <p:spPr>
          <a:xfrm>
            <a:off x="3597120" y="1909440"/>
            <a:ext cx="46800" cy="103572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60" name="Rectangle 16"/>
          <p:cNvSpPr/>
          <p:nvPr/>
        </p:nvSpPr>
        <p:spPr>
          <a:xfrm>
            <a:off x="4379400" y="71424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ац, читаоца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oogle Shape;1088;p52"/>
          <p:cNvGrpSpPr/>
          <p:nvPr/>
        </p:nvGrpSpPr>
        <p:grpSpPr>
          <a:xfrm>
            <a:off x="2500200" y="3500280"/>
            <a:ext cx="571680" cy="514440"/>
            <a:chOff x="2500200" y="3500280"/>
            <a:chExt cx="571680" cy="514440"/>
          </a:xfrm>
        </p:grpSpPr>
        <p:sp>
          <p:nvSpPr>
            <p:cNvPr id="262" name="Google Shape;1089;p52"/>
            <p:cNvSpPr/>
            <p:nvPr/>
          </p:nvSpPr>
          <p:spPr>
            <a:xfrm>
              <a:off x="2538360" y="3538080"/>
              <a:ext cx="48456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Google Shape;1090;p52"/>
            <p:cNvSpPr/>
            <p:nvPr/>
          </p:nvSpPr>
          <p:spPr>
            <a:xfrm>
              <a:off x="2500200" y="3500280"/>
              <a:ext cx="57168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4" name="Straight Arrow Connector 24"/>
          <p:cNvCxnSpPr/>
          <p:nvPr/>
        </p:nvCxnSpPr>
        <p:spPr>
          <a:xfrm>
            <a:off x="2971440" y="3885840"/>
            <a:ext cx="957960" cy="68652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65" name="Rectangle 25"/>
          <p:cNvSpPr/>
          <p:nvPr/>
        </p:nvSpPr>
        <p:spPr>
          <a:xfrm>
            <a:off x="3109680" y="457200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к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3652560" y="27147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ан, -а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oogle Shape;1088;p52"/>
          <p:cNvGrpSpPr/>
          <p:nvPr/>
        </p:nvGrpSpPr>
        <p:grpSpPr>
          <a:xfrm>
            <a:off x="4643280" y="1730520"/>
            <a:ext cx="541440" cy="514080"/>
            <a:chOff x="4643280" y="1730520"/>
            <a:chExt cx="541440" cy="514080"/>
          </a:xfrm>
        </p:grpSpPr>
        <p:sp>
          <p:nvSpPr>
            <p:cNvPr id="267" name="Google Shape;1089;p52"/>
            <p:cNvSpPr/>
            <p:nvPr/>
          </p:nvSpPr>
          <p:spPr>
            <a:xfrm>
              <a:off x="4692600" y="1768320"/>
              <a:ext cx="457560" cy="43632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Google Shape;1090;p52"/>
            <p:cNvSpPr/>
            <p:nvPr/>
          </p:nvSpPr>
          <p:spPr>
            <a:xfrm>
              <a:off x="4643280" y="1730520"/>
              <a:ext cx="5414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9" name="Straight Arrow Connector 31"/>
          <p:cNvCxnSpPr>
            <a:endCxn id="260" idx="2"/>
          </p:cNvCxnSpPr>
          <p:nvPr/>
        </p:nvCxnSpPr>
        <p:spPr>
          <a:xfrm flipV="1">
            <a:off x="5000400" y="1175760"/>
            <a:ext cx="826200" cy="53892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grpSp>
        <p:nvGrpSpPr>
          <p:cNvPr id="270" name="Google Shape;1088;p52"/>
          <p:cNvGrpSpPr/>
          <p:nvPr/>
        </p:nvGrpSpPr>
        <p:grpSpPr>
          <a:xfrm>
            <a:off x="7215120" y="3286080"/>
            <a:ext cx="534960" cy="514440"/>
            <a:chOff x="7215120" y="3286080"/>
            <a:chExt cx="534960" cy="514440"/>
          </a:xfrm>
        </p:grpSpPr>
        <p:sp>
          <p:nvSpPr>
            <p:cNvPr id="271" name="Google Shape;1089;p52"/>
            <p:cNvSpPr/>
            <p:nvPr/>
          </p:nvSpPr>
          <p:spPr>
            <a:xfrm>
              <a:off x="7264440" y="3323880"/>
              <a:ext cx="45108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Google Shape;1090;p52"/>
            <p:cNvSpPr/>
            <p:nvPr/>
          </p:nvSpPr>
          <p:spPr>
            <a:xfrm>
              <a:off x="7215120" y="328608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3" name="Straight Arrow Connector 42"/>
          <p:cNvCxnSpPr>
            <a:endCxn id="274" idx="2"/>
          </p:cNvCxnSpPr>
          <p:nvPr/>
        </p:nvCxnSpPr>
        <p:spPr>
          <a:xfrm flipH="1" flipV="1">
            <a:off x="7409880" y="2461320"/>
            <a:ext cx="91080" cy="82476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74" name="Rectangle 44"/>
          <p:cNvSpPr/>
          <p:nvPr/>
        </p:nvSpPr>
        <p:spPr>
          <a:xfrm>
            <a:off x="6010200" y="2000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ти, уј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0"/>
          <p:cNvSpPr/>
          <p:nvPr/>
        </p:nvSpPr>
        <p:spPr>
          <a:xfrm>
            <a:off x="461520" y="15228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имо нове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Kids checking out books in the library — Stock Vector"/>
          <p:cNvPicPr/>
          <p:nvPr/>
        </p:nvPicPr>
        <p:blipFill>
          <a:blip r:embed="rId1"/>
          <a:stretch/>
        </p:blipFill>
        <p:spPr>
          <a:xfrm>
            <a:off x="320760" y="1500120"/>
            <a:ext cx="2251080" cy="1500120"/>
          </a:xfrm>
          <a:prstGeom prst="rect">
            <a:avLst/>
          </a:prstGeom>
          <a:ln w="0">
            <a:noFill/>
          </a:ln>
        </p:spPr>
      </p:pic>
      <p:cxnSp>
        <p:nvCxnSpPr>
          <p:cNvPr id="277" name="Straight Arrow Connector 48"/>
          <p:cNvCxnSpPr/>
          <p:nvPr/>
        </p:nvCxnSpPr>
        <p:spPr>
          <a:xfrm flipH="1" flipV="1">
            <a:off x="2071080" y="2499840"/>
            <a:ext cx="572040" cy="1000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363600" y="571680"/>
            <a:ext cx="8454960" cy="54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169920"/>
            <a:ext cx="3805200" cy="758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чланска карт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80" name="Picture 2" descr="У ГРАДСКОЈ БИБЛИОТЕЦИ „Књига у срцу” – Читалачка значка за децу | Dnevnik"/>
          <p:cNvPicPr/>
          <p:nvPr/>
        </p:nvPicPr>
        <p:blipFill>
          <a:blip r:embed="rId1"/>
          <a:srcRect l="0" t="0" r="12112" b="-218"/>
          <a:stretch/>
        </p:blipFill>
        <p:spPr>
          <a:xfrm>
            <a:off x="357120" y="928800"/>
            <a:ext cx="5357880" cy="4143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Članska karta biblioteke - MojaKnjizara.rs"/>
          <p:cNvPicPr/>
          <p:nvPr/>
        </p:nvPicPr>
        <p:blipFill>
          <a:blip r:embed="rId2"/>
          <a:stretch/>
        </p:blipFill>
        <p:spPr>
          <a:xfrm>
            <a:off x="5786280" y="1762200"/>
            <a:ext cx="3129120" cy="45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12855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бар дан! Извол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бар дан! Желим да будем ________ (члан) ове ______________. (библиотека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 је лако. Реци ми своје име и презиме и адресу ______________ (уписати) те у _____________ (библиотека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овем се___________. Станујем у/на ____________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воли _______________ (чланска карта), ______________ (чланарина) је 500 ___________ (динар) за _______________ (цела година). Да ли одмах желиш и _______________ (нека књига)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1379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0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опуни разговор речима у загради у одговарајућем облику.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7720" y="428760"/>
            <a:ext cx="7620120" cy="5743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 желим ______________ (лектира Аги и Ема) од __________________ (Игор Коларов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воли књигу. Пошто узимаш ____________ (лектира), могу ти дати само ____________ (једна књига)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да треба да _____________ (вратити)књигу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њигу можеш задржати 20 __________ (дана). Ако не ___________ (стићи)да је ______________ (прочитати), дођи, паћу ти продужити рок још 10 дан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вала лепо! Довиђења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лиотек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виђења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9T12:33:20Z</dcterms:created>
  <dc:creator>Natasa</dc:creator>
  <dc:description/>
  <dc:language>en-US</dc:language>
  <cp:lastModifiedBy>Natasa</cp:lastModifiedBy>
  <dcterms:modified xsi:type="dcterms:W3CDTF">2022-03-05T19:19:17Z</dcterms:modified>
  <cp:revision>18</cp:revision>
  <dc:subject/>
  <dc:title>У библиотеци</dc:title>
</cp:coreProperties>
</file>