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DB2E-E671-4166-B395-575047F3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1A8C-B4FA-46C8-9EE1-17076461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703-08AB-4348-A867-D505A5C4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5563-B25E-4A9C-93BF-081E4E52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97B-6FF2-45A6-B645-D2A65684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C571-CB66-4586-9F0C-322C2F04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90F7-3FAE-4053-8F51-4CE962E9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82B-3315-4A9E-A3D0-DFF8E8E4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D76-8C61-4ACF-8845-2B9F491D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E49-F9D8-4F46-9F49-11383E3B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F4F-D381-43D5-BD35-E0BA332E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D7D2-5DD0-4B66-B6F1-11C5F7B9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456B-B710-4476-8032-AFB01BB6BFFC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Школски излети и екскурз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HOT0052.JPG"/>
          <p:cNvPicPr/>
          <p:nvPr/>
        </p:nvPicPr>
        <p:blipFill>
          <a:blip r:embed="rId1"/>
          <a:stretch/>
        </p:blipFill>
        <p:spPr>
          <a:xfrm>
            <a:off x="428760" y="571680"/>
            <a:ext cx="3357360" cy="2512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s://www.drinka.rs/wp-content/uploads/2013/09/thumbnail-1000x454.jpg"/>
          <p:cNvPicPr/>
          <p:nvPr/>
        </p:nvPicPr>
        <p:blipFill>
          <a:blip r:embed="rId2"/>
          <a:stretch/>
        </p:blipFill>
        <p:spPr>
          <a:xfrm>
            <a:off x="1690560" y="3786120"/>
            <a:ext cx="5167440" cy="2346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s://www.drinka.rs/wp-content/uploads/2013/09/IMG-3cd126e066131cbfa77af2601a179bc5-V-1000x454.jpg"/>
          <p:cNvPicPr/>
          <p:nvPr/>
        </p:nvPicPr>
        <p:blipFill>
          <a:blip r:embed="rId3"/>
          <a:stretch/>
        </p:blipFill>
        <p:spPr>
          <a:xfrm>
            <a:off x="4214880" y="1000080"/>
            <a:ext cx="47862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osherojrosatrifunovic.nasaskola.rs/files/untitled%20folder2/untitled%20folder1/untitled%20folder/untitled%20folder/61364142_2354921214545344_8040780168022720512_n.jpg"/>
          <p:cNvPicPr/>
          <p:nvPr/>
        </p:nvPicPr>
        <p:blipFill>
          <a:blip r:embed="rId1"/>
          <a:srcRect l="0" t="0" r="6523" b="17392"/>
          <a:stretch/>
        </p:blipFill>
        <p:spPr>
          <a:xfrm>
            <a:off x="714240" y="1071720"/>
            <a:ext cx="30718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0T12:30:20Z</dcterms:created>
  <dc:creator>Natasa</dc:creator>
  <dc:description/>
  <dc:language>en-US</dc:language>
  <cp:lastModifiedBy>Natasa</cp:lastModifiedBy>
  <dcterms:modified xsi:type="dcterms:W3CDTF">2021-11-10T12:36:42Z</dcterms:modified>
  <cp:revision>1</cp:revision>
  <dc:subject/>
  <dc:title>Школски излети и екскурзије</dc:title>
</cp:coreProperties>
</file>