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6CD-01E9-4A96-96FE-5BE542D9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F00-C721-4908-A976-D31902FE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CD4-B466-4978-BE63-F3D5C183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252-EC38-4E5D-B7DD-49E3A1E5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4CE-4A63-41F4-8BED-2474942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D50-A514-4105-AE3F-2CA58AE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CDD-BB6B-4821-92F2-1BC8B20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731-0779-4C72-ADA4-C92929A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F44-CC97-4889-939A-E5F2AF1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AEF-8918-46A2-AB08-6D3FE591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0D4-1ABE-4963-97F3-27643FE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014-ACBF-4872-BA76-1CACEB9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1FA-B920-4B1E-9800-687A19D145FA}" type="slidenum">
              <a:rPr b="0" lang="sr-R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Ценов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Јованка Јоргачеви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службеник, -а м. род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службеница, -е ж. ро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Woman clerk in a bank office. Flat vector. — Stock Vector"/>
          <p:cNvPicPr/>
          <p:nvPr/>
        </p:nvPicPr>
        <p:blipFill>
          <a:blip r:embed="rId1"/>
          <a:stretch/>
        </p:blipFill>
        <p:spPr>
          <a:xfrm>
            <a:off x="1785960" y="171468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ервис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, -а м. ро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Service and repair of household appliances concept. 3D rendering — Stock Photo, Image"/>
          <p:cNvPicPr/>
          <p:nvPr/>
        </p:nvPicPr>
        <p:blipFill>
          <a:blip r:embed="rId1"/>
          <a:srcRect l="0" t="0" r="1868" b="10252"/>
          <a:stretch/>
        </p:blipFill>
        <p:spPr>
          <a:xfrm>
            <a:off x="1071720" y="1592280"/>
            <a:ext cx="7143480" cy="4765680"/>
          </a:xfrm>
          <a:prstGeom prst="rect">
            <a:avLst/>
          </a:prstGeom>
          <a:ln w="0">
            <a:noFill/>
          </a:ln>
        </p:spPr>
      </p:pic>
      <p:sp>
        <p:nvSpPr>
          <p:cNvPr id="47" name="Title 1"/>
          <p:cNvSpPr/>
          <p:nvPr/>
        </p:nvSpPr>
        <p:spPr>
          <a:xfrm>
            <a:off x="428760" y="1714680"/>
            <a:ext cx="82296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ff"/>
                </a:solidFill>
                <a:latin typeface="Calibri"/>
              </a:rPr>
              <a:t>услуга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, -е ж. р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ористити услуг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ужити услугу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латити услу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уштерија, -е м. и ж ро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Young couple at clothes shopping — Stock Photo, Image"/>
          <p:cNvPicPr/>
          <p:nvPr/>
        </p:nvPicPr>
        <p:blipFill>
          <a:blip r:embed="rId1"/>
          <a:stretch/>
        </p:blipFill>
        <p:spPr>
          <a:xfrm>
            <a:off x="1285920" y="1500120"/>
            <a:ext cx="6708600" cy="44658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357200" y="2214720"/>
            <a:ext cx="69296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тара муштериј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задовољан муш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задовољне муштериј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имати много муштериј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180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ffffff"/>
                </a:solidFill>
                <a:latin typeface="Calibri"/>
              </a:rPr>
              <a:t>промислити</a:t>
            </a: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, -им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промислити мало о нечем;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пажљиво промислити</a:t>
            </a:r>
            <a:br>
              <a:rPr sz="4000"/>
            </a:br>
            <a:br>
              <a:rPr sz="4000"/>
            </a:br>
            <a:r>
              <a:rPr b="1" lang="sr-RS" sz="4000" spc="-1" strike="noStrike">
                <a:solidFill>
                  <a:srgbClr val="ffffff"/>
                </a:solidFill>
                <a:latin typeface="Calibri"/>
              </a:rPr>
              <a:t>равнодушно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изгледати равнодушно;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одговорити равнодушно;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равнодушно гледати туч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6T13:55:32Z</dcterms:created>
  <dc:creator>Natasa</dc:creator>
  <dc:description/>
  <dc:language>en-US</dc:language>
  <cp:lastModifiedBy>Natasa</cp:lastModifiedBy>
  <dcterms:modified xsi:type="dcterms:W3CDTF">2022-03-05T17:12:52Z</dcterms:modified>
  <cp:revision>6</cp:revision>
  <dc:subject/>
  <dc:title>Ценовник</dc:title>
</cp:coreProperties>
</file>