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687-3DF2-4248-8DAA-BD986866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FE8-74BD-4770-84BE-2CA7A880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78C-C293-4D05-AEE4-9F020956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1F1-3A53-4487-91F2-24E7001E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51E-1AC4-47B7-AF60-0C30D464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059-388A-4374-AAF7-023148D1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DF6-C7C2-412A-AB62-6E9A6E1A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6E7-316D-4E49-B876-EA700FD3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291-6ED4-4268-AB10-79001D66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730-35A1-4CEC-897F-97188F80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B0A-10FC-43D8-B582-E6C1B7D3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DB8-F09C-4A10-83C9-64B2C7C5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F4B3-BA49-4A40-B867-ABE9CE2ACBA8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ravougaonik 3"/>
          <p:cNvSpPr/>
          <p:nvPr/>
        </p:nvSpPr>
        <p:spPr>
          <a:xfrm>
            <a:off x="214200" y="214200"/>
            <a:ext cx="861228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Јунак дана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лга Станк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Šta ako niste podneli zahtev za novu zdravstvenu? - Alo.rs"/>
          <p:cNvPicPr/>
          <p:nvPr/>
        </p:nvPicPr>
        <p:blipFill>
          <a:blip r:embed="rId1"/>
          <a:stretch/>
        </p:blipFill>
        <p:spPr>
          <a:xfrm>
            <a:off x="928800" y="1643040"/>
            <a:ext cx="7059600" cy="4694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дравствена књиж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143240" y="1643040"/>
            <a:ext cx="4386240" cy="293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571680" y="928800"/>
            <a:ext cx="2628720" cy="2361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58080" y="3571920"/>
            <a:ext cx="26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акцина, -е ж.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5630400" y="5643720"/>
            <a:ext cx="28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мити вакц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57168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коментариши сваку од наведених реченица одговарајућим израз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03280" y="1714680"/>
            <a:ext cx="2588760" cy="5205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сило се чуд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09760" y="1690560"/>
            <a:ext cx="2491200" cy="5205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асти у несв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942880" y="1428840"/>
            <a:ext cx="2626920" cy="9471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 може да 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мери с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520200" y="2500200"/>
            <a:ext cx="61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ви смо добили петице из математи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596520" y="3071880"/>
            <a:ext cx="28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ако се уплаш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3200" y="3714840"/>
            <a:ext cx="23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држите ј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88240" y="442908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Шта кажеш? Не могу да веруј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594000" y="514368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раган је примио вакцину!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571680" y="28584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пуни реченице на основу фотографи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28760" y="928800"/>
            <a:ext cx="8358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илица је лепа девојчица. Очи су јој плаве ка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, а зуби бели ка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. Она редовно и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. Уопште се не плаши. Данас 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зела свој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______________. Треба 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___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20840" y="1542960"/>
            <a:ext cx="1158840" cy="889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211800" y="1494000"/>
            <a:ext cx="1603440" cy="80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5205240" y="2352600"/>
            <a:ext cx="1378080" cy="1128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2419200" y="4065480"/>
            <a:ext cx="1347840" cy="101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5"/>
          <a:stretch/>
        </p:blipFill>
        <p:spPr>
          <a:xfrm>
            <a:off x="1511280" y="5138640"/>
            <a:ext cx="120816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10T11:37:20Z</dcterms:created>
  <dc:creator>Natasa</dc:creator>
  <dc:description/>
  <dc:language>en-US</dc:language>
  <cp:lastModifiedBy>Natasa</cp:lastModifiedBy>
  <dcterms:modified xsi:type="dcterms:W3CDTF">2022-02-20T19:36:14Z</dcterms:modified>
  <cp:revision>11</cp:revision>
  <dc:subject/>
  <dc:title>„Јунак дана”</dc:title>
</cp:coreProperties>
</file>